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37960" y="695160"/>
            <a:ext cx="4583160" cy="343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88620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0" y="874080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2960" y="4371840"/>
            <a:ext cx="5030640" cy="4137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93600" y="6306120"/>
            <a:ext cx="308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fld id="{65B18DA0-F155-4F41-80CC-C6A5903D3F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8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4" name="Rectangle 6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Picture 12" descr="KAIST-1"/>
          <p:cNvPicPr/>
          <p:nvPr/>
        </p:nvPicPr>
        <p:blipFill>
          <a:blip r:embed="rId2"/>
          <a:stretch/>
        </p:blipFill>
        <p:spPr>
          <a:xfrm>
            <a:off x="7832880" y="6437160"/>
            <a:ext cx="1218960" cy="33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9"/>
          <p:cNvGrpSpPr/>
          <p:nvPr/>
        </p:nvGrpSpPr>
        <p:grpSpPr>
          <a:xfrm>
            <a:off x="50760" y="2712960"/>
            <a:ext cx="9075240" cy="152280"/>
            <a:chOff x="50760" y="2712960"/>
            <a:chExt cx="9075240" cy="152280"/>
          </a:xfrm>
        </p:grpSpPr>
        <p:sp>
          <p:nvSpPr>
            <p:cNvPr id="47" name="Rectangle 7"/>
            <p:cNvSpPr/>
            <p:nvPr/>
          </p:nvSpPr>
          <p:spPr>
            <a:xfrm>
              <a:off x="50760" y="271296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50760" y="282708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0"/>
          <p:cNvSpPr/>
          <p:nvPr/>
        </p:nvSpPr>
        <p:spPr>
          <a:xfrm>
            <a:off x="0" y="843120"/>
            <a:ext cx="91440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굴림"/>
              </a:rPr>
              <a:t>Coherent Ray Tracing 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굴림"/>
              </a:rPr>
              <a:t>Sampling and Reco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96800" y="3527280"/>
            <a:ext cx="8153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8b00"/>
                </a:solidFill>
                <a:latin typeface="Arial"/>
                <a:ea typeface="굴림"/>
              </a:rPr>
              <a:t>Bochang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AIST (Korea Advanced Institute of Science and Technolo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5"/>
          <p:cNvGrpSpPr/>
          <p:nvPr/>
        </p:nvGrpSpPr>
        <p:grpSpPr>
          <a:xfrm>
            <a:off x="68400" y="843120"/>
            <a:ext cx="9075240" cy="152280"/>
            <a:chOff x="68400" y="843120"/>
            <a:chExt cx="9075240" cy="152280"/>
          </a:xfrm>
        </p:grpSpPr>
        <p:sp>
          <p:nvSpPr>
            <p:cNvPr id="52" name="Rectangle 26"/>
            <p:cNvSpPr/>
            <p:nvPr/>
          </p:nvSpPr>
          <p:spPr>
            <a:xfrm>
              <a:off x="68400" y="84312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27"/>
            <p:cNvSpPr/>
            <p:nvPr/>
          </p:nvSpPr>
          <p:spPr>
            <a:xfrm>
              <a:off x="68400" y="95724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28" descr="KAIST-1"/>
          <p:cNvPicPr/>
          <p:nvPr/>
        </p:nvPicPr>
        <p:blipFill>
          <a:blip r:embed="rId1"/>
          <a:stretch/>
        </p:blipFill>
        <p:spPr>
          <a:xfrm>
            <a:off x="6915240" y="6113520"/>
            <a:ext cx="192708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Coherent Ray Trac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bservation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lose rays will hit same or similar triangl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lso have similar paths in AD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oal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nteractive ray tracing using ray coher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ampling and Reconstru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18680" y="1587600"/>
            <a:ext cx="8318520" cy="5067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419040" y="1587600"/>
            <a:ext cx="8280360" cy="1590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735120" y="3178080"/>
            <a:ext cx="743400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ampling and Reconstru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effective sampler       vs      Effective sampl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419040" y="2143080"/>
            <a:ext cx="828036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8T13:44:31Z</dcterms:created>
  <dc:creator>Computations</dc:creator>
  <dc:description/>
  <cp:keywords/>
  <dc:language>en-US</dc:language>
  <cp:lastModifiedBy>user</cp:lastModifiedBy>
  <cp:lastPrinted>1998-03-18T16:08:13Z</cp:lastPrinted>
  <dcterms:modified xsi:type="dcterms:W3CDTF">2008-10-13T13:09:16Z</dcterms:modified>
  <cp:revision>1801</cp:revision>
  <dc:subject/>
  <dc:title>Steven F. Ashby Center for Applied Scientific Computing  Month DD, 1997</dc:title>
</cp:coreProperties>
</file>