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0F046F-7BC1-49D3-A5BB-09F47C897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Massiv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Pio Cl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sive Mod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8680" y="1587600"/>
            <a:ext cx="63356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 algn="just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 </a:t>
            </a: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which consist of one million primitives or more and which often </a:t>
            </a:r>
            <a:r>
              <a:rPr b="1" lang="en-PH" sz="2800" spc="-1" strike="noStrike">
                <a:solidFill>
                  <a:srgbClr val="000000"/>
                </a:solidFill>
                <a:latin typeface="Tahoma"/>
              </a:rPr>
              <a:t>do not</a:t>
            </a:r>
            <a:r>
              <a:rPr b="0" lang="en-PH" sz="2800" spc="-1" strike="noStrike">
                <a:solidFill>
                  <a:srgbClr val="000000"/>
                </a:solidFill>
                <a:latin typeface="Tahoma"/>
              </a:rPr>
              <a:t> fit within online memo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2" descr="C:\Documents and Settings\user\Desktop\cs680 presentations\stmatthew_small.jpg"/>
          <p:cNvPicPr/>
          <p:nvPr/>
        </p:nvPicPr>
        <p:blipFill>
          <a:blip r:embed="rId1"/>
          <a:stretch/>
        </p:blipFill>
        <p:spPr>
          <a:xfrm>
            <a:off x="6978600" y="1587600"/>
            <a:ext cx="17352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 - Massive Mod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sign systems that 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/ high-fide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-Dependent Visualiz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 several levels-of-detai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fic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vs. fide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2" descr="C:\Documents and Settings\user\Desktop\cs680 presentations\cow-lod.jpg"/>
          <p:cNvPicPr/>
          <p:nvPr/>
        </p:nvPicPr>
        <p:blipFill>
          <a:blip r:embed="rId1"/>
          <a:stretch/>
        </p:blipFill>
        <p:spPr>
          <a:xfrm>
            <a:off x="419040" y="2689200"/>
            <a:ext cx="84646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s Hierarchies, Clus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out-of-core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2" descr="C:\Documents and Settings\user\Desktop\cs680 presentations\tetra-hierar.jpg"/>
          <p:cNvPicPr/>
          <p:nvPr/>
        </p:nvPicPr>
        <p:blipFill>
          <a:blip r:embed="rId1"/>
          <a:stretch/>
        </p:blipFill>
        <p:spPr>
          <a:xfrm>
            <a:off x="1087560" y="2639880"/>
            <a:ext cx="7611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ed Pap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Simplification Using Quadric Error Metrics, Michael Garland and Paul Heckbert,  SIGGRAPH 9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ick-VDR: Interactive View-Dependent Rendering of Massive Models, Sung-Eui Yoon, Brian Salomon, Russell Gayle and Dinesh Manocha, IEEE Visualization 0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Tahoma"/>
              </a:rPr>
              <a:t>Adaptive tetrapuzzles: efficient out-of-core construction and visualization of gigantic multiresolution polygonal models, Gobbetti et al., SIGGRAPH 0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Tahoma"/>
              </a:rPr>
              <a:t>Skinning Mesh Animations, Doug L. James and Christopher D. Twigg SIGGRAPH 2005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Tahoma"/>
              </a:rPr>
              <a:t>Ptex: Per-Face Texture Mapping for Production Rendering, Burley, B. and Lacewell, D. Eurographics Symposium on Rendering 200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user</cp:lastModifiedBy>
  <cp:lastPrinted>1998-03-18T16:08:13Z</cp:lastPrinted>
  <dcterms:modified xsi:type="dcterms:W3CDTF">2008-10-13T21:58:46Z</dcterms:modified>
  <cp:revision>1806</cp:revision>
  <dc:subject/>
  <dc:title>Steven F. Ashby Center for Applied Scientific Computing  Month DD, 1997</dc:title>
</cp:coreProperties>
</file>