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cs.virginia.edu/~rw2p/cs647/project.htm" TargetMode="External"/><Relationship Id="rId2" Type="http://schemas.openxmlformats.org/officeDocument/2006/relationships/hyperlink" Target="http://www.cs.virginia.edu/~rw2p/cs647/project.htm" TargetMode="External"/><Relationship Id="rId3" Type="http://schemas.openxmlformats.org/officeDocument/2006/relationships/slide" Target="../slides/slide1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ea typeface="굴림"/>
                <a:hlinkClick r:id="rId1"/>
              </a:rPr>
              <a:t>Galle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ea typeface="굴림"/>
                <a:hlinkClick r:id="rId2"/>
              </a:rPr>
              <a:t>http://www.cs.virginia.edu/~rw2p/cs647/projec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783DCD44-ED7B-4A2B-88A4-06DFAF50CF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굴림"/>
              </a:rPr>
              <a:t>2008 Fall CS680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Realistic Ren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(Translucent Materia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Min-hyuk 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그룹 4"/>
          <p:cNvGrpSpPr/>
          <p:nvPr/>
        </p:nvGrpSpPr>
        <p:grpSpPr>
          <a:xfrm>
            <a:off x="635040" y="2149560"/>
            <a:ext cx="7873920" cy="2857320"/>
            <a:chOff x="635040" y="2149560"/>
            <a:chExt cx="7873920" cy="2857320"/>
          </a:xfrm>
        </p:grpSpPr>
        <p:pic>
          <p:nvPicPr>
            <p:cNvPr id="56" name="Picture 3" descr="C:\Documents and Settings\Window\바탕 화면\face_brdf.jpg"/>
            <p:cNvPicPr/>
            <p:nvPr/>
          </p:nvPicPr>
          <p:blipFill>
            <a:blip r:embed="rId1"/>
            <a:stretch/>
          </p:blipFill>
          <p:spPr>
            <a:xfrm>
              <a:off x="635040" y="2149560"/>
              <a:ext cx="380952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C:\Documents and Settings\Window\바탕 화면\face_bssrdf.jpg"/>
            <p:cNvPicPr/>
            <p:nvPr/>
          </p:nvPicPr>
          <p:blipFill>
            <a:blip r:embed="rId2"/>
            <a:stretch/>
          </p:blipFill>
          <p:spPr>
            <a:xfrm>
              <a:off x="4699440" y="2149560"/>
              <a:ext cx="3809520" cy="28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Gallery (1/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3475800" y="603900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graphics.ucsd.edu/~henrik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그룹 9"/>
          <p:cNvGrpSpPr/>
          <p:nvPr/>
        </p:nvGrpSpPr>
        <p:grpSpPr>
          <a:xfrm>
            <a:off x="1837440" y="5164200"/>
            <a:ext cx="5563440" cy="398880"/>
            <a:chOff x="1837440" y="5164200"/>
            <a:chExt cx="5563440" cy="398880"/>
          </a:xfrm>
        </p:grpSpPr>
        <p:sp>
          <p:nvSpPr>
            <p:cNvPr id="61" name="TextBox 6"/>
            <p:cNvSpPr/>
            <p:nvPr/>
          </p:nvSpPr>
          <p:spPr>
            <a:xfrm>
              <a:off x="1837440" y="516420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a)  BR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7"/>
            <p:cNvSpPr/>
            <p:nvPr/>
          </p:nvSpPr>
          <p:spPr>
            <a:xfrm>
              <a:off x="5845680" y="516420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b)  BSSR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내용 개체 틀 4" descr="milk.jpg"/>
          <p:cNvPicPr/>
          <p:nvPr/>
        </p:nvPicPr>
        <p:blipFill>
          <a:blip r:embed="rId1"/>
          <a:srcRect l="0" t="0" r="0" b="3878"/>
          <a:stretch/>
        </p:blipFill>
        <p:spPr>
          <a:xfrm>
            <a:off x="1984320" y="1957320"/>
            <a:ext cx="5175360" cy="3730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Gallery (2/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475800" y="603900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graphics.ucsd.edu/~henrik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ubsurfac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내용 개체 틀 4" descr="subsurface.jpg"/>
          <p:cNvPicPr/>
          <p:nvPr/>
        </p:nvPicPr>
        <p:blipFill>
          <a:blip r:embed="rId1"/>
          <a:srcRect l="0" t="0" r="0" b="24943"/>
          <a:stretch/>
        </p:blipFill>
        <p:spPr>
          <a:xfrm>
            <a:off x="620640" y="2341440"/>
            <a:ext cx="7902720" cy="2719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740320" y="6039000"/>
            <a:ext cx="366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alumni.cs.ucsb.edu/~wombatty/cs280/project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그룹 7"/>
          <p:cNvGrpSpPr/>
          <p:nvPr/>
        </p:nvGrpSpPr>
        <p:grpSpPr>
          <a:xfrm>
            <a:off x="1630440" y="5006880"/>
            <a:ext cx="6031800" cy="398880"/>
            <a:chOff x="1630440" y="5006880"/>
            <a:chExt cx="6031800" cy="398880"/>
          </a:xfrm>
        </p:grpSpPr>
        <p:sp>
          <p:nvSpPr>
            <p:cNvPr id="70" name="TextBox 6"/>
            <p:cNvSpPr/>
            <p:nvPr/>
          </p:nvSpPr>
          <p:spPr>
            <a:xfrm>
              <a:off x="1630440" y="5006880"/>
              <a:ext cx="24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a)  Surface Scatte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7"/>
            <p:cNvSpPr/>
            <p:nvPr/>
          </p:nvSpPr>
          <p:spPr>
            <a:xfrm>
              <a:off x="4825080" y="5006880"/>
              <a:ext cx="283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(b)  Subsurface Scatte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imitation of Previous Wor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ffusion reflection has been modeled by Lambert’s cosine law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ll BRDF models do not model subsurface transport from one point to anoth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y fails to capture the true appearance of translucent material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kin, milk, plants, marble, paper and etc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SSRDF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474920" y="2073240"/>
            <a:ext cx="6207120" cy="36702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3004200" y="6039000"/>
            <a:ext cx="31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IGGRAPH 2005 - Course 10. Michael Goes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Further wor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ffusion Approximation: Stam, 1995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pole Approximation: Jensen, 2001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pole Approximation: Donner, 2005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fere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flection from Layered Surfaces due to Subsurface Scattering. Hanrahan, 1993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deling and Rendering of Weathered Stone. Dorsey, 1999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ple scattering as a diffusion process. Stam, 1995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 Practical Model for Subsurface Light Transport. Jensen, 2001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ght Diffusion in Multi-Layered Translucent Materials. Donner, 2005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KGY</cp:lastModifiedBy>
  <cp:lastPrinted>1998-03-18T16:08:13Z</cp:lastPrinted>
  <dcterms:modified xsi:type="dcterms:W3CDTF">2008-10-13T01:08:59Z</dcterms:modified>
  <cp:revision>1894</cp:revision>
  <dc:subject/>
  <dc:title>Steven F. Ashby Center for Applied Scientific Computing  Month DD, 1997</dc:title>
</cp:coreProperties>
</file>