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i, My name is Hong-Yun Kim and my major is an electron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y lab is Multimedia VLSI Lab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ur lab’s interest is a designing and implementing a 3D Graphics processor for mobile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o, my concern about global illumination is quite different from you, I mean CS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ow to implement RT hardware with limited resources is my major interest in nowa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o, the topic I am going to tell you is Hardware for Global illu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e contents of this presentation is organized as these f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asic ray tracing flow (HW designer’s 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ree implementations of Ray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oftware on C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oftware on G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edicated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ardware issues on GPUs for Ray 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ardware issues on dedicated hardware for ray 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et’s start with basic ray tracing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asic ray tracing flow consists of 4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Ray generation, Ray Traversal, Intersection test, and sh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Ray generation stage, position and direction of ray is generat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nd each data type is a vector having 3 FP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is determines a width of data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Ray Traversal stage, ray traverses through th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o improve a performance of traversing, data structures such as kd-tree, BVH ar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o, hardware should handle these kind of data structures efficiently not to lose the benefits of data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fter then, Intersection test is performed between ray and primi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o perform the intersection, floating point calculation is required such as dot product, squares, div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fter all the color of additional rays at intersection point is determin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Each color is combined to realistic image by the shading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Phong’s shading model is the most popular model, as you already know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each term of phong’s shading model, dot product is also used to calculate the intensity of each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addition, programmable shading is also required for ray trac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ecause programmable shading is already used in a rasterization hard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From this basic algorithm, lot’s of research has been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this slide, area of floating point unit is presented, that is used in pixel shader implemented by ou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Generally used FP unit such as comparator, adder, multiplier, DP 4 unit are synthesized in 0.13um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Each value is very large compared to the fixed point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For example, fixed point DP3 including 3 multiplier and 2 adder has about 2000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ut, in the case of FP,  2 input adder has about 3600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Gate count of FP unit  has large portion of pixel shader as shown in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o, reducing these FP unit in HW is important and required ability for HW desig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Ray Tracing Implementation is classified into 3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ccording to the running level, which means that RT is running on Software or Hardwa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nd running platform on CPUs or G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First approach is a implementation with software on CP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o achieve interactive frame rate, it requires many processor from 16 to 3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Recent trends is to implement RT through shader program on GP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y exploiting a FP computing power and high programmabilitiy of latest G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Mapping RT on Programmable Graphics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Photon mapping, other GPU algorithm, and kd tree traversing on G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 lack of GPU’s capability can be overcome by dedicated hardwa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o, it has been attempt to implement a dedicated H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Ray Processing Unit for Realtim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Now, let’s look into Hardware issues  on G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Recent GPUs have two features; highly programmability and FP com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o, it has enough capability to implement a realtime 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o map RT algorithm to Graphics HW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GPU is used as a streaming processo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RT algorithm is divided into several kernel functions to execute in parallel by using shader progra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Data structure for traversing is stored in texture mem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ut, it also has limitation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Preprocessing to build the grid is required.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uilding data structure for dynamic scene is inefficient and requires more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Next presentation, how to map RT to GPU will be explained more deta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uch as how to divide the RT algorithm and how to use texture memory for storing data structures and its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this slide, Hardware issues on dedicated HW is pres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lthough its programmability is increased, it still has insufficient to handle loop or recursion of RT alr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o, Fully programmable dedicated HW was prop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y exploiting both  CPU’s flexibility of programming and GPU’s data paralle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re are lot’s of design decisions for design; for example, how to handle thread, control flow &amp; recursion, memory access, scalable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nd to improve the performance of RT HW instruction set and register is prop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Even in dedicated HW, handling data structures for highly dynamic scene is difficult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nd it is also inefficient to compute anti-ali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next presentation, how to combine two advantages of CPU and GPU, how to decide the architect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nd proposed Instruction set &amp; register will b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3B300E5C-941B-4AE1-B14B-DA398A155A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Hardware for 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Hong-Yun Kim (E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53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sic Ray Tracing Flow (HW designer’s view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ing Implement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ftware on CP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Software on GP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edicated Hardwa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Issues on GPUs for Ray Tra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Issues on Dedicated HW for Ray Tra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asic Ray Tracing 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Gen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sition(x,y,z), direction(dx,dy,dz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32bit floating point dat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datapath width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versal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Kd-tree, BVH, etc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andling a data structure in HW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flexi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section Te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fferent computations for various primitiv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1 dot product + 3 squar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 dot products + 1 division for a pla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asic Ray Tracing Flow 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d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ixed fun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ffuse + specular + ∑reflection + ∑refra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·N, V·N, ∑ (L·N, V·N), ∑ (L·N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grammable shad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P units in Pixel Shader (0.13um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077840" y="1527120"/>
            <a:ext cx="6745320" cy="484200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8"/>
          <p:cNvSpPr/>
          <p:nvPr/>
        </p:nvSpPr>
        <p:spPr>
          <a:xfrm>
            <a:off x="6696000" y="6143760"/>
            <a:ext cx="676440" cy="234720"/>
          </a:xfrm>
          <a:prstGeom prst="rect">
            <a:avLst/>
          </a:prstGeom>
          <a:noFill/>
          <a:ln w="38160">
            <a:solidFill>
              <a:srgbClr val="0066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12"/>
          <p:cNvSpPr/>
          <p:nvPr/>
        </p:nvSpPr>
        <p:spPr>
          <a:xfrm>
            <a:off x="6724800" y="2619360"/>
            <a:ext cx="523800" cy="1047600"/>
          </a:xfrm>
          <a:prstGeom prst="rect">
            <a:avLst/>
          </a:prstGeom>
          <a:noFill/>
          <a:ln w="38160">
            <a:solidFill>
              <a:srgbClr val="0066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13"/>
          <p:cNvSpPr/>
          <p:nvPr/>
        </p:nvSpPr>
        <p:spPr>
          <a:xfrm>
            <a:off x="6724800" y="4219560"/>
            <a:ext cx="599760" cy="1914480"/>
          </a:xfrm>
          <a:prstGeom prst="rect">
            <a:avLst/>
          </a:prstGeom>
          <a:noFill/>
          <a:ln w="38160">
            <a:solidFill>
              <a:srgbClr val="0066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(RT) Implemen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ftware on CP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32 processor SGI machine (parker’99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ux clusters-16 processors (Wald’02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ftware on GP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T on Programmable Graphics HW(Purcell’02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Photon Mapping on Graphics HW(Purcell’03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GPU Algorithm for Radiosity and Subsurface Scattering (Carr’03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Interactive k-D Tree on GPU RT(Horn’07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dicated Hardw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ay Processing Unit for RRT(Woop’05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ardware Issues on GPUs for Ray Trac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cent trends of GP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ighly programm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igh capability of floating point comput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pping Ray Tracing to Graphics H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PU as a streaming process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ivide RT algorith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o several kerne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(using vertex/fragment program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Texture memory used to store data structur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mi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eprocessing step to build the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ilding acceleration data structure for “dynamic scene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ardware Issues on Dedicated HW for Ray Trac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ack of capability of flow control in GP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ully programmable dedicated H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lexibility(CPU) + data parallelism(GPU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sign decisions for designing a dedicated H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read, control flow &amp; recursion, dedicated traversal unit, memory access, scalable desig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posed instruction set &amp; regis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mi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eating &amp; maintaining spatial index structures for highly dynamic sce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efficient computing anti-aliasing(AA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Hong-Yun Kim</cp:lastModifiedBy>
  <cp:lastPrinted>1998-03-18T16:08:13Z</cp:lastPrinted>
  <dcterms:modified xsi:type="dcterms:W3CDTF">2008-10-14T04:43:04Z</dcterms:modified>
  <cp:revision>1851</cp:revision>
  <dc:subject/>
  <dc:title>Steven F. Ashby Center for Applied Scientific Computing  Month DD, 1997</dc:title>
</cp:coreProperties>
</file>