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41040" y="746280"/>
            <a:ext cx="491796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52720" y="0"/>
            <a:ext cx="2946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52720" y="9383760"/>
            <a:ext cx="29466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93837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2240"/>
            <a:ext cx="4987800" cy="444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ello. My name is Geoyeob Kim and the topic is pre-computed radiance trans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RT techniques pre-compute linear transfer operators to accelerate run-time render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 this talk, I’ll briefly mention the main idea of each paper which I browsed through 1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first paper introduces an efficient way to calculate irradi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Many equations related to illumination contain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double integrals, which are costly to do in real-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We can approximate these equations using spherical harmon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pherical harmonics are analogous to Fourier se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You can represent a spherical integral to summation of spherical harmonic basis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paper shows that we need only the first 9 terms are needed to get reasonable approx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second paper extends the idea of the firs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y transforming L(s) to spherical harmonic representation, we can decouple light factor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f BRDF is diffuse or viewpoint is fixed, this red box can be pre-calculated to sca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t means that in diffuse case, we can change our viewpoint or lighting environment freely during run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pherical harmonics are very useful when there are only low frequency 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n the third and fourth paper, they propose to use wavelet as basis instead of spherical harmon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s you can see here, in the same lighting environment, spherical harmonics approximation cannot capture high frequency components where wavelet approximati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ut pre-computed data set is big when wavelet approximation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Ordinary PRT method is appropriate for static meshe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fifth paper introduces deformable PR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Basically, it uses zonal harmonics rather than spherical harmonics to get advantage of fast rotation trans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 last paper which I browsed is proposing hierarchy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Since all papers which I introduced before this are using non-hierarchical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ey are not adequate to apply at complex me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 did not finished reading this paper yet, so I’ll explain the details on later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hank you for lis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82C05FEF-519E-4820-986A-4F2FD374FA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Pre-computed Radiance 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Geoyeob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(1) Efficient Irradianc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lassically, hemispherical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integr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or each pix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pproximation of irradiance using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spherical harmonic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ster and acceptable in low frequency lighting environ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1028" descr="G:\projects\lightfields\notes\envmap\Figs\grace.gif"/>
          <p:cNvPicPr/>
          <p:nvPr/>
        </p:nvPicPr>
        <p:blipFill>
          <a:blip r:embed="rId1"/>
          <a:stretch/>
        </p:blipFill>
        <p:spPr>
          <a:xfrm>
            <a:off x="1955880" y="2496960"/>
            <a:ext cx="1989000" cy="19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9" descr="G:\projects\lightfields\notes\envmap\Figs\grace_filter.tif"/>
          <p:cNvPicPr/>
          <p:nvPr/>
        </p:nvPicPr>
        <p:blipFill>
          <a:blip r:embed="rId2"/>
          <a:stretch/>
        </p:blipFill>
        <p:spPr>
          <a:xfrm>
            <a:off x="5000760" y="246384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30"/>
          <p:cNvSpPr/>
          <p:nvPr/>
        </p:nvSpPr>
        <p:spPr>
          <a:xfrm>
            <a:off x="513360" y="300996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1"/>
          <p:cNvSpPr/>
          <p:nvPr/>
        </p:nvSpPr>
        <p:spPr>
          <a:xfrm>
            <a:off x="6902280" y="321624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ad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32"/>
          <p:cNvSpPr/>
          <p:nvPr/>
        </p:nvSpPr>
        <p:spPr>
          <a:xfrm>
            <a:off x="3956040" y="3457440"/>
            <a:ext cx="102888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(1) Efficient Irradianc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rradiance using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integra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rradiance using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spherical harmonic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200" indent="-2772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9960" indent="-3258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ly with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9 term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l &lt;= 2), average and maximum pixel errors are 1% and 5%, respective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2719440" y="4443480"/>
          <a:ext cx="368136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4443480"/>
                    <a:ext cx="36813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6"/>
          <p:cNvGraphicFramePr/>
          <p:nvPr/>
        </p:nvGraphicFramePr>
        <p:xfrm>
          <a:off x="0" y="2278080"/>
          <a:ext cx="914400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8080"/>
                    <a:ext cx="91440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(2) Reflected Radianc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sume distant l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couple light factor from the equation and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pre-compu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ther fac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" name="Object 23"/>
          <p:cNvGraphicFramePr/>
          <p:nvPr/>
        </p:nvGraphicFramePr>
        <p:xfrm>
          <a:off x="1525680" y="2075040"/>
          <a:ext cx="59576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75040"/>
                    <a:ext cx="5957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24"/>
          <p:cNvGraphicFramePr/>
          <p:nvPr/>
        </p:nvGraphicFramePr>
        <p:xfrm>
          <a:off x="963720" y="5238720"/>
          <a:ext cx="682776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5238720"/>
                    <a:ext cx="68277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6"/>
          <p:cNvGraphicFramePr/>
          <p:nvPr/>
        </p:nvGraphicFramePr>
        <p:xfrm>
          <a:off x="963720" y="4167360"/>
          <a:ext cx="682776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3720" y="4167360"/>
                    <a:ext cx="6827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직사각형 29"/>
          <p:cNvSpPr/>
          <p:nvPr/>
        </p:nvSpPr>
        <p:spPr>
          <a:xfrm>
            <a:off x="2925720" y="5238720"/>
            <a:ext cx="4865760" cy="754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3)(4) Using Wavelet as Ba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actically, spherical harmonics can capture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low frequenc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compon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All-frequenc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components can be approximated by using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wavel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s ba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ever, pre-computed data set is enormo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2" descr="grace_cross"/>
          <p:cNvPicPr/>
          <p:nvPr/>
        </p:nvPicPr>
        <p:blipFill>
          <a:blip r:embed="rId1"/>
          <a:stretch/>
        </p:blipFill>
        <p:spPr>
          <a:xfrm>
            <a:off x="4105440" y="4154400"/>
            <a:ext cx="2703240" cy="270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race_cross"/>
          <p:cNvPicPr/>
          <p:nvPr/>
        </p:nvPicPr>
        <p:blipFill>
          <a:blip r:embed="rId2"/>
          <a:stretch/>
        </p:blipFill>
        <p:spPr>
          <a:xfrm>
            <a:off x="1052640" y="4154400"/>
            <a:ext cx="2703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5) Deformable P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ing sum of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zonal harmonic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o approximate radiance transf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Rota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f zonal harmonics is computationally very chea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ply rotation transform with pre-computed radiance transfer according to mesh d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n be achieved in real-ti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6) Introducing Hierarchy Concept In P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ing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hierarchical function ba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induced by scattered data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apts to the complexity of the illumin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굴림"/>
              </a:rPr>
              <a:t>Scala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n be queried at different sca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ot finished reading yet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Any 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KGY</cp:lastModifiedBy>
  <cp:lastPrinted>1998-03-18T16:08:13Z</cp:lastPrinted>
  <dcterms:modified xsi:type="dcterms:W3CDTF">2008-10-12T15:12:41Z</dcterms:modified>
  <cp:revision>1849</cp:revision>
  <dc:subject/>
  <dc:title>Steven F. Ashby Center for Applied Scientific Computing  Month DD, 1997</dc:title>
</cp:coreProperties>
</file>