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37960" y="695160"/>
            <a:ext cx="4583160" cy="343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88620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874080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2960" y="4371840"/>
            <a:ext cx="5030640" cy="4137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D608F5-71FA-4CA4-9FFF-99E5101FF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47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LOD (Level-Of-Detail) in 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96800" y="3527280"/>
            <a:ext cx="8153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  <a:ea typeface="굴림"/>
              </a:rPr>
              <a:t>Junghwan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AI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009. 10.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52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idely used to accelerate rasterization of large polygonal datase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ulti-resolu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age(texture)-based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P-m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" name="그룹 9"/>
          <p:cNvGrpSpPr/>
          <p:nvPr/>
        </p:nvGrpSpPr>
        <p:grpSpPr>
          <a:xfrm>
            <a:off x="1265400" y="3414600"/>
            <a:ext cx="7172280" cy="1143000"/>
            <a:chOff x="1265400" y="3414600"/>
            <a:chExt cx="7172280" cy="1143000"/>
          </a:xfrm>
        </p:grpSpPr>
        <p:pic>
          <p:nvPicPr>
            <p:cNvPr id="58" name="Picture 23" descr="A finely tassellated wireframe sphere featuring over 5000 sample points."/>
            <p:cNvPicPr/>
            <p:nvPr/>
          </p:nvPicPr>
          <p:blipFill>
            <a:blip r:embed="rId1"/>
            <a:stretch/>
          </p:blipFill>
          <p:spPr>
            <a:xfrm>
              <a:off x="1265400" y="34146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4" descr="A highly tassellated wireframe sphere, almost 2900 points."/>
            <p:cNvPicPr/>
            <p:nvPr/>
          </p:nvPicPr>
          <p:blipFill>
            <a:blip r:embed="rId2"/>
            <a:stretch/>
          </p:blipFill>
          <p:spPr>
            <a:xfrm>
              <a:off x="2705400" y="34146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5" descr="A wireframe sphere with roughtly 1600 sample points."/>
            <p:cNvPicPr/>
            <p:nvPr/>
          </p:nvPicPr>
          <p:blipFill>
            <a:blip r:embed="rId3"/>
            <a:stretch/>
          </p:blipFill>
          <p:spPr>
            <a:xfrm>
              <a:off x="4268520" y="34146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6" descr="A wireframe sphere with almost 700 vertices, good when viewed from a distance."/>
            <p:cNvPicPr/>
            <p:nvPr/>
          </p:nvPicPr>
          <p:blipFill>
            <a:blip r:embed="rId4"/>
            <a:stretch/>
          </p:blipFill>
          <p:spPr>
            <a:xfrm>
              <a:off x="5798160" y="34146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27" descr="A wireframe sphere with less than 150 sample points but still enough for far away objects."/>
            <p:cNvPicPr/>
            <p:nvPr/>
          </p:nvPicPr>
          <p:blipFill>
            <a:blip r:embed="rId5"/>
            <a:stretch/>
          </p:blipFill>
          <p:spPr>
            <a:xfrm>
              <a:off x="7294680" y="341460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D for Ray Trac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tuation is little bit different from the one in rasteriz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a ray tracer, the primitives are accessed according to a pixel’s ray tre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y coherency is also relat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me special treatment is neede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apers I’ll cov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cing Ray Differential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Igehy SIG99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apers I’ll cover (cont’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y differentials &amp; multi-resolution geometry caching for RT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Christensen et al. EG03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T for the Movie ‘Cars’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Christensen et al. RT06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pproximate GI system for Film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Tabellion et al. SIG04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apers I’ll cover (cont’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-LOD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Yoon et al. PG06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ochastic Simplification of Aggregate Detail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Cook et al. SIG07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cp:keywords/>
  <dc:language>en-US</dc:language>
  <cp:lastModifiedBy>이정환</cp:lastModifiedBy>
  <cp:lastPrinted>1998-03-18T16:08:13Z</cp:lastPrinted>
  <dcterms:modified xsi:type="dcterms:W3CDTF">2008-10-13T15:42:01Z</dcterms:modified>
  <cp:revision>1823</cp:revision>
  <dc:subject/>
  <dc:title>Steven F. Ashby Center for Applied Scientific Computing  Month DD, 1997</dc:title>
</cp:coreProperties>
</file>