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9.jpeg" ContentType="image/jpeg"/>
  <Override PartName="/ppt/media/image35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40.jpeg" ContentType="image/jpeg"/>
  <Override PartName="/ppt/media/image39.png" ContentType="image/png"/>
  <Override PartName="/ppt/media/image12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41040" y="746280"/>
            <a:ext cx="491652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851280" y="0"/>
            <a:ext cx="2946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851280" y="93819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938196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5040" y="4692600"/>
            <a:ext cx="4986000" cy="4440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93D-97AF-44A2-9BB7-A0DD682EE8B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50D3-5D27-46FD-9DCF-368D42FD3F3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4FA-BFB1-46EA-A952-43EBC062D72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4B86-8D03-4054-AE66-3687C8FA471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A35-B00D-4E48-B72D-2F24B386A6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772160"/>
            <a:ext cx="498456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CC50-64DB-471A-979E-7C23CD29DAD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nsufficient res is available for a neighboring face, just apply to nearest tex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because we don’t normally paint low-res textures – no extreme magn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E4BE0B-9796-4FFE-BF65-CDC8F97B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LOD (rasteriz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Pio Cl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trahedras at both sides of the diagonal are always split at the same ti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ertices outside the diamond are lock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Dependenc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3" descr="C:\Documents and Settings\user\Desktop\cs680 presentations\mid\tetra imiji\boundaries.jpg"/>
          <p:cNvPicPr/>
          <p:nvPr/>
        </p:nvPicPr>
        <p:blipFill>
          <a:blip r:embed="rId1"/>
          <a:stretch/>
        </p:blipFill>
        <p:spPr>
          <a:xfrm>
            <a:off x="1015920" y="3295800"/>
            <a:ext cx="70484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ndering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ine conformal hierarch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if visible or back-fac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nder selected precomputed cel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tive Prefetch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2" descr="C:\Documents and Settings\user\Desktop\cs680 presentations\mid\tetra-refinecull.jpg"/>
          <p:cNvPicPr/>
          <p:nvPr/>
        </p:nvPicPr>
        <p:blipFill>
          <a:blip r:embed="rId1"/>
          <a:srcRect l="0" t="0" r="0" b="33571"/>
          <a:stretch/>
        </p:blipFill>
        <p:spPr>
          <a:xfrm>
            <a:off x="1841400" y="2535120"/>
            <a:ext cx="49104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aptive TetraPuzz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1587600"/>
            <a:ext cx="8602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ulti-resolution represen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-Dependent Rend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ility Cull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ahoma"/>
              </a:rPr>
              <a:t>Occlusion culling not integra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ccess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-of-core rend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che Efficienc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Process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000" spc="-1" strike="noStrike">
                <a:solidFill>
                  <a:srgbClr val="000000"/>
                </a:solidFill>
                <a:latin typeface="Arial"/>
              </a:rPr>
              <a:t>Skinning Mesh Anim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Doug James, Christopher Twig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ahoma"/>
              </a:rPr>
              <a:t>SIGGRAPH 200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8680" y="1587600"/>
            <a:ext cx="83185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Simpl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n deformable mesh animations without specifying skeletons or bon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C:\Documents and Settings\user\Desktop\cs680 presentations\680 final\skele1.jpg"/>
          <p:cNvPicPr/>
          <p:nvPr/>
        </p:nvPicPr>
        <p:blipFill>
          <a:blip r:embed="rId1"/>
          <a:stretch/>
        </p:blipFill>
        <p:spPr>
          <a:xfrm>
            <a:off x="2712960" y="3078000"/>
            <a:ext cx="1903320" cy="320364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4"/>
          <p:cNvSpPr/>
          <p:nvPr/>
        </p:nvSpPr>
        <p:spPr>
          <a:xfrm>
            <a:off x="533520" y="2997360"/>
            <a:ext cx="408276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raditional 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Documents and Settings\user\Desktop\cs680 presentations\680 final\skele2.jpg"/>
          <p:cNvPicPr/>
          <p:nvPr/>
        </p:nvPicPr>
        <p:blipFill>
          <a:blip r:embed="rId2"/>
          <a:stretch/>
        </p:blipFill>
        <p:spPr>
          <a:xfrm>
            <a:off x="7010280" y="3078000"/>
            <a:ext cx="2041560" cy="3435480"/>
          </a:xfrm>
          <a:prstGeom prst="rect">
            <a:avLst/>
          </a:prstGeom>
          <a:ln w="0">
            <a:noFill/>
          </a:ln>
        </p:spPr>
      </p:pic>
      <p:sp>
        <p:nvSpPr>
          <p:cNvPr id="145" name="Content Placeholder 5"/>
          <p:cNvSpPr/>
          <p:nvPr/>
        </p:nvSpPr>
        <p:spPr>
          <a:xfrm>
            <a:off x="4484520" y="3038400"/>
            <a:ext cx="40831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is paper’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18680" y="1587600"/>
            <a:ext cx="8318520" cy="25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ar Blend Skinning: Find an approximate Transformation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looking f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981080" y="2760840"/>
                <a:ext cx="16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≈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b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3746520" y="4670280"/>
                <a:ext cx="14382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TextBox 8"/>
          <p:cNvSpPr/>
          <p:nvPr/>
        </p:nvSpPr>
        <p:spPr>
          <a:xfrm>
            <a:off x="4802040" y="2554200"/>
            <a:ext cx="3935520" cy="1557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P = (p</a:t>
            </a:r>
            <a:r>
              <a:rPr b="0" lang="en-PH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PH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PH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) : 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t = 1,…,S :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PH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 : all vertices at step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st 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859280" y="3651120"/>
                <a:ext cx="351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near-rigid struct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 bone transfor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 vertex weigh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essive skin correc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near-rigid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 proxy bone transformations (set of all B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triangles based on their rotations on each time inst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ociate triangles to resulting clusters(bon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:\Documents and Settings\user\Desktop\cs680 presentations\680 final\bone-estimate.jpg"/>
          <p:cNvPicPr/>
          <p:nvPr/>
        </p:nvPicPr>
        <p:blipFill>
          <a:blip r:embed="rId1"/>
          <a:stretch/>
        </p:blipFill>
        <p:spPr>
          <a:xfrm>
            <a:off x="1860480" y="3718080"/>
            <a:ext cx="5972400" cy="195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7094520" y="515880"/>
                <a:ext cx="1643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8" name="Oval 6"/>
          <p:cNvSpPr/>
          <p:nvPr/>
        </p:nvSpPr>
        <p:spPr>
          <a:xfrm>
            <a:off x="7821720" y="923760"/>
            <a:ext cx="183960" cy="2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1"/>
          <p:cNvSpPr/>
          <p:nvPr/>
        </p:nvSpPr>
        <p:spPr>
          <a:xfrm>
            <a:off x="7670880" y="1176480"/>
            <a:ext cx="507960" cy="915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bone trans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id bo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ation and trans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ahoma"/>
              </a:rPr>
              <a:t>Take average rotation of core 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ahoma"/>
              </a:rPr>
              <a:t>Find translational part by fitting to the co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centro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ng bo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ahoma"/>
              </a:rPr>
              <a:t>Bones can stretch and shear (not ben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id bones: rotation/translation pair (R,v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ahoma"/>
              </a:rPr>
              <a:t>Flexing bones: (F,v) with F = RW (Rotation and Stretch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ahoma"/>
              </a:rPr>
              <a:t>LS fit to match motion of core triang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7056360" y="515880"/>
                <a:ext cx="1643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Oval 7"/>
          <p:cNvSpPr/>
          <p:nvPr/>
        </p:nvSpPr>
        <p:spPr>
          <a:xfrm>
            <a:off x="8259840" y="515880"/>
            <a:ext cx="439560" cy="459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vertex weigh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B bone transforms which individually lead to the best possible resu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chosen bone transformations are applied, the result will have the least distance from the actual vertex posi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094520" y="515880"/>
                <a:ext cx="1643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Oval 7"/>
          <p:cNvSpPr/>
          <p:nvPr/>
        </p:nvSpPr>
        <p:spPr>
          <a:xfrm>
            <a:off x="7832880" y="923760"/>
            <a:ext cx="264960" cy="241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ap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ahoma"/>
              </a:rPr>
              <a:t>Surface Simplification Using Quadric Error Metrics, Michael Garland and Paul Heckbert,  SIGGRAPH 9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ahoma"/>
              </a:rPr>
              <a:t>Quick-VDR: Interactive View-Dependent Rendering of Massive Models, Sung-Eui Yoon, Brian Salomon, Russell Gayle and Dinesh Manocha, IEEE Visualization 0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ahoma"/>
              </a:rPr>
              <a:t>Adaptive Tetrapuzzles: Efficient Out-of-Core Construction and Visualization of Gigantic Multiresolution Polygonal Models, Gobbetti et al., SIGGRAPH 200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ahoma"/>
              </a:rPr>
              <a:t>Skinning Mesh Animations, Doug L. James and Christopher D. Twigg SIGGRAPH 200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ahoma"/>
              </a:rPr>
              <a:t>Ptex: Per-Face Texture Mapping for Production Rendering, Burley, B. and Lacewell, D. Eurographics Symposium on Rendering 2008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vertex weigh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vertex weight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 transformed vertices to mesh sequ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690560" y="2832120"/>
                <a:ext cx="482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6703920" y="515880"/>
                <a:ext cx="1643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2" name="Oval 5"/>
          <p:cNvSpPr/>
          <p:nvPr/>
        </p:nvSpPr>
        <p:spPr>
          <a:xfrm>
            <a:off x="7607160" y="515880"/>
            <a:ext cx="439920" cy="459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195640" y="2867040"/>
            <a:ext cx="639720" cy="4651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713040" y="2867040"/>
            <a:ext cx="319320" cy="4651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2022480" y="3970440"/>
            <a:ext cx="1258920" cy="4597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ve skin cor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18680" y="1587600"/>
            <a:ext cx="831852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Compute displacement err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Add result to rest po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user\Desktop\cs680 presentations\680 final\skin-correcttion.jpg"/>
          <p:cNvPicPr/>
          <p:nvPr/>
        </p:nvPicPr>
        <p:blipFill>
          <a:blip r:embed="rId1"/>
          <a:stretch/>
        </p:blipFill>
        <p:spPr>
          <a:xfrm>
            <a:off x="1816200" y="3298680"/>
            <a:ext cx="542916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1663560" y="1998720"/>
                <a:ext cx="2687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U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efits of skinned mesh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imation compres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accele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eformable mode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Computation of skin: Order of Minu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66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000" spc="-1" strike="noStrike">
                <a:solidFill>
                  <a:srgbClr val="000000"/>
                </a:solidFill>
                <a:latin typeface="Arial"/>
              </a:rPr>
              <a:t>Ptex: Per-Face Texture Mapping for Production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Burley, B., Lacewell, 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ahoma"/>
              </a:rPr>
              <a:t>Eurographics Symposium on Rendering 2008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 system that is/h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m-qua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-face Texture Mapping on Catmull-Clark Subdivision Surface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trexu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8680" y="10584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-fa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extu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8680" y="1587600"/>
            <a:ext cx="8318520" cy="5067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28" descr="results2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1446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29"/>
          <p:cNvSpPr/>
          <p:nvPr/>
        </p:nvSpPr>
        <p:spPr>
          <a:xfrm>
            <a:off x="343080" y="5759280"/>
            <a:ext cx="19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sotr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30"/>
          <p:cNvSpPr/>
          <p:nvPr/>
        </p:nvSpPr>
        <p:spPr>
          <a:xfrm>
            <a:off x="3505320" y="5759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ing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31"/>
          <p:cNvSpPr/>
          <p:nvPr/>
        </p:nvSpPr>
        <p:spPr>
          <a:xfrm>
            <a:off x="6859800" y="57592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18680" y="1523880"/>
            <a:ext cx="8318520" cy="495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440" indent="-262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provide production quality filtering: No anisotropic fil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2" descr="polycubes"/>
          <p:cNvPicPr/>
          <p:nvPr/>
        </p:nvPicPr>
        <p:blipFill>
          <a:blip r:embed="rId1"/>
          <a:stretch/>
        </p:blipFill>
        <p:spPr>
          <a:xfrm>
            <a:off x="419040" y="1828800"/>
            <a:ext cx="4915080" cy="2617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697320" y="444672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ycube-maps,  Tarini et al., Siggraph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vious Per-face Metho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lee00"/>
          <p:cNvPicPr/>
          <p:nvPr/>
        </p:nvPicPr>
        <p:blipFill>
          <a:blip r:embed="rId2"/>
          <a:stretch/>
        </p:blipFill>
        <p:spPr>
          <a:xfrm>
            <a:off x="5665680" y="1649520"/>
            <a:ext cx="2757600" cy="3936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428920" y="4957920"/>
            <a:ext cx="32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ced Subdivision Sur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e et al., Siggraph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autosize"/>
          <p:cNvPicPr/>
          <p:nvPr/>
        </p:nvPicPr>
        <p:blipFill>
          <a:blip r:embed="rId1"/>
          <a:stretch/>
        </p:blipFill>
        <p:spPr>
          <a:xfrm>
            <a:off x="63360" y="1676520"/>
            <a:ext cx="2374920" cy="3065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autosizeb"/>
          <p:cNvPicPr/>
          <p:nvPr/>
        </p:nvPicPr>
        <p:blipFill>
          <a:blip r:embed="rId2"/>
          <a:stretch/>
        </p:blipFill>
        <p:spPr>
          <a:xfrm>
            <a:off x="2635200" y="1676520"/>
            <a:ext cx="3156120" cy="3065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autosizec"/>
          <p:cNvPicPr/>
          <p:nvPr/>
        </p:nvPicPr>
        <p:blipFill>
          <a:blip r:embed="rId3"/>
          <a:stretch/>
        </p:blipFill>
        <p:spPr>
          <a:xfrm>
            <a:off x="5943600" y="1676520"/>
            <a:ext cx="3156120" cy="30654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201960" y="49561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,536 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tex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843280" y="4956120"/>
            <a:ext cx="273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4 texels per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 million te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01720" y="4956120"/>
            <a:ext cx="24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 million te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ure siz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prman"/>
          <p:cNvPicPr/>
          <p:nvPr/>
        </p:nvPicPr>
        <p:blipFill>
          <a:blip r:embed="rId1"/>
          <a:stretch/>
        </p:blipFill>
        <p:spPr>
          <a:xfrm>
            <a:off x="304920" y="1058760"/>
            <a:ext cx="8534160" cy="38228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tering in PRMa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18680" y="4777920"/>
            <a:ext cx="8318520" cy="18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ding grid spacing determines filter reg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size is du by dv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rectangle always aligned with per-face textur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94436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daptive Tetrapuzzles: Efficient Out-of-Core Construction and Visualization of Gigantic Multiresolution Polygonal Mode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olo Cignoni, Fabio Ganovelli, Enrico Gobbetti, Fabio Marton, Federico Ponchio and Roberto Scopign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GGRAPH 200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edgecase1"/>
          <p:cNvPicPr/>
          <p:nvPr/>
        </p:nvPicPr>
        <p:blipFill>
          <a:blip r:embed="rId1"/>
          <a:stretch/>
        </p:blipFill>
        <p:spPr>
          <a:xfrm>
            <a:off x="231840" y="1440000"/>
            <a:ext cx="4903560" cy="49431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5091120" y="2316240"/>
            <a:ext cx="395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ptimal textur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verlapped faces have enough resolution, apply i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eamles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edgecase3"/>
          <p:cNvPicPr/>
          <p:nvPr/>
        </p:nvPicPr>
        <p:blipFill>
          <a:blip r:embed="rId1"/>
          <a:stretch/>
        </p:blipFill>
        <p:spPr>
          <a:xfrm>
            <a:off x="249120" y="1452600"/>
            <a:ext cx="4913280" cy="4952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lution Mismat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5029200" y="2492280"/>
            <a:ext cx="387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djacent face has insufficient resolution, just apply to nearest te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sts love 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 than ever befo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liasing probl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licable to non-quad meshes (yet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l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8680" y="1587600"/>
            <a:ext cx="8318520" cy="506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bolt"/>
          <p:cNvPicPr/>
          <p:nvPr/>
        </p:nvPicPr>
        <p:blipFill>
          <a:blip r:embed="rId2"/>
          <a:stretch/>
        </p:blipFill>
        <p:spPr>
          <a:xfrm>
            <a:off x="0" y="1244520"/>
            <a:ext cx="9144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part from triangle-based multi-resolution mod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pt a patch-based data structure: cluster triang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clust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visibility computations and out-of-core rend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ed to load all triangles in mem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ding box around mod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partition: 6 tetrahedra around the major box diagona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nodes are generated by tetrahedral bise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2" descr="C:\Documents and Settings\user\Desktop\cs680 presentations\mid\tetra-diamonds.jpg"/>
          <p:cNvPicPr/>
          <p:nvPr/>
        </p:nvPicPr>
        <p:blipFill>
          <a:blip r:embed="rId1"/>
          <a:stretch/>
        </p:blipFill>
        <p:spPr>
          <a:xfrm>
            <a:off x="1387440" y="3086280"/>
            <a:ext cx="5702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high resolution triangle sou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3" descr="C:\Documents and Settings\user\Desktop\cs680 presentations\mid\result\tetrasubdivision01.jpg"/>
          <p:cNvPicPr/>
          <p:nvPr/>
        </p:nvPicPr>
        <p:blipFill>
          <a:blip r:embed="rId1"/>
          <a:stretch/>
        </p:blipFill>
        <p:spPr>
          <a:xfrm>
            <a:off x="619200" y="4060800"/>
            <a:ext cx="1800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erarchy Co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high resolution triangle sou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model using a conformal hierarchy of tetrahedr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triangles/chun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3" descr="C:\Documents and Settings\user\Desktop\cs680 presentations\mid\result\tetrasubdivision01.jpg"/>
          <p:cNvPicPr/>
          <p:nvPr/>
        </p:nvPicPr>
        <p:blipFill>
          <a:blip r:embed="rId1"/>
          <a:stretch/>
        </p:blipFill>
        <p:spPr>
          <a:xfrm>
            <a:off x="619200" y="4060800"/>
            <a:ext cx="1800000" cy="19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user\Desktop\cs680 presentations\mid\result\tetrasubdivision03.jpg"/>
          <p:cNvPicPr/>
          <p:nvPr/>
        </p:nvPicPr>
        <p:blipFill>
          <a:blip r:embed="rId2"/>
          <a:stretch/>
        </p:blipFill>
        <p:spPr>
          <a:xfrm>
            <a:off x="4218120" y="4060800"/>
            <a:ext cx="1798560" cy="1936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user\Desktop\cs680 presentations\mid\result\tetrasubdivision02.jpg"/>
          <p:cNvPicPr/>
          <p:nvPr/>
        </p:nvPicPr>
        <p:blipFill>
          <a:blip r:embed="rId3"/>
          <a:stretch/>
        </p:blipFill>
        <p:spPr>
          <a:xfrm>
            <a:off x="2419200" y="4060800"/>
            <a:ext cx="1798920" cy="193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Documents and Settings\user\Desktop\cs680 presentations\mid\result\tetrasubdivision04.jpg"/>
          <p:cNvPicPr/>
          <p:nvPr/>
        </p:nvPicPr>
        <p:blipFill>
          <a:blip r:embed="rId4"/>
          <a:stretch/>
        </p:blipFill>
        <p:spPr>
          <a:xfrm>
            <a:off x="6016680" y="4060800"/>
            <a:ext cx="1800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8680" y="1587600"/>
            <a:ext cx="8318520" cy="14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71440" indent="-271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high resolution triangle sou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1440" indent="-271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 model using a conformal hierarchy of tetrahedr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4120" indent="-31896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triangles/chun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1440" indent="-271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3" descr="C:\Documents and Settings\user\Desktop\cs680 presentations\mid\result\tetrasubdivision01.jpg"/>
          <p:cNvPicPr/>
          <p:nvPr/>
        </p:nvPicPr>
        <p:blipFill>
          <a:blip r:embed="rId1"/>
          <a:stretch/>
        </p:blipFill>
        <p:spPr>
          <a:xfrm>
            <a:off x="114480" y="2994120"/>
            <a:ext cx="12762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user\Desktop\cs680 presentations\mid\result\tetrasubdivision03.jpg"/>
          <p:cNvPicPr/>
          <p:nvPr/>
        </p:nvPicPr>
        <p:blipFill>
          <a:blip r:embed="rId2"/>
          <a:stretch/>
        </p:blipFill>
        <p:spPr>
          <a:xfrm>
            <a:off x="2664000" y="2994120"/>
            <a:ext cx="127476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user\Desktop\cs680 presentations\mid\result\tetrasubdivision02.jpg"/>
          <p:cNvPicPr/>
          <p:nvPr/>
        </p:nvPicPr>
        <p:blipFill>
          <a:blip r:embed="rId3"/>
          <a:stretch/>
        </p:blipFill>
        <p:spPr>
          <a:xfrm>
            <a:off x="1390680" y="2994120"/>
            <a:ext cx="127332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user\Desktop\cs680 presentations\mid\result\tetrasubdivision04.jpg"/>
          <p:cNvPicPr/>
          <p:nvPr/>
        </p:nvPicPr>
        <p:blipFill>
          <a:blip r:embed="rId4"/>
          <a:stretch/>
        </p:blipFill>
        <p:spPr>
          <a:xfrm>
            <a:off x="3938760" y="2994120"/>
            <a:ext cx="12762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user\Desktop\cs680 presentations\mid\result\tetrasubdivision05.jpg"/>
          <p:cNvPicPr/>
          <p:nvPr/>
        </p:nvPicPr>
        <p:blipFill>
          <a:blip r:embed="rId5"/>
          <a:stretch/>
        </p:blipFill>
        <p:spPr>
          <a:xfrm>
            <a:off x="5214960" y="2971800"/>
            <a:ext cx="1284120" cy="138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user\Desktop\cs680 presentations\mid\result\tetrasubdivision06.jpg"/>
          <p:cNvPicPr/>
          <p:nvPr/>
        </p:nvPicPr>
        <p:blipFill>
          <a:blip r:embed="rId6"/>
          <a:stretch/>
        </p:blipFill>
        <p:spPr>
          <a:xfrm>
            <a:off x="6499080" y="2971800"/>
            <a:ext cx="1282680" cy="1382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C:\Documents and Settings\user\Desktop\cs680 presentations\mid\result\tetrasubdivision07.jpg"/>
          <p:cNvPicPr/>
          <p:nvPr/>
        </p:nvPicPr>
        <p:blipFill>
          <a:blip r:embed="rId7"/>
          <a:stretch/>
        </p:blipFill>
        <p:spPr>
          <a:xfrm>
            <a:off x="7781760" y="2971800"/>
            <a:ext cx="128592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user\Desktop\cs680 presentations\mid\result\tetrasubdivision08.jpg"/>
          <p:cNvPicPr/>
          <p:nvPr/>
        </p:nvPicPr>
        <p:blipFill>
          <a:blip r:embed="rId8"/>
          <a:stretch/>
        </p:blipFill>
        <p:spPr>
          <a:xfrm>
            <a:off x="103320" y="4481640"/>
            <a:ext cx="1285920" cy="138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C:\Documents and Settings\user\Desktop\cs680 presentations\mid\result\tetrasubdivision09.jpg"/>
          <p:cNvPicPr/>
          <p:nvPr/>
        </p:nvPicPr>
        <p:blipFill>
          <a:blip r:embed="rId9"/>
          <a:stretch/>
        </p:blipFill>
        <p:spPr>
          <a:xfrm>
            <a:off x="1389240" y="4481640"/>
            <a:ext cx="1284120" cy="1382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user\Desktop\cs680 presentations\mid\result\tetrasubdivision11.jpg"/>
          <p:cNvPicPr/>
          <p:nvPr/>
        </p:nvPicPr>
        <p:blipFill>
          <a:blip r:embed="rId10"/>
          <a:stretch/>
        </p:blipFill>
        <p:spPr>
          <a:xfrm>
            <a:off x="2673360" y="4481640"/>
            <a:ext cx="1282680" cy="138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C:\Documents and Settings\user\Desktop\cs680 presentations\mid\result\tetrasubdivision12.jpg"/>
          <p:cNvPicPr/>
          <p:nvPr/>
        </p:nvPicPr>
        <p:blipFill>
          <a:blip r:embed="rId11"/>
          <a:stretch/>
        </p:blipFill>
        <p:spPr>
          <a:xfrm>
            <a:off x="3956040" y="4481640"/>
            <a:ext cx="1284120" cy="1384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C:\Documents and Settings\user\Desktop\cs680 presentations\mid\result\tetrasubdivision13.jpg"/>
          <p:cNvPicPr/>
          <p:nvPr/>
        </p:nvPicPr>
        <p:blipFill>
          <a:blip r:embed="rId12"/>
          <a:stretch/>
        </p:blipFill>
        <p:spPr>
          <a:xfrm>
            <a:off x="5240160" y="4481640"/>
            <a:ext cx="1285920" cy="138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C:\Documents and Settings\user\Desktop\cs680 presentations\mid\result\tetrasubdivision14.jpg"/>
          <p:cNvPicPr/>
          <p:nvPr/>
        </p:nvPicPr>
        <p:blipFill>
          <a:blip r:embed="rId13"/>
          <a:stretch/>
        </p:blipFill>
        <p:spPr>
          <a:xfrm>
            <a:off x="6526080" y="4473720"/>
            <a:ext cx="1284480" cy="1382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C:\Documents and Settings\user\Desktop\cs680 presentations\mid\result\tetrasubdivision15.jpg"/>
          <p:cNvPicPr/>
          <p:nvPr/>
        </p:nvPicPr>
        <p:blipFill>
          <a:blip r:embed="rId14"/>
          <a:stretch/>
        </p:blipFill>
        <p:spPr>
          <a:xfrm>
            <a:off x="7810560" y="4481640"/>
            <a:ext cx="12906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erarchy Co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8680" y="1587600"/>
            <a:ext cx="56977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non-leaf cells by bottom-up recombination and simplification of lower level cel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0644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s associated with the children tetrahedra are merged into a single mesh: simplified to contain K 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2" descr="C:\Documents and Settings\user\Desktop\cs680 presentations\mid\result\nonleaf.jpg"/>
          <p:cNvPicPr/>
          <p:nvPr/>
        </p:nvPicPr>
        <p:blipFill>
          <a:blip r:embed="rId1"/>
          <a:stretch/>
        </p:blipFill>
        <p:spPr>
          <a:xfrm>
            <a:off x="6116760" y="1736640"/>
            <a:ext cx="261144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4"/>
          <p:cNvGrpSpPr/>
          <p:nvPr/>
        </p:nvGrpSpPr>
        <p:grpSpPr>
          <a:xfrm>
            <a:off x="1332000" y="4307040"/>
            <a:ext cx="3649680" cy="2113560"/>
            <a:chOff x="1332000" y="4307040"/>
            <a:chExt cx="3649680" cy="2113560"/>
          </a:xfrm>
        </p:grpSpPr>
        <p:pic>
          <p:nvPicPr>
            <p:cNvPr id="93" name="Picture 3" descr=""/>
            <p:cNvPicPr/>
            <p:nvPr/>
          </p:nvPicPr>
          <p:blipFill>
            <a:blip r:embed="rId2"/>
            <a:stretch/>
          </p:blipFill>
          <p:spPr>
            <a:xfrm>
              <a:off x="1411560" y="5136480"/>
              <a:ext cx="791280" cy="791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94" name="Rectangle 48"/>
            <p:cNvSpPr/>
            <p:nvPr/>
          </p:nvSpPr>
          <p:spPr>
            <a:xfrm>
              <a:off x="1343160" y="511956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80"/>
                  </a:solidFill>
                  <a:latin typeface="Arial"/>
                </a:rPr>
                <a:t>13,54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5" descr=""/>
            <p:cNvPicPr/>
            <p:nvPr/>
          </p:nvPicPr>
          <p:blipFill>
            <a:blip r:embed="rId3"/>
            <a:stretch/>
          </p:blipFill>
          <p:spPr>
            <a:xfrm>
              <a:off x="2327040" y="5136480"/>
              <a:ext cx="791280" cy="791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96" name="Rectangle 50"/>
            <p:cNvSpPr/>
            <p:nvPr/>
          </p:nvSpPr>
          <p:spPr>
            <a:xfrm>
              <a:off x="2293920" y="5119560"/>
              <a:ext cx="39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8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0"/>
            <p:cNvGrpSpPr/>
            <p:nvPr/>
          </p:nvGrpSpPr>
          <p:grpSpPr>
            <a:xfrm>
              <a:off x="1332000" y="4307040"/>
              <a:ext cx="0" cy="0"/>
              <a:chOff x="1332000" y="4307040"/>
              <a:chExt cx="0" cy="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332000" y="4307040"/>
                <a:ext cx="0" cy="0"/>
              </a:xfrm>
              <a:prstGeom prst="line">
                <a:avLst/>
              </a:prstGeom>
              <a:ln w="12600">
                <a:solidFill>
                  <a:srgbClr val="00c0c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332000" y="4307040"/>
                <a:ext cx="0" cy="0"/>
              </a:xfrm>
              <a:prstGeom prst="line">
                <a:avLst/>
              </a:prstGeom>
              <a:ln w="12600">
                <a:solidFill>
                  <a:srgbClr val="00c0c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332000" y="4307040"/>
                <a:ext cx="0" cy="0"/>
              </a:xfrm>
              <a:prstGeom prst="line">
                <a:avLst/>
              </a:prstGeom>
              <a:ln w="12600">
                <a:solidFill>
                  <a:srgbClr val="00c0c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Picture 11" descr=""/>
            <p:cNvPicPr/>
            <p:nvPr/>
          </p:nvPicPr>
          <p:blipFill>
            <a:blip r:embed="rId4"/>
            <a:stretch/>
          </p:blipFill>
          <p:spPr>
            <a:xfrm>
              <a:off x="3262680" y="5136480"/>
              <a:ext cx="791280" cy="791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2" name="Rectangle 53"/>
            <p:cNvSpPr/>
            <p:nvPr/>
          </p:nvSpPr>
          <p:spPr>
            <a:xfrm>
              <a:off x="3234600" y="5119560"/>
              <a:ext cx="39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80"/>
                  </a:solidFill>
                  <a:latin typeface="Arial"/>
                </a:rPr>
                <a:t>15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6"/>
            <p:cNvGrpSpPr/>
            <p:nvPr/>
          </p:nvGrpSpPr>
          <p:grpSpPr>
            <a:xfrm>
              <a:off x="1332360" y="4307040"/>
              <a:ext cx="0" cy="0"/>
              <a:chOff x="1332360" y="4307040"/>
              <a:chExt cx="0" cy="0"/>
            </a:xfrm>
          </p:grpSpPr>
          <p:sp>
            <p:nvSpPr>
              <p:cNvPr id="104" name="Line 13"/>
              <p:cNvSpPr/>
              <p:nvPr/>
            </p:nvSpPr>
            <p:spPr>
              <a:xfrm>
                <a:off x="1332360" y="4307040"/>
                <a:ext cx="0" cy="0"/>
              </a:xfrm>
              <a:prstGeom prst="line">
                <a:avLst/>
              </a:prstGeom>
              <a:ln w="12600">
                <a:solidFill>
                  <a:srgbClr val="00c0c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4"/>
              <p:cNvSpPr/>
              <p:nvPr/>
            </p:nvSpPr>
            <p:spPr>
              <a:xfrm>
                <a:off x="1332360" y="4307040"/>
                <a:ext cx="0" cy="0"/>
              </a:xfrm>
              <a:prstGeom prst="line">
                <a:avLst/>
              </a:prstGeom>
              <a:ln w="12600">
                <a:solidFill>
                  <a:srgbClr val="00c0c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5"/>
              <p:cNvSpPr/>
              <p:nvPr/>
            </p:nvSpPr>
            <p:spPr>
              <a:xfrm>
                <a:off x="1332360" y="4307040"/>
                <a:ext cx="0" cy="0"/>
              </a:xfrm>
              <a:prstGeom prst="line">
                <a:avLst/>
              </a:prstGeom>
              <a:ln w="12600">
                <a:solidFill>
                  <a:srgbClr val="00c0c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17" descr=""/>
            <p:cNvPicPr/>
            <p:nvPr/>
          </p:nvPicPr>
          <p:blipFill>
            <a:blip r:embed="rId5"/>
            <a:stretch/>
          </p:blipFill>
          <p:spPr>
            <a:xfrm>
              <a:off x="4190400" y="5136480"/>
              <a:ext cx="791280" cy="791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8" name="Rectangle 56"/>
            <p:cNvSpPr/>
            <p:nvPr/>
          </p:nvSpPr>
          <p:spPr>
            <a:xfrm>
              <a:off x="4131720" y="5119560"/>
              <a:ext cx="39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8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4445640" y="6010560"/>
              <a:ext cx="33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3606120" y="6010560"/>
              <a:ext cx="33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2591280" y="6010560"/>
              <a:ext cx="41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4067280" y="6125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4"/>
            <p:cNvSpPr/>
            <p:nvPr/>
          </p:nvSpPr>
          <p:spPr>
            <a:xfrm>
              <a:off x="4017600" y="6153120"/>
              <a:ext cx="4575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ecol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5"/>
            <p:cNvSpPr/>
            <p:nvPr/>
          </p:nvSpPr>
          <p:spPr>
            <a:xfrm>
              <a:off x="3050280" y="6154920"/>
              <a:ext cx="433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ecol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6"/>
            <p:cNvSpPr/>
            <p:nvPr/>
          </p:nvSpPr>
          <p:spPr>
            <a:xfrm>
              <a:off x="3075120" y="612540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0"/>
            <p:cNvGrpSpPr/>
            <p:nvPr/>
          </p:nvGrpSpPr>
          <p:grpSpPr>
            <a:xfrm>
              <a:off x="1332360" y="4307040"/>
              <a:ext cx="0" cy="0"/>
              <a:chOff x="1332360" y="4307040"/>
              <a:chExt cx="0" cy="0"/>
            </a:xfrm>
          </p:grpSpPr>
          <p:sp>
            <p:nvSpPr>
              <p:cNvPr id="117" name="Line 27"/>
              <p:cNvSpPr/>
              <p:nvPr/>
            </p:nvSpPr>
            <p:spPr>
              <a:xfrm>
                <a:off x="1332360" y="4307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1332360" y="4307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1332360" y="4307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31"/>
            <p:cNvSpPr/>
            <p:nvPr/>
          </p:nvSpPr>
          <p:spPr>
            <a:xfrm>
              <a:off x="2044800" y="6153120"/>
              <a:ext cx="5230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ecol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2"/>
            <p:cNvSpPr/>
            <p:nvPr/>
          </p:nvSpPr>
          <p:spPr>
            <a:xfrm>
              <a:off x="2245320" y="612540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6"/>
            <p:cNvGrpSpPr/>
            <p:nvPr/>
          </p:nvGrpSpPr>
          <p:grpSpPr>
            <a:xfrm>
              <a:off x="1332000" y="4307040"/>
              <a:ext cx="0" cy="0"/>
              <a:chOff x="1332000" y="4307040"/>
              <a:chExt cx="0" cy="0"/>
            </a:xfrm>
          </p:grpSpPr>
          <p:sp>
            <p:nvSpPr>
              <p:cNvPr id="123" name="Line 33"/>
              <p:cNvSpPr/>
              <p:nvPr/>
            </p:nvSpPr>
            <p:spPr>
              <a:xfrm>
                <a:off x="1332000" y="4307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4"/>
              <p:cNvSpPr/>
              <p:nvPr/>
            </p:nvSpPr>
            <p:spPr>
              <a:xfrm>
                <a:off x="1332000" y="4307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5"/>
              <p:cNvSpPr/>
              <p:nvPr/>
            </p:nvSpPr>
            <p:spPr>
              <a:xfrm>
                <a:off x="1332000" y="4307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39"/>
            <p:cNvGrpSpPr/>
            <p:nvPr/>
          </p:nvGrpSpPr>
          <p:grpSpPr>
            <a:xfrm>
              <a:off x="1595160" y="5940000"/>
              <a:ext cx="509400" cy="314640"/>
              <a:chOff x="1595160" y="5940000"/>
              <a:chExt cx="509400" cy="314640"/>
            </a:xfrm>
          </p:grpSpPr>
          <p:sp>
            <p:nvSpPr>
              <p:cNvPr id="127" name="Rectangle 37"/>
              <p:cNvSpPr/>
              <p:nvPr/>
            </p:nvSpPr>
            <p:spPr>
              <a:xfrm>
                <a:off x="1595160" y="6009840"/>
                <a:ext cx="50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M=M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8"/>
              <p:cNvSpPr/>
              <p:nvPr/>
            </p:nvSpPr>
            <p:spPr>
              <a:xfrm>
                <a:off x="1611720" y="5940000"/>
                <a:ext cx="244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val 41"/>
            <p:cNvSpPr/>
            <p:nvPr/>
          </p:nvSpPr>
          <p:spPr>
            <a:xfrm>
              <a:off x="4488840" y="5514840"/>
              <a:ext cx="28800" cy="28800"/>
            </a:xfrm>
            <a:prstGeom prst="ellipse">
              <a:avLst/>
            </a:pr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user</cp:lastModifiedBy>
  <cp:lastPrinted>1998-03-18T16:08:13Z</cp:lastPrinted>
  <dcterms:modified xsi:type="dcterms:W3CDTF">2008-12-03T18:30:07Z</dcterms:modified>
  <cp:revision>1882</cp:revision>
  <dc:subject/>
  <dc:title>Steven F. Ashby Center for Applied Scientific Computing  Month DD, 1997</dc:title>
</cp:coreProperties>
</file>