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37960" y="695160"/>
            <a:ext cx="4583160" cy="343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388620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874080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2960" y="4371840"/>
            <a:ext cx="5030640" cy="4137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74080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2960" y="4371840"/>
            <a:ext cx="5030640" cy="4137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hotons are computed for each frame and photon hit points are stored in the mesh for possible re-use in neighboring fr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The temporal photon processing is performed on the mesh basis for all objects including the moving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88620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874080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2960" y="4371840"/>
            <a:ext cx="5030640" cy="4137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6CB21B-9D82-4A66-A8FA-15990870A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47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ynamic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96800" y="3527280"/>
            <a:ext cx="815364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</a:rPr>
              <a:t>DukSu K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IST (Korea Advanced Institute of Science and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52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VH Metri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18680" y="1587600"/>
            <a:ext cx="8318520" cy="22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tructuring benefit Model of Intersection Queries(RM-IQ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dicts the expected improvement in culling efficiency during restructuring opera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uted in term of improve culling efficienc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365120" y="3857760"/>
            <a:ext cx="4000680" cy="914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1917720" y="4772160"/>
            <a:ext cx="67816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: expected reduction in the number of intersection tests due to the new node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tructuring cost,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rebuild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,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 computed based on the number of triangles associated with two sub-BVHs rooted in the two nod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f R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ň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  + R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ň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 &gt;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</a:rPr>
              <a:t>rebuild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,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two nodes are reconstruct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therwis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ust refitt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325760" y="4930920"/>
            <a:ext cx="3395880" cy="17240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VH Metri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1386000" y="3254400"/>
            <a:ext cx="4636800" cy="3492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1386000" y="3603600"/>
            <a:ext cx="6781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t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t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7352640" y="6118200"/>
            <a:ext cx="1630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mage : Sung-Eui Y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419040" y="1547640"/>
            <a:ext cx="2743200" cy="1619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3332160" y="3568680"/>
            <a:ext cx="2762280" cy="147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419040" y="3568680"/>
            <a:ext cx="2743200" cy="1611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3332160" y="1533600"/>
            <a:ext cx="2776680" cy="1633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5"/>
          <a:stretch/>
        </p:blipFill>
        <p:spPr>
          <a:xfrm>
            <a:off x="3162240" y="5045040"/>
            <a:ext cx="5819760" cy="15717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8"/>
          <p:cNvSpPr/>
          <p:nvPr/>
        </p:nvSpPr>
        <p:spPr>
          <a:xfrm>
            <a:off x="424800" y="5300640"/>
            <a:ext cx="1630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mage : Sung-Eui Y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7549920" y="6595920"/>
            <a:ext cx="1610280" cy="26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able : Sung-Eui Y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novel restructuring algorithm to efficiently re-compute dynamic BVH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ke decision based on metric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mi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guarantee that presented algorithm always improve the performance of ray trac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head to compute 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149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erception-Guided Global Illumination Solution for Animation Rend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496800" y="3527280"/>
            <a:ext cx="815364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</a:rPr>
              <a:t>K. Myszkowski et 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GRAPH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154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Perception Guided Animation Rende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00bf"/>
                </a:solidFill>
                <a:latin typeface="Tahoma"/>
                <a:ea typeface="굴림"/>
              </a:rPr>
              <a:t>Go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: take into account characteristics of the Human Visual System to concentrate the image computation exclusively on the visible scene detai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nimation Quality Metric (AQM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omputes the map of visible differences between two input animation fram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e used to measure the errors of the indirect lighting solu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GI Solution in dynamic environ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hanges of </a:t>
            </a:r>
            <a:r>
              <a:rPr b="1" lang="en-US" sz="2800" spc="-1" strike="noStrike">
                <a:solidFill>
                  <a:srgbClr val="008282"/>
                </a:solidFill>
                <a:latin typeface="Tahoma"/>
                <a:ea typeface="굴림"/>
              </a:rPr>
              <a:t>Direct lighting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are highly visib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omputed for every fram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00bf"/>
                </a:solidFill>
                <a:latin typeface="Tahoma"/>
                <a:ea typeface="굴림"/>
              </a:rPr>
              <a:t>Indirect light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hanges are usually slow and smoot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omputation can be reduc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y computing only some sampled frames and using re-suing the results for in-between fram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ut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GI Solution in dynamic environ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419040" y="1587600"/>
            <a:ext cx="1747800" cy="1747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2332080" y="158760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6"/>
          <p:cNvSpPr/>
          <p:nvPr/>
        </p:nvSpPr>
        <p:spPr>
          <a:xfrm>
            <a:off x="429840" y="3355920"/>
            <a:ext cx="195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: Karol Myszkowski et 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내용 개체 틀 2"/>
          <p:cNvSpPr/>
          <p:nvPr/>
        </p:nvSpPr>
        <p:spPr>
          <a:xfrm>
            <a:off x="4079880" y="1587600"/>
            <a:ext cx="490392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rect lighting change also can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내용 개체 틀 2"/>
          <p:cNvSpPr/>
          <p:nvPr/>
        </p:nvSpPr>
        <p:spPr>
          <a:xfrm>
            <a:off x="419040" y="3602160"/>
            <a:ext cx="82803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though robust guidance for selection of sampled frames is exi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accuracy fluctuates between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Basic approaches in the pap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ocus on the temporal coherence in indirect lighting distribu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sing sparse sampling of indirect lighting for every fram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 number of subsequent frames are used for final lighting reconstru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intain similar level of accuracy of indirect light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ess perceivable errors and low probability of overlooking some important light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sing AQ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ystem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nsity Estimation Photon Tracing(DEPT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s a framework for GI comput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xtending photon processing into the temporal domai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" name="그룹 34"/>
          <p:cNvGrpSpPr/>
          <p:nvPr/>
        </p:nvGrpSpPr>
        <p:grpSpPr>
          <a:xfrm>
            <a:off x="1270080" y="2428560"/>
            <a:ext cx="5197320" cy="2902320"/>
            <a:chOff x="1270080" y="2428560"/>
            <a:chExt cx="5197320" cy="2902320"/>
          </a:xfrm>
        </p:grpSpPr>
        <p:graphicFrame>
          <p:nvGraphicFramePr>
            <p:cNvPr id="172" name="Object 4"/>
            <p:cNvGraphicFramePr/>
            <p:nvPr/>
          </p:nvGraphicFramePr>
          <p:xfrm>
            <a:off x="4443480" y="2478600"/>
            <a:ext cx="1970280" cy="196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43480" y="2478600"/>
                      <a:ext cx="1970280" cy="1969920"/>
                    </a:xfrm>
                    <a:prstGeom prst="rect">
                      <a:avLst/>
                    </a:prstGeom>
                    <a:ln w="572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174" name="Group 5"/>
            <p:cNvGrpSpPr/>
            <p:nvPr/>
          </p:nvGrpSpPr>
          <p:grpSpPr>
            <a:xfrm>
              <a:off x="1270080" y="2491560"/>
              <a:ext cx="2839680" cy="2839320"/>
              <a:chOff x="1270080" y="2491560"/>
              <a:chExt cx="2839680" cy="2839320"/>
            </a:xfrm>
          </p:grpSpPr>
          <p:graphicFrame>
            <p:nvGraphicFramePr>
              <p:cNvPr id="175" name="Object 5"/>
              <p:cNvGraphicFramePr/>
              <p:nvPr/>
            </p:nvGraphicFramePr>
            <p:xfrm>
              <a:off x="1270080" y="2491560"/>
              <a:ext cx="2839680" cy="2839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76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270080" y="2491560"/>
                        <a:ext cx="2839680" cy="283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7" name="Rectangle 7"/>
              <p:cNvSpPr/>
              <p:nvPr/>
            </p:nvSpPr>
            <p:spPr>
              <a:xfrm>
                <a:off x="2614320" y="3606840"/>
                <a:ext cx="238320" cy="24876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spcAft>
                    <a:spcPts val="601"/>
                  </a:spcAft>
                  <a:buClr>
                    <a:srgbClr val="60c9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8"/>
            <p:cNvSpPr/>
            <p:nvPr/>
          </p:nvSpPr>
          <p:spPr>
            <a:xfrm>
              <a:off x="2006640" y="3573360"/>
              <a:ext cx="28440" cy="31428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 flipH="1">
              <a:off x="1503000" y="3853080"/>
              <a:ext cx="539640" cy="358560"/>
            </a:xfrm>
            <a:prstGeom prst="line">
              <a:avLst/>
            </a:prstGeom>
            <a:ln w="93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1533600" y="4181400"/>
              <a:ext cx="268200" cy="839880"/>
            </a:xfrm>
            <a:prstGeom prst="line">
              <a:avLst/>
            </a:prstGeom>
            <a:ln w="93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2022480" y="3562200"/>
              <a:ext cx="179280" cy="330120"/>
            </a:xfrm>
            <a:prstGeom prst="line">
              <a:avLst/>
            </a:prstGeom>
            <a:ln w="93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2201760" y="3152520"/>
              <a:ext cx="339480" cy="709560"/>
            </a:xfrm>
            <a:prstGeom prst="line">
              <a:avLst/>
            </a:prstGeom>
            <a:ln w="93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 flipH="1" flipV="1">
              <a:off x="2001600" y="2535120"/>
              <a:ext cx="529920" cy="628560"/>
            </a:xfrm>
            <a:prstGeom prst="line">
              <a:avLst/>
            </a:prstGeom>
            <a:ln w="93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 flipH="1">
              <a:off x="1542960" y="2565360"/>
              <a:ext cx="488880" cy="447480"/>
            </a:xfrm>
            <a:prstGeom prst="line">
              <a:avLst/>
            </a:prstGeom>
            <a:ln w="93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 flipV="1">
              <a:off x="2611440" y="2434680"/>
              <a:ext cx="1785960" cy="11667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 flipV="1">
              <a:off x="2855880" y="2428560"/>
              <a:ext cx="3584520" cy="11667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2589120" y="3848040"/>
              <a:ext cx="1828800" cy="6300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8"/>
            <p:cNvSpPr/>
            <p:nvPr/>
          </p:nvSpPr>
          <p:spPr>
            <a:xfrm>
              <a:off x="2862360" y="3841920"/>
              <a:ext cx="3605040" cy="6508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35"/>
          <p:cNvSpPr/>
          <p:nvPr/>
        </p:nvSpPr>
        <p:spPr>
          <a:xfrm>
            <a:off x="4123080" y="5084640"/>
            <a:ext cx="248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: Max-Planck-Institut für Informat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ut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ay Tracing Dynamic Scene using Selective Restructur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erception-Guided Global Illumination Solution for Animation Render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ystem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vide animation into seg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itially, sparse sampling of indirect lighting is performed for every fram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djusting the segment length and the number of photons per fram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riving illumin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pairing noisy pixels(Spatial filtering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tiotemporal Photon Proces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sum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otons are traced sparsely for all animation fram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그룹 12"/>
          <p:cNvGrpSpPr/>
          <p:nvPr/>
        </p:nvGrpSpPr>
        <p:grpSpPr>
          <a:xfrm>
            <a:off x="1129680" y="2897280"/>
            <a:ext cx="5630040" cy="3117600"/>
            <a:chOff x="1129680" y="2897280"/>
            <a:chExt cx="5630040" cy="3117600"/>
          </a:xfrm>
        </p:grpSpPr>
        <p:graphicFrame>
          <p:nvGraphicFramePr>
            <p:cNvPr id="195" name="Object 4"/>
            <p:cNvGraphicFramePr/>
            <p:nvPr/>
          </p:nvGraphicFramePr>
          <p:xfrm>
            <a:off x="1129680" y="2919600"/>
            <a:ext cx="5630040" cy="309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29680" y="2919600"/>
                      <a:ext cx="5630040" cy="30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Text Box 5"/>
            <p:cNvSpPr/>
            <p:nvPr/>
          </p:nvSpPr>
          <p:spPr>
            <a:xfrm>
              <a:off x="4193280" y="5315400"/>
              <a:ext cx="212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tatic obje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6"/>
            <p:cNvSpPr/>
            <p:nvPr/>
          </p:nvSpPr>
          <p:spPr>
            <a:xfrm>
              <a:off x="1311480" y="2897280"/>
              <a:ext cx="237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Moving obje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35"/>
          <p:cNvSpPr/>
          <p:nvPr/>
        </p:nvSpPr>
        <p:spPr>
          <a:xfrm>
            <a:off x="1105200" y="6014880"/>
            <a:ext cx="248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: Max-Planck-Institut für Informat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tiotemporal Photon Proces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tradictory Require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ximize the number of photons collected in the temporal domain to reduce the stochastic noise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→ Needs more fram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inimize the time interval in which the photons were traced to avoid collecting invalid photons 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  <a:ea typeface="바탕"/>
              </a:rPr>
              <a:t>→ Decrease the number of phot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nimizing the number of traced photons without compromising the animation qual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tiotemporal Photon Proces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perception based AQ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d to find the minimal number of photons per fram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quired to make the noise undectatb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 energy based stochastic error metr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lied to each mesh element and to every fram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d to guide the photon collection in the temporal domai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ror Metric for Temporal Proc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trols the temporal photon process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uces the probability of using invalid photons in the scene regions in which lighting changes rapidl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cision Condi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itting mesh element modeled Poisson distribu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number of photons hitting a mesh elem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es not satisfy the condition, collection photon is disab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241280" y="4854600"/>
            <a:ext cx="3990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eg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animation sequence is split into animation seg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e frame K divide segment into two par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he length of segment =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ma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+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" name="그룹 3"/>
          <p:cNvGrpSpPr/>
          <p:nvPr/>
        </p:nvGrpSpPr>
        <p:grpSpPr>
          <a:xfrm>
            <a:off x="293760" y="3510000"/>
            <a:ext cx="8316720" cy="2625840"/>
            <a:chOff x="293760" y="3510000"/>
            <a:chExt cx="8316720" cy="2625840"/>
          </a:xfrm>
        </p:grpSpPr>
        <p:pic>
          <p:nvPicPr>
            <p:cNvPr id="210" name="Picture 2" descr=""/>
            <p:cNvPicPr/>
            <p:nvPr/>
          </p:nvPicPr>
          <p:blipFill>
            <a:blip r:embed="rId1"/>
            <a:stretch/>
          </p:blipFill>
          <p:spPr>
            <a:xfrm>
              <a:off x="2314080" y="3510000"/>
              <a:ext cx="4400640" cy="262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2" descr=""/>
            <p:cNvPicPr/>
            <p:nvPr/>
          </p:nvPicPr>
          <p:blipFill>
            <a:blip r:embed="rId2"/>
            <a:stretch/>
          </p:blipFill>
          <p:spPr>
            <a:xfrm>
              <a:off x="6590160" y="4069080"/>
              <a:ext cx="2020320" cy="120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2" descr=""/>
            <p:cNvPicPr/>
            <p:nvPr/>
          </p:nvPicPr>
          <p:blipFill>
            <a:blip r:embed="rId3"/>
            <a:stretch/>
          </p:blipFill>
          <p:spPr>
            <a:xfrm>
              <a:off x="293760" y="4069080"/>
              <a:ext cx="2020320" cy="120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모서리가 둥근 직사각형 4"/>
          <p:cNvSpPr/>
          <p:nvPr/>
        </p:nvSpPr>
        <p:spPr>
          <a:xfrm>
            <a:off x="1805040" y="1716120"/>
            <a:ext cx="2206440" cy="78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모서리가 둥근 직사각형 5"/>
          <p:cNvSpPr/>
          <p:nvPr/>
        </p:nvSpPr>
        <p:spPr>
          <a:xfrm>
            <a:off x="1517760" y="2792520"/>
            <a:ext cx="2782800" cy="78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모서리가 둥근 직사각형 6"/>
          <p:cNvSpPr/>
          <p:nvPr/>
        </p:nvSpPr>
        <p:spPr>
          <a:xfrm>
            <a:off x="4532400" y="2792520"/>
            <a:ext cx="2997000" cy="78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ing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samples per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모서리가 둥근 직사각형 7"/>
          <p:cNvSpPr/>
          <p:nvPr/>
        </p:nvSpPr>
        <p:spPr>
          <a:xfrm>
            <a:off x="4545000" y="3922560"/>
            <a:ext cx="29844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rect lighting re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모서리가 둥근 직사각형 9"/>
          <p:cNvSpPr/>
          <p:nvPr/>
        </p:nvSpPr>
        <p:spPr>
          <a:xfrm>
            <a:off x="4927680" y="5048280"/>
            <a:ext cx="2206440" cy="78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iring noisy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직선 화살표 연결선 13"/>
          <p:cNvCxnSpPr>
            <a:stCxn id="214" idx="2"/>
            <a:endCxn id="215" idx="0"/>
          </p:cNvCxnSpPr>
          <p:nvPr/>
        </p:nvCxnSpPr>
        <p:spPr>
          <a:xfrm>
            <a:off x="2908440" y="2498760"/>
            <a:ext cx="2160" cy="294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직선 화살표 연결선 15"/>
          <p:cNvCxnSpPr>
            <a:stCxn id="215" idx="3"/>
            <a:endCxn id="216" idx="1"/>
          </p:cNvCxnSpPr>
          <p:nvPr/>
        </p:nvCxnSpPr>
        <p:spPr>
          <a:xfrm>
            <a:off x="4300560" y="3182400"/>
            <a:ext cx="2325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직선 화살표 연결선 17"/>
          <p:cNvCxnSpPr>
            <a:stCxn id="216" idx="2"/>
            <a:endCxn id="217" idx="0"/>
          </p:cNvCxnSpPr>
          <p:nvPr/>
        </p:nvCxnSpPr>
        <p:spPr>
          <a:xfrm>
            <a:off x="6030000" y="3574800"/>
            <a:ext cx="6840" cy="347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직선 화살표 연결선 19"/>
          <p:cNvCxnSpPr>
            <a:stCxn id="217" idx="2"/>
            <a:endCxn id="218" idx="0"/>
          </p:cNvCxnSpPr>
          <p:nvPr/>
        </p:nvCxnSpPr>
        <p:spPr>
          <a:xfrm flipH="1">
            <a:off x="6030360" y="4714920"/>
            <a:ext cx="6840" cy="334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3" name="직사각형 72"/>
          <p:cNvSpPr/>
          <p:nvPr/>
        </p:nvSpPr>
        <p:spPr>
          <a:xfrm>
            <a:off x="1365120" y="1584360"/>
            <a:ext cx="6307200" cy="4533840"/>
          </a:xfrm>
          <a:prstGeom prst="rect">
            <a:avLst/>
          </a:prstGeom>
          <a:noFill/>
          <a:ln w="38160">
            <a:solidFill>
              <a:srgbClr val="7f7f7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74"/>
          <p:cNvSpPr/>
          <p:nvPr/>
        </p:nvSpPr>
        <p:spPr>
          <a:xfrm>
            <a:off x="1391040" y="560088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</a:rPr>
              <a:t>For every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Initializ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cide initial paramet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gments length,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max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anual setting for first segm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he adjusted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ma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a previous segment is assigned as the initial length of a subsequent segm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he number of samples per frame,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fram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cided automatically based on energy-based measure of error of indirect lighting si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frame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otons are traced for all frame in current seg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it point records are sorted for every mesh element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hoosing segment lengt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justing the maximum segment length,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duce the animation artifacts caused by collecting photons in the temporal domain over too many fram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creased until collecting photon from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ma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is possible for threshold percentage of mesh ele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max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 obtained for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then used for all frames in the current seg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ep the noise below a perceivabl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AQM is used to measure the errors of the indirect lighting reconstru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litting photons collected for all frames in given segment into two halv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 two frame from K frame using the two halves as inputs for AQ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frame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s doubled until the difference computed by AQM less than threshol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btained  is used for all frames in the segm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oosing the number of samples per fr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그룹 14"/>
          <p:cNvGrpSpPr/>
          <p:nvPr/>
        </p:nvGrpSpPr>
        <p:grpSpPr>
          <a:xfrm>
            <a:off x="1026720" y="4106880"/>
            <a:ext cx="7453800" cy="809640"/>
            <a:chOff x="1026720" y="4106880"/>
            <a:chExt cx="7453800" cy="809640"/>
          </a:xfrm>
        </p:grpSpPr>
        <p:sp>
          <p:nvSpPr>
            <p:cNvPr id="232" name="타원 4"/>
            <p:cNvSpPr/>
            <p:nvPr/>
          </p:nvSpPr>
          <p:spPr>
            <a:xfrm>
              <a:off x="3308040" y="4106880"/>
              <a:ext cx="1551240" cy="809640"/>
            </a:xfrm>
            <a:prstGeom prst="ellipse">
              <a:avLst/>
            </a:prstGeom>
            <a:gradFill rotWithShape="0">
              <a:gsLst>
                <a:gs pos="0">
                  <a:srgbClr val="c773c7"/>
                </a:gs>
                <a:gs pos="100000">
                  <a:srgbClr val="ff97ff"/>
                </a:gs>
              </a:gsLst>
              <a:lin ang="16200000"/>
            </a:gradFill>
            <a:ln w="9360">
              <a:solidFill>
                <a:srgbClr val="fba4f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직사각형 5"/>
            <p:cNvSpPr/>
            <p:nvPr/>
          </p:nvSpPr>
          <p:spPr>
            <a:xfrm>
              <a:off x="1026720" y="4293000"/>
              <a:ext cx="1858680" cy="4597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wo fra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직사각형 6"/>
            <p:cNvSpPr/>
            <p:nvPr/>
          </p:nvSpPr>
          <p:spPr>
            <a:xfrm>
              <a:off x="5395680" y="4192560"/>
              <a:ext cx="3084840" cy="64260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edicted perceivable differences between th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5" name="직선 화살표 연결선 8"/>
            <p:cNvCxnSpPr>
              <a:stCxn id="233" idx="3"/>
            </p:cNvCxnSpPr>
            <p:nvPr/>
          </p:nvCxnSpPr>
          <p:spPr>
            <a:xfrm flipV="1">
              <a:off x="2794320" y="4519800"/>
              <a:ext cx="638280" cy="2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36" name="직선 화살표 연결선 10"/>
            <p:cNvCxnSpPr>
              <a:stCxn id="232" idx="6"/>
              <a:endCxn id="234" idx="1"/>
            </p:cNvCxnSpPr>
            <p:nvPr/>
          </p:nvCxnSpPr>
          <p:spPr>
            <a:xfrm>
              <a:off x="4858920" y="4511160"/>
              <a:ext cx="536760" cy="2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58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ay Tracing Dynamic Scene using Selective Re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96800" y="3527280"/>
            <a:ext cx="815364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8b00"/>
                </a:solidFill>
                <a:latin typeface="Arial"/>
              </a:rPr>
              <a:t>Sung-Eui Yoon et 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graphics Symposium on Rendering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63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irect Lighting Reconstru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pairing noisy pixe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rect Lighting Reconstru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valid photons are collected for each method ele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ndard procedure for deriving illumination at mesh vertices is appli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pairing noisy pix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ing spatial filter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9" descr=""/>
          <p:cNvPicPr/>
          <p:nvPr/>
        </p:nvPicPr>
        <p:blipFill>
          <a:blip r:embed="rId1"/>
          <a:stretch/>
        </p:blipFill>
        <p:spPr>
          <a:xfrm>
            <a:off x="5992920" y="1538280"/>
            <a:ext cx="2706480" cy="2706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"/>
          <p:cNvPicPr/>
          <p:nvPr/>
        </p:nvPicPr>
        <p:blipFill>
          <a:blip r:embed="rId2"/>
          <a:stretch/>
        </p:blipFill>
        <p:spPr>
          <a:xfrm>
            <a:off x="3206880" y="1538280"/>
            <a:ext cx="2705040" cy="27068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3"/>
          <a:stretch/>
        </p:blipFill>
        <p:spPr>
          <a:xfrm>
            <a:off x="419040" y="1538280"/>
            <a:ext cx="2706840" cy="2706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"/>
          <p:cNvPicPr/>
          <p:nvPr/>
        </p:nvPicPr>
        <p:blipFill>
          <a:blip r:embed="rId4"/>
          <a:stretch/>
        </p:blipFill>
        <p:spPr>
          <a:xfrm>
            <a:off x="3206880" y="1538280"/>
            <a:ext cx="2705040" cy="2706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"/>
          <p:cNvPicPr/>
          <p:nvPr/>
        </p:nvPicPr>
        <p:blipFill>
          <a:blip r:embed="rId5"/>
          <a:stretch/>
        </p:blipFill>
        <p:spPr>
          <a:xfrm>
            <a:off x="5992920" y="1538280"/>
            <a:ext cx="2706480" cy="270684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3"/>
          <p:cNvSpPr/>
          <p:nvPr/>
        </p:nvSpPr>
        <p:spPr>
          <a:xfrm>
            <a:off x="419040" y="4892760"/>
            <a:ext cx="872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solution for 2,000,000 photons without tempor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adaptiv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photon collection in the temporal domain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0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372320" y="42451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5"/>
          <p:cNvSpPr/>
          <p:nvPr/>
        </p:nvSpPr>
        <p:spPr>
          <a:xfrm>
            <a:off x="4287600" y="42451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7133760" y="4245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9" descr=""/>
          <p:cNvPicPr/>
          <p:nvPr/>
        </p:nvPicPr>
        <p:blipFill>
          <a:blip r:embed="rId1"/>
          <a:stretch/>
        </p:blipFill>
        <p:spPr>
          <a:xfrm>
            <a:off x="5992920" y="1538280"/>
            <a:ext cx="2706480" cy="2706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"/>
          <p:cNvPicPr/>
          <p:nvPr/>
        </p:nvPicPr>
        <p:blipFill>
          <a:blip r:embed="rId2"/>
          <a:stretch/>
        </p:blipFill>
        <p:spPr>
          <a:xfrm>
            <a:off x="3206880" y="1538280"/>
            <a:ext cx="2705040" cy="27068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tretch/>
        </p:blipFill>
        <p:spPr>
          <a:xfrm>
            <a:off x="419040" y="1538280"/>
            <a:ext cx="2706840" cy="2706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4"/>
          <a:stretch/>
        </p:blipFill>
        <p:spPr>
          <a:xfrm>
            <a:off x="5992920" y="1538280"/>
            <a:ext cx="2706480" cy="27068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3"/>
          <p:cNvSpPr/>
          <p:nvPr/>
        </p:nvSpPr>
        <p:spPr>
          <a:xfrm>
            <a:off x="419040" y="4892760"/>
            <a:ext cx="872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solution for 2,000,000 photons without tempor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adaptiv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photon collection in the temporal domain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0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1372320" y="42451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5"/>
          <p:cNvSpPr/>
          <p:nvPr/>
        </p:nvSpPr>
        <p:spPr>
          <a:xfrm>
            <a:off x="4287600" y="42451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6"/>
          <p:cNvSpPr/>
          <p:nvPr/>
        </p:nvSpPr>
        <p:spPr>
          <a:xfrm>
            <a:off x="7133760" y="4245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9" descr=""/>
          <p:cNvPicPr/>
          <p:nvPr/>
        </p:nvPicPr>
        <p:blipFill>
          <a:blip r:embed="rId1"/>
          <a:stretch/>
        </p:blipFill>
        <p:spPr>
          <a:xfrm>
            <a:off x="5992920" y="1538280"/>
            <a:ext cx="2706480" cy="2706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"/>
          <p:cNvPicPr/>
          <p:nvPr/>
        </p:nvPicPr>
        <p:blipFill>
          <a:blip r:embed="rId2"/>
          <a:stretch/>
        </p:blipFill>
        <p:spPr>
          <a:xfrm>
            <a:off x="3206880" y="1538280"/>
            <a:ext cx="2705040" cy="27068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"/>
          <p:cNvPicPr/>
          <p:nvPr/>
        </p:nvPicPr>
        <p:blipFill>
          <a:blip r:embed="rId3"/>
          <a:stretch/>
        </p:blipFill>
        <p:spPr>
          <a:xfrm>
            <a:off x="419040" y="1538280"/>
            <a:ext cx="2706840" cy="2706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"/>
          <p:cNvPicPr/>
          <p:nvPr/>
        </p:nvPicPr>
        <p:blipFill>
          <a:blip r:embed="rId4"/>
          <a:stretch/>
        </p:blipFill>
        <p:spPr>
          <a:xfrm>
            <a:off x="3206880" y="1538280"/>
            <a:ext cx="2705040" cy="2706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"/>
          <p:cNvPicPr/>
          <p:nvPr/>
        </p:nvPicPr>
        <p:blipFill>
          <a:blip r:embed="rId5"/>
          <a:stretch/>
        </p:blipFill>
        <p:spPr>
          <a:xfrm>
            <a:off x="5992920" y="1538280"/>
            <a:ext cx="2706480" cy="270684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3"/>
          <p:cNvSpPr/>
          <p:nvPr/>
        </p:nvSpPr>
        <p:spPr>
          <a:xfrm>
            <a:off x="419040" y="4892760"/>
            <a:ext cx="872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solution for 2,000,000 photons without tempor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adaptiv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photon collection in the temporal domain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0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4"/>
          <p:cNvSpPr/>
          <p:nvPr/>
        </p:nvSpPr>
        <p:spPr>
          <a:xfrm>
            <a:off x="1372320" y="42451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5"/>
          <p:cNvSpPr/>
          <p:nvPr/>
        </p:nvSpPr>
        <p:spPr>
          <a:xfrm>
            <a:off x="4287600" y="42451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6"/>
          <p:cNvSpPr/>
          <p:nvPr/>
        </p:nvSpPr>
        <p:spPr>
          <a:xfrm>
            <a:off x="7133760" y="4245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9" descr=""/>
          <p:cNvPicPr/>
          <p:nvPr/>
        </p:nvPicPr>
        <p:blipFill>
          <a:blip r:embed="rId1"/>
          <a:stretch/>
        </p:blipFill>
        <p:spPr>
          <a:xfrm>
            <a:off x="5992920" y="1538280"/>
            <a:ext cx="2706480" cy="27068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"/>
          <p:cNvPicPr/>
          <p:nvPr/>
        </p:nvPicPr>
        <p:blipFill>
          <a:blip r:embed="rId2"/>
          <a:stretch/>
        </p:blipFill>
        <p:spPr>
          <a:xfrm>
            <a:off x="3206880" y="1538280"/>
            <a:ext cx="2705040" cy="27068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"/>
          <p:cNvPicPr/>
          <p:nvPr/>
        </p:nvPicPr>
        <p:blipFill>
          <a:blip r:embed="rId3"/>
          <a:stretch/>
        </p:blipFill>
        <p:spPr>
          <a:xfrm>
            <a:off x="419040" y="1538280"/>
            <a:ext cx="2706840" cy="2706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"/>
          <p:cNvPicPr/>
          <p:nvPr/>
        </p:nvPicPr>
        <p:blipFill>
          <a:blip r:embed="rId4"/>
          <a:stretch/>
        </p:blipFill>
        <p:spPr>
          <a:xfrm>
            <a:off x="3206880" y="1538280"/>
            <a:ext cx="2705040" cy="27068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3"/>
          <p:cNvSpPr/>
          <p:nvPr/>
        </p:nvSpPr>
        <p:spPr>
          <a:xfrm>
            <a:off x="419040" y="4892760"/>
            <a:ext cx="872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solution for 2,000,000 photons without tempor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adaptiv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photon collection in the temporal domain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0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4"/>
          <p:cNvSpPr/>
          <p:nvPr/>
        </p:nvSpPr>
        <p:spPr>
          <a:xfrm>
            <a:off x="1372320" y="42451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5"/>
          <p:cNvSpPr/>
          <p:nvPr/>
        </p:nvSpPr>
        <p:spPr>
          <a:xfrm>
            <a:off x="4287600" y="42451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6"/>
          <p:cNvSpPr/>
          <p:nvPr/>
        </p:nvSpPr>
        <p:spPr>
          <a:xfrm>
            <a:off x="7133760" y="4245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18680" y="2883960"/>
            <a:ext cx="828036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77840" y="3252960"/>
            <a:ext cx="8521560" cy="3127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unding Volume Hierarch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VH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dely used to accelerate ray tracing and intersection compu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mitives of unvisited nodes are cull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efficiency of BVHs are measured by culling rati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TextBox 60"/>
          <p:cNvSpPr/>
          <p:nvPr/>
        </p:nvSpPr>
        <p:spPr>
          <a:xfrm>
            <a:off x="3371040" y="6380280"/>
            <a:ext cx="1630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mage : Sung-Eui Yo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18680" y="1587600"/>
            <a:ext cx="8318520" cy="455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jects are move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 is decreas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tructuring is requir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ynamic scene and BVH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그룹 19"/>
          <p:cNvGrpSpPr/>
          <p:nvPr/>
        </p:nvGrpSpPr>
        <p:grpSpPr>
          <a:xfrm>
            <a:off x="1017720" y="3778200"/>
            <a:ext cx="423720" cy="460440"/>
            <a:chOff x="1017720" y="3778200"/>
            <a:chExt cx="423720" cy="460440"/>
          </a:xfrm>
        </p:grpSpPr>
        <p:sp>
          <p:nvSpPr>
            <p:cNvPr id="73" name="타원 16"/>
            <p:cNvSpPr/>
            <p:nvPr/>
          </p:nvSpPr>
          <p:spPr>
            <a:xfrm>
              <a:off x="1017720" y="3778200"/>
              <a:ext cx="423720" cy="460440"/>
            </a:xfrm>
            <a:prstGeom prst="ellipse">
              <a:avLst/>
            </a:prstGeom>
            <a:solidFill>
              <a:srgbClr val="00aeae"/>
            </a:solidFill>
            <a:ln w="25560">
              <a:solidFill>
                <a:srgbClr val="00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직사각형 18"/>
            <p:cNvSpPr/>
            <p:nvPr/>
          </p:nvSpPr>
          <p:spPr>
            <a:xfrm>
              <a:off x="1017720" y="3778200"/>
              <a:ext cx="423720" cy="460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그룹 20"/>
          <p:cNvGrpSpPr/>
          <p:nvPr/>
        </p:nvGrpSpPr>
        <p:grpSpPr>
          <a:xfrm>
            <a:off x="1582560" y="4238640"/>
            <a:ext cx="424080" cy="461880"/>
            <a:chOff x="1582560" y="4238640"/>
            <a:chExt cx="424080" cy="461880"/>
          </a:xfrm>
        </p:grpSpPr>
        <p:sp>
          <p:nvSpPr>
            <p:cNvPr id="76" name="타원 21"/>
            <p:cNvSpPr/>
            <p:nvPr/>
          </p:nvSpPr>
          <p:spPr>
            <a:xfrm>
              <a:off x="1582560" y="4238640"/>
              <a:ext cx="424080" cy="461880"/>
            </a:xfrm>
            <a:prstGeom prst="ellipse">
              <a:avLst/>
            </a:prstGeom>
            <a:solidFill>
              <a:srgbClr val="00aeae"/>
            </a:solidFill>
            <a:ln w="25560">
              <a:solidFill>
                <a:srgbClr val="00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직사각형 22"/>
            <p:cNvSpPr/>
            <p:nvPr/>
          </p:nvSpPr>
          <p:spPr>
            <a:xfrm>
              <a:off x="1582560" y="4238640"/>
              <a:ext cx="424080" cy="461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그룹 26"/>
          <p:cNvGrpSpPr/>
          <p:nvPr/>
        </p:nvGrpSpPr>
        <p:grpSpPr>
          <a:xfrm>
            <a:off x="2243160" y="3484440"/>
            <a:ext cx="291960" cy="480960"/>
            <a:chOff x="2243160" y="3484440"/>
            <a:chExt cx="291960" cy="480960"/>
          </a:xfrm>
        </p:grpSpPr>
        <p:sp>
          <p:nvSpPr>
            <p:cNvPr id="79" name="이등변 삼각형 23"/>
            <p:cNvSpPr/>
            <p:nvPr/>
          </p:nvSpPr>
          <p:spPr>
            <a:xfrm>
              <a:off x="2243160" y="3484440"/>
              <a:ext cx="291960" cy="48096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25560">
              <a:solidFill>
                <a:srgbClr val="bc00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직사각형 24"/>
            <p:cNvSpPr/>
            <p:nvPr/>
          </p:nvSpPr>
          <p:spPr>
            <a:xfrm>
              <a:off x="2243160" y="3484440"/>
              <a:ext cx="291960" cy="480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그룹 27"/>
          <p:cNvGrpSpPr/>
          <p:nvPr/>
        </p:nvGrpSpPr>
        <p:grpSpPr>
          <a:xfrm>
            <a:off x="2733840" y="3297240"/>
            <a:ext cx="291960" cy="480960"/>
            <a:chOff x="2733840" y="3297240"/>
            <a:chExt cx="291960" cy="480960"/>
          </a:xfrm>
        </p:grpSpPr>
        <p:sp>
          <p:nvSpPr>
            <p:cNvPr id="82" name="이등변 삼각형 28"/>
            <p:cNvSpPr/>
            <p:nvPr/>
          </p:nvSpPr>
          <p:spPr>
            <a:xfrm>
              <a:off x="2733840" y="3297240"/>
              <a:ext cx="291960" cy="48096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25560">
              <a:solidFill>
                <a:srgbClr val="bc00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직사각형 29"/>
            <p:cNvSpPr/>
            <p:nvPr/>
          </p:nvSpPr>
          <p:spPr>
            <a:xfrm>
              <a:off x="2733840" y="3297240"/>
              <a:ext cx="291960" cy="480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직사각형 31"/>
          <p:cNvSpPr/>
          <p:nvPr/>
        </p:nvSpPr>
        <p:spPr>
          <a:xfrm>
            <a:off x="1017720" y="3778200"/>
            <a:ext cx="988920" cy="922320"/>
          </a:xfrm>
          <a:prstGeom prst="rect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직사각형 32"/>
          <p:cNvSpPr/>
          <p:nvPr/>
        </p:nvSpPr>
        <p:spPr>
          <a:xfrm>
            <a:off x="2243160" y="3297240"/>
            <a:ext cx="782640" cy="668160"/>
          </a:xfrm>
          <a:prstGeom prst="rect">
            <a:avLst/>
          </a:prstGeom>
          <a:noFill/>
          <a:ln w="381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그룹 33"/>
          <p:cNvGrpSpPr/>
          <p:nvPr/>
        </p:nvGrpSpPr>
        <p:grpSpPr>
          <a:xfrm>
            <a:off x="5456160" y="2835360"/>
            <a:ext cx="424080" cy="461880"/>
            <a:chOff x="5456160" y="2835360"/>
            <a:chExt cx="424080" cy="461880"/>
          </a:xfrm>
        </p:grpSpPr>
        <p:sp>
          <p:nvSpPr>
            <p:cNvPr id="87" name="타원 34"/>
            <p:cNvSpPr/>
            <p:nvPr/>
          </p:nvSpPr>
          <p:spPr>
            <a:xfrm>
              <a:off x="5456160" y="2835360"/>
              <a:ext cx="424080" cy="461880"/>
            </a:xfrm>
            <a:prstGeom prst="ellipse">
              <a:avLst/>
            </a:prstGeom>
            <a:solidFill>
              <a:srgbClr val="00aeae"/>
            </a:solidFill>
            <a:ln w="25560">
              <a:solidFill>
                <a:srgbClr val="00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직사각형 35"/>
            <p:cNvSpPr/>
            <p:nvPr/>
          </p:nvSpPr>
          <p:spPr>
            <a:xfrm>
              <a:off x="5456160" y="2835360"/>
              <a:ext cx="424080" cy="461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그룹 36"/>
          <p:cNvGrpSpPr/>
          <p:nvPr/>
        </p:nvGrpSpPr>
        <p:grpSpPr>
          <a:xfrm>
            <a:off x="6021360" y="3297240"/>
            <a:ext cx="423720" cy="461880"/>
            <a:chOff x="6021360" y="3297240"/>
            <a:chExt cx="423720" cy="461880"/>
          </a:xfrm>
        </p:grpSpPr>
        <p:sp>
          <p:nvSpPr>
            <p:cNvPr id="90" name="타원 37"/>
            <p:cNvSpPr/>
            <p:nvPr/>
          </p:nvSpPr>
          <p:spPr>
            <a:xfrm>
              <a:off x="6021360" y="3297240"/>
              <a:ext cx="423720" cy="461880"/>
            </a:xfrm>
            <a:prstGeom prst="ellipse">
              <a:avLst/>
            </a:prstGeom>
            <a:solidFill>
              <a:srgbClr val="00aeae"/>
            </a:solidFill>
            <a:ln w="25560">
              <a:solidFill>
                <a:srgbClr val="00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직사각형 38"/>
            <p:cNvSpPr/>
            <p:nvPr/>
          </p:nvSpPr>
          <p:spPr>
            <a:xfrm>
              <a:off x="6021360" y="3297240"/>
              <a:ext cx="423720" cy="461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그룹 39"/>
          <p:cNvGrpSpPr/>
          <p:nvPr/>
        </p:nvGrpSpPr>
        <p:grpSpPr>
          <a:xfrm>
            <a:off x="5456160" y="3570120"/>
            <a:ext cx="292320" cy="481320"/>
            <a:chOff x="5456160" y="3570120"/>
            <a:chExt cx="292320" cy="481320"/>
          </a:xfrm>
        </p:grpSpPr>
        <p:sp>
          <p:nvSpPr>
            <p:cNvPr id="93" name="이등변 삼각형 40"/>
            <p:cNvSpPr/>
            <p:nvPr/>
          </p:nvSpPr>
          <p:spPr>
            <a:xfrm>
              <a:off x="5456160" y="3570120"/>
              <a:ext cx="292320" cy="4813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25560">
              <a:solidFill>
                <a:srgbClr val="bc00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직사각형 41"/>
            <p:cNvSpPr/>
            <p:nvPr/>
          </p:nvSpPr>
          <p:spPr>
            <a:xfrm>
              <a:off x="5456160" y="3570120"/>
              <a:ext cx="292320" cy="4813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그룹 42"/>
          <p:cNvGrpSpPr/>
          <p:nvPr/>
        </p:nvGrpSpPr>
        <p:grpSpPr>
          <a:xfrm>
            <a:off x="5946840" y="3381480"/>
            <a:ext cx="291960" cy="480960"/>
            <a:chOff x="5946840" y="3381480"/>
            <a:chExt cx="291960" cy="480960"/>
          </a:xfrm>
        </p:grpSpPr>
        <p:sp>
          <p:nvSpPr>
            <p:cNvPr id="96" name="이등변 삼각형 43"/>
            <p:cNvSpPr/>
            <p:nvPr/>
          </p:nvSpPr>
          <p:spPr>
            <a:xfrm>
              <a:off x="5946840" y="3381480"/>
              <a:ext cx="291960" cy="48096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25560">
              <a:solidFill>
                <a:srgbClr val="bc00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직사각형 44"/>
            <p:cNvSpPr/>
            <p:nvPr/>
          </p:nvSpPr>
          <p:spPr>
            <a:xfrm>
              <a:off x="5946840" y="3381480"/>
              <a:ext cx="291960" cy="480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직사각형 45"/>
          <p:cNvSpPr/>
          <p:nvPr/>
        </p:nvSpPr>
        <p:spPr>
          <a:xfrm>
            <a:off x="5456160" y="2835360"/>
            <a:ext cx="988920" cy="923760"/>
          </a:xfrm>
          <a:prstGeom prst="rect">
            <a:avLst/>
          </a:prstGeom>
          <a:noFill/>
          <a:ln w="381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46"/>
          <p:cNvSpPr/>
          <p:nvPr/>
        </p:nvSpPr>
        <p:spPr>
          <a:xfrm>
            <a:off x="5456160" y="3381480"/>
            <a:ext cx="782640" cy="669960"/>
          </a:xfrm>
          <a:prstGeom prst="rect">
            <a:avLst/>
          </a:prstGeom>
          <a:noFill/>
          <a:ln w="381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그룹 75"/>
          <p:cNvGrpSpPr/>
          <p:nvPr/>
        </p:nvGrpSpPr>
        <p:grpSpPr>
          <a:xfrm>
            <a:off x="5451480" y="4616280"/>
            <a:ext cx="423720" cy="462240"/>
            <a:chOff x="5451480" y="4616280"/>
            <a:chExt cx="423720" cy="462240"/>
          </a:xfrm>
        </p:grpSpPr>
        <p:sp>
          <p:nvSpPr>
            <p:cNvPr id="101" name="타원 76"/>
            <p:cNvSpPr/>
            <p:nvPr/>
          </p:nvSpPr>
          <p:spPr>
            <a:xfrm>
              <a:off x="5451480" y="4616280"/>
              <a:ext cx="423720" cy="462240"/>
            </a:xfrm>
            <a:prstGeom prst="ellipse">
              <a:avLst/>
            </a:prstGeom>
            <a:solidFill>
              <a:srgbClr val="00aeae"/>
            </a:solidFill>
            <a:ln w="25560">
              <a:solidFill>
                <a:srgbClr val="00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직사각형 77"/>
            <p:cNvSpPr/>
            <p:nvPr/>
          </p:nvSpPr>
          <p:spPr>
            <a:xfrm>
              <a:off x="5451480" y="4616280"/>
              <a:ext cx="423720" cy="462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그룹 78"/>
          <p:cNvGrpSpPr/>
          <p:nvPr/>
        </p:nvGrpSpPr>
        <p:grpSpPr>
          <a:xfrm>
            <a:off x="6016680" y="5078520"/>
            <a:ext cx="423720" cy="461880"/>
            <a:chOff x="6016680" y="5078520"/>
            <a:chExt cx="423720" cy="461880"/>
          </a:xfrm>
        </p:grpSpPr>
        <p:sp>
          <p:nvSpPr>
            <p:cNvPr id="104" name="타원 79"/>
            <p:cNvSpPr/>
            <p:nvPr/>
          </p:nvSpPr>
          <p:spPr>
            <a:xfrm>
              <a:off x="6016680" y="5078520"/>
              <a:ext cx="423720" cy="461880"/>
            </a:xfrm>
            <a:prstGeom prst="ellipse">
              <a:avLst/>
            </a:prstGeom>
            <a:solidFill>
              <a:srgbClr val="00aeae"/>
            </a:solidFill>
            <a:ln w="25560">
              <a:solidFill>
                <a:srgbClr val="00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직사각형 80"/>
            <p:cNvSpPr/>
            <p:nvPr/>
          </p:nvSpPr>
          <p:spPr>
            <a:xfrm>
              <a:off x="6016680" y="5078520"/>
              <a:ext cx="423720" cy="461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그룹 81"/>
          <p:cNvGrpSpPr/>
          <p:nvPr/>
        </p:nvGrpSpPr>
        <p:grpSpPr>
          <a:xfrm>
            <a:off x="5451480" y="5351400"/>
            <a:ext cx="291960" cy="480960"/>
            <a:chOff x="5451480" y="5351400"/>
            <a:chExt cx="291960" cy="480960"/>
          </a:xfrm>
        </p:grpSpPr>
        <p:sp>
          <p:nvSpPr>
            <p:cNvPr id="107" name="이등변 삼각형 82"/>
            <p:cNvSpPr/>
            <p:nvPr/>
          </p:nvSpPr>
          <p:spPr>
            <a:xfrm>
              <a:off x="5451480" y="5351400"/>
              <a:ext cx="291960" cy="48096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25560">
              <a:solidFill>
                <a:srgbClr val="bc00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직사각형 83"/>
            <p:cNvSpPr/>
            <p:nvPr/>
          </p:nvSpPr>
          <p:spPr>
            <a:xfrm>
              <a:off x="5451480" y="5351400"/>
              <a:ext cx="291960" cy="480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그룹 84"/>
          <p:cNvGrpSpPr/>
          <p:nvPr/>
        </p:nvGrpSpPr>
        <p:grpSpPr>
          <a:xfrm>
            <a:off x="5942160" y="5162400"/>
            <a:ext cx="291960" cy="481320"/>
            <a:chOff x="5942160" y="5162400"/>
            <a:chExt cx="291960" cy="481320"/>
          </a:xfrm>
        </p:grpSpPr>
        <p:sp>
          <p:nvSpPr>
            <p:cNvPr id="110" name="이등변 삼각형 85"/>
            <p:cNvSpPr/>
            <p:nvPr/>
          </p:nvSpPr>
          <p:spPr>
            <a:xfrm>
              <a:off x="5942160" y="5162400"/>
              <a:ext cx="291960" cy="4813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25560">
              <a:solidFill>
                <a:srgbClr val="bc00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직사각형 86"/>
            <p:cNvSpPr/>
            <p:nvPr/>
          </p:nvSpPr>
          <p:spPr>
            <a:xfrm>
              <a:off x="5942160" y="5162400"/>
              <a:ext cx="291960" cy="4813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직사각형 89"/>
          <p:cNvSpPr/>
          <p:nvPr/>
        </p:nvSpPr>
        <p:spPr>
          <a:xfrm>
            <a:off x="5451480" y="4616280"/>
            <a:ext cx="423720" cy="1216080"/>
          </a:xfrm>
          <a:prstGeom prst="rect">
            <a:avLst/>
          </a:prstGeom>
          <a:noFill/>
          <a:ln w="381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90"/>
          <p:cNvSpPr/>
          <p:nvPr/>
        </p:nvSpPr>
        <p:spPr>
          <a:xfrm>
            <a:off x="5942160" y="5078520"/>
            <a:ext cx="498240" cy="565200"/>
          </a:xfrm>
          <a:prstGeom prst="rect">
            <a:avLst/>
          </a:prstGeom>
          <a:noFill/>
          <a:ln w="381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오른쪽 화살표 91"/>
          <p:cNvSpPr/>
          <p:nvPr/>
        </p:nvSpPr>
        <p:spPr>
          <a:xfrm>
            <a:off x="3389040" y="3592080"/>
            <a:ext cx="1152720" cy="918720"/>
          </a:xfrm>
          <a:prstGeom prst="rightArrow">
            <a:avLst>
              <a:gd name="adj1" fmla="val 50000"/>
              <a:gd name="adj2" fmla="val 49392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직선 화살표 연결선 93"/>
          <p:cNvCxnSpPr/>
          <p:nvPr/>
        </p:nvCxnSpPr>
        <p:spPr>
          <a:xfrm flipV="1">
            <a:off x="4862880" y="2556720"/>
            <a:ext cx="1375560" cy="1686600"/>
          </a:xfrm>
          <a:prstGeom prst="straightConnector1">
            <a:avLst/>
          </a:prstGeom>
          <a:ln w="38160">
            <a:solidFill>
              <a:srgbClr val="ea8b00"/>
            </a:solidFill>
            <a:prstDash val="sysDot"/>
            <a:miter/>
            <a:tailEnd len="med" type="arrow" w="med"/>
          </a:ln>
        </p:spPr>
      </p:cxnSp>
      <p:cxnSp>
        <p:nvCxnSpPr>
          <p:cNvPr id="116" name="직선 화살표 연결선 96"/>
          <p:cNvCxnSpPr/>
          <p:nvPr/>
        </p:nvCxnSpPr>
        <p:spPr>
          <a:xfrm flipV="1">
            <a:off x="4862880" y="4318920"/>
            <a:ext cx="1375560" cy="1688040"/>
          </a:xfrm>
          <a:prstGeom prst="straightConnector1">
            <a:avLst/>
          </a:prstGeom>
          <a:ln w="38160">
            <a:solidFill>
              <a:srgbClr val="ea8b00"/>
            </a:solidFill>
            <a:prstDash val="sysDot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update structure of BVH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fitting onl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 not upd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ust refit exist bounding volum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lling efficiency may decease as the scene is proceed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lly reconstru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pdate the structure every fram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 culling efficienc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igh reconstruction overhea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 parts of BVHs are reconstructed unnecessaril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lective Reconstru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date the structure when it is neede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onstruct structures for some parts of BVHs that needs reconstru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ther parts are just refitt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 maintain culling efficienc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void unnecessary reconstruction overhead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How to know whether the updated is needed or not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Ide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gree of overlap between two BVs</a:t>
            </a:r>
            <a:r>
              <a:rPr b="1" lang="ko-K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 good cue for the decis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tric based approac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imate culling efficienc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imate restructuring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VH Metri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8680" y="1587600"/>
            <a:ext cx="8318520" cy="129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st Model for Intersection Queries(CM-IQ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asure the expected number of intersection test performed during intersection queri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 total number of ray intersected BV(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roo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is need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stimated it with that of previous fram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282680" y="2690640"/>
            <a:ext cx="5127480" cy="9478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2097000" y="3638520"/>
            <a:ext cx="678204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(n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the value of CM-IQ associated with sub-BVH(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(n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the probability that a node n will be accessed during an intersection 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lea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the relative cost of performing an intersection test with a prim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2419200" y="4902120"/>
            <a:ext cx="195444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cp:keywords/>
  <dc:language>en-US</dc:language>
  <cp:lastModifiedBy>DukSu Kim</cp:lastModifiedBy>
  <cp:lastPrinted>1998-03-18T16:08:13Z</cp:lastPrinted>
  <dcterms:modified xsi:type="dcterms:W3CDTF">2008-11-05T21:51:40Z</dcterms:modified>
  <cp:revision>1875</cp:revision>
  <dc:subject/>
  <dc:title>Steven F. Ashby Center for Applied Scientific Computing  Month DD, 1997</dc:title>
</cp:coreProperties>
</file>