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9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24000" y="3257640"/>
            <a:ext cx="6748560" cy="308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2893680" y="518760"/>
            <a:ext cx="3414600" cy="256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5213520" y="0"/>
            <a:ext cx="3985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213520" y="6516720"/>
            <a:ext cx="3985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6516720"/>
            <a:ext cx="3984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3984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894040" y="51912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24000" y="3259080"/>
            <a:ext cx="6748560" cy="3084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A1E86416-AC99-4A48-AA0B-32DBFF8A55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Realistic Ren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for Translucent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Minhyuk 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Emission &amp; Absor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miss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ergy from luminous particle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diance Exponentially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  <a:ea typeface="굴림"/>
              </a:rPr>
              <a:t>increas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with distanc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bsorp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conversion of energy to other form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diance Exponentially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  <a:ea typeface="굴림"/>
              </a:rPr>
              <a:t>decreas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with distanc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ight heading in one direction is scattered to other direc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ut-scatt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diance Exponentially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  <a:ea typeface="굴림"/>
              </a:rPr>
              <a:t>decreas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with distanc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-scatt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athering all effects of scattering from other direction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exponenti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ecrease of radiance with distance due to absorption and out-scattering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eer’s la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2424240" y="5388120"/>
                <a:ext cx="4295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Picture 3" descr="C:\Documents and Settings\Administrator\바탕 화면\Beer_lambert.png"/>
          <p:cNvPicPr/>
          <p:nvPr/>
        </p:nvPicPr>
        <p:blipFill>
          <a:blip r:embed="rId1"/>
          <a:stretch/>
        </p:blipFill>
        <p:spPr>
          <a:xfrm>
            <a:off x="3048120" y="2943360"/>
            <a:ext cx="30477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Volumetric propert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bsorption/Scattering coefficients σ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z)/σ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z) ar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material properti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Homogeneou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mediu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Absorption and Scattering coefficients ar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cons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for every plac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e will consider Homogeneous media onl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n-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gral over all directions of the radiance weighted with p(ω, ω’)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Phase fun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Angular distribution of scattered radia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2332080" y="2789280"/>
                <a:ext cx="44784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acc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acc>
                        <m:r>
                          <m:t xml:space="preserve">)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" name="타원 4"/>
          <p:cNvSpPr/>
          <p:nvPr/>
        </p:nvSpPr>
        <p:spPr>
          <a:xfrm>
            <a:off x="4287960" y="2936880"/>
            <a:ext cx="1089000" cy="693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hase fun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imilar with BRDF concep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  <a:ea typeface="굴림"/>
              </a:rPr>
              <a:t>Material proper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ciproca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ergy Conserv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Isotropic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hase fun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Equal scattering in all direc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1"/>
              <p:cNvSpPr txBox="1"/>
              <p:nvPr/>
            </p:nvSpPr>
            <p:spPr>
              <a:xfrm>
                <a:off x="3666960" y="4944960"/>
                <a:ext cx="18115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diative Transport Equ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utting together, we can derive Radiative Transport Equation (RTE)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’s almost impossible to solve this equation analyticall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n, how to use this equation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698400" y="2720880"/>
                <a:ext cx="77486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acc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  <m:sSup>
                          <m:e>
                            <m:r>
                              <m:t xml:space="preserve">dω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vs. 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e can approximate light scattering into two extreme cas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ingle scatt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hen the density is tenuous (extremely low)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sume that multiple scatterings are negligibl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ple scatt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acts like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  <a:ea typeface="굴림"/>
              </a:rPr>
              <a:t>diffuse refl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of normal surface scattering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e Neumann seri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irst-order approx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or multiple scattering, Repeat the iteration infinitel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 else …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그룹 39"/>
          <p:cNvGrpSpPr/>
          <p:nvPr/>
        </p:nvGrpSpPr>
        <p:grpSpPr>
          <a:xfrm>
            <a:off x="1614600" y="2932200"/>
            <a:ext cx="5916600" cy="1058760"/>
            <a:chOff x="1614600" y="2932200"/>
            <a:chExt cx="5916600" cy="1058760"/>
          </a:xfrm>
        </p:grpSpPr>
        <mc:AlternateContent>
          <mc:Choice xmlns:a14="http://schemas.microsoft.com/office/drawing/2010/main" Requires="a14">
            <p:sp>
              <p:nvSpPr>
                <p:cNvPr id="107" name="Object 2"/>
                <p:cNvSpPr txBox="1"/>
                <p:nvPr/>
              </p:nvSpPr>
              <p:spPr>
                <a:xfrm>
                  <a:off x="1614600" y="3326040"/>
                  <a:ext cx="5916600" cy="66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L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L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⃗"/>
                            </m:accPr>
                            <m:e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acc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dω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nary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08" name="그룹 38"/>
            <p:cNvGrpSpPr/>
            <p:nvPr/>
          </p:nvGrpSpPr>
          <p:grpSpPr>
            <a:xfrm>
              <a:off x="5081760" y="2932200"/>
              <a:ext cx="1616760" cy="1058760"/>
              <a:chOff x="5081760" y="2932200"/>
              <a:chExt cx="1616760" cy="1058760"/>
            </a:xfrm>
          </p:grpSpPr>
          <p:sp>
            <p:nvSpPr>
              <p:cNvPr id="109" name="타원 6"/>
              <p:cNvSpPr/>
              <p:nvPr/>
            </p:nvSpPr>
            <p:spPr>
              <a:xfrm>
                <a:off x="5081760" y="3414960"/>
                <a:ext cx="768960" cy="576000"/>
              </a:xfrm>
              <a:prstGeom prst="ellipse">
                <a:avLst/>
              </a:prstGeom>
              <a:solidFill>
                <a:srgbClr val="c00000">
                  <a:alpha val="10000"/>
                </a:srgbClr>
              </a:solidFill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직선 연결선 22"/>
              <p:cNvSpPr/>
              <p:nvPr/>
            </p:nvSpPr>
            <p:spPr>
              <a:xfrm flipV="1">
                <a:off x="5466240" y="3125880"/>
                <a:ext cx="148320" cy="28872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직선 연결선 24"/>
              <p:cNvSpPr/>
              <p:nvPr/>
            </p:nvSpPr>
            <p:spPr>
              <a:xfrm>
                <a:off x="5602320" y="3130200"/>
                <a:ext cx="381240" cy="144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Box 26"/>
              <p:cNvSpPr/>
              <p:nvPr/>
            </p:nvSpPr>
            <p:spPr>
              <a:xfrm>
                <a:off x="5956920" y="2932200"/>
                <a:ext cx="74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Inp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그룹 37"/>
            <p:cNvGrpSpPr/>
            <p:nvPr/>
          </p:nvGrpSpPr>
          <p:grpSpPr>
            <a:xfrm>
              <a:off x="1644840" y="2970720"/>
              <a:ext cx="2160720" cy="893520"/>
              <a:chOff x="1644840" y="2970720"/>
              <a:chExt cx="2160720" cy="893520"/>
            </a:xfrm>
          </p:grpSpPr>
          <p:sp>
            <p:nvSpPr>
              <p:cNvPr id="114" name="타원 7"/>
              <p:cNvSpPr/>
              <p:nvPr/>
            </p:nvSpPr>
            <p:spPr>
              <a:xfrm>
                <a:off x="1644840" y="3215880"/>
                <a:ext cx="846000" cy="648360"/>
              </a:xfrm>
              <a:prstGeom prst="ellipse">
                <a:avLst/>
              </a:prstGeom>
              <a:solidFill>
                <a:srgbClr val="c00000">
                  <a:alpha val="10000"/>
                </a:srgbClr>
              </a:solidFill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직선 연결선 31"/>
              <p:cNvSpPr/>
              <p:nvPr/>
            </p:nvSpPr>
            <p:spPr>
              <a:xfrm flipV="1">
                <a:off x="2367000" y="3164760"/>
                <a:ext cx="272160" cy="14544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직선 연결선 32"/>
              <p:cNvSpPr/>
              <p:nvPr/>
            </p:nvSpPr>
            <p:spPr>
              <a:xfrm>
                <a:off x="2627280" y="3169440"/>
                <a:ext cx="256320" cy="144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Box 33"/>
              <p:cNvSpPr/>
              <p:nvPr/>
            </p:nvSpPr>
            <p:spPr>
              <a:xfrm>
                <a:off x="2873520" y="2970720"/>
                <a:ext cx="93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utp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Diffusion Approxi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highly scattering media, a ray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encounters many particle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nd tends to scatter almost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uniformly (isotropic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ven if the initial light source distribution and the phase function are highly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anisotropi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 requires string scattering. i.e.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σ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ahoma"/>
                <a:ea typeface="굴림"/>
              </a:rPr>
              <a:t>s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 &gt;&gt; σ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ahoma"/>
                <a:ea typeface="굴림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What is translucen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ranslucent  /trnzlusnt/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1. ADJ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f a material is translucent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ome light can pass through 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x) The building is roofed entirely with translucent corrugated plastic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2. ADJ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You use translucent to describe something that has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low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ppear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as if light is passing through it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x) She had fair hair, blue eyes and translucent skin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Diffusion Approxi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athematical Express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φ(x): Total radiance (Scalar irradianc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(x): Net flux vector (Vector irradianc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내용 개체 틀 3"/>
              <p:cNvSpPr txBox="1"/>
              <p:nvPr/>
            </p:nvSpPr>
            <p:spPr>
              <a:xfrm>
                <a:off x="2757600" y="2313000"/>
                <a:ext cx="3630600" cy="20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dω</m:t>
                            </m:r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dω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tal radi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et flux vect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otal radiance &amp; Net flux fl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그룹 37"/>
          <p:cNvGrpSpPr/>
          <p:nvPr/>
        </p:nvGrpSpPr>
        <p:grpSpPr>
          <a:xfrm>
            <a:off x="3607920" y="4465800"/>
            <a:ext cx="1659240" cy="1593000"/>
            <a:chOff x="3607920" y="4465800"/>
            <a:chExt cx="1659240" cy="1593000"/>
          </a:xfrm>
        </p:grpSpPr>
        <p:sp>
          <p:nvSpPr>
            <p:cNvPr id="126" name="타원 36"/>
            <p:cNvSpPr/>
            <p:nvPr/>
          </p:nvSpPr>
          <p:spPr>
            <a:xfrm>
              <a:off x="4257360" y="4765680"/>
              <a:ext cx="1009800" cy="100980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그룹 74"/>
            <p:cNvGrpSpPr/>
            <p:nvPr/>
          </p:nvGrpSpPr>
          <p:grpSpPr>
            <a:xfrm>
              <a:off x="3607920" y="4465800"/>
              <a:ext cx="1607400" cy="1593000"/>
              <a:chOff x="3607920" y="4465800"/>
              <a:chExt cx="1607400" cy="1593000"/>
            </a:xfrm>
          </p:grpSpPr>
          <p:cxnSp>
            <p:nvCxnSpPr>
              <p:cNvPr id="128" name="직선 화살표 연결선 66"/>
              <p:cNvCxnSpPr/>
              <p:nvPr/>
            </p:nvCxnSpPr>
            <p:spPr>
              <a:xfrm flipH="1">
                <a:off x="4761000" y="4465800"/>
                <a:ext cx="2160" cy="6915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29" name="직선 화살표 연결선 67"/>
              <p:cNvCxnSpPr/>
              <p:nvPr/>
            </p:nvCxnSpPr>
            <p:spPr>
              <a:xfrm>
                <a:off x="4083120" y="4580280"/>
                <a:ext cx="608040" cy="6105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30" name="직선 화살표 연결선 68"/>
              <p:cNvCxnSpPr/>
              <p:nvPr/>
            </p:nvCxnSpPr>
            <p:spPr>
              <a:xfrm>
                <a:off x="3607920" y="5262840"/>
                <a:ext cx="104580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31" name="직선 화살표 연결선 69"/>
              <p:cNvCxnSpPr/>
              <p:nvPr/>
            </p:nvCxnSpPr>
            <p:spPr>
              <a:xfrm flipH="1">
                <a:off x="4831200" y="4829400"/>
                <a:ext cx="371160" cy="3686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32" name="직선 화살표 연결선 70"/>
              <p:cNvCxnSpPr/>
              <p:nvPr/>
            </p:nvCxnSpPr>
            <p:spPr>
              <a:xfrm flipH="1" flipV="1">
                <a:off x="4831200" y="5331600"/>
                <a:ext cx="371160" cy="3686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33" name="직선 화살표 연결선 71"/>
              <p:cNvCxnSpPr/>
              <p:nvPr/>
            </p:nvCxnSpPr>
            <p:spPr>
              <a:xfrm flipH="1" flipV="1">
                <a:off x="4754520" y="5367600"/>
                <a:ext cx="2160" cy="6915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34" name="직선 화살표 연결선 72"/>
              <p:cNvCxnSpPr/>
              <p:nvPr/>
            </p:nvCxnSpPr>
            <p:spPr>
              <a:xfrm flipV="1">
                <a:off x="4074840" y="5335200"/>
                <a:ext cx="608040" cy="6105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35" name="직선 화살표 연결선 73"/>
              <p:cNvCxnSpPr/>
              <p:nvPr/>
            </p:nvCxnSpPr>
            <p:spPr>
              <a:xfrm flipH="1">
                <a:off x="4865400" y="5267160"/>
                <a:ext cx="35028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</p:grpSp>
      </p:grpSp>
      <p:sp>
        <p:nvSpPr>
          <p:cNvPr id="136" name="타원 34"/>
          <p:cNvSpPr/>
          <p:nvPr/>
        </p:nvSpPr>
        <p:spPr>
          <a:xfrm>
            <a:off x="2101680" y="2457360"/>
            <a:ext cx="1187640" cy="1187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타원 35"/>
          <p:cNvSpPr/>
          <p:nvPr/>
        </p:nvSpPr>
        <p:spPr>
          <a:xfrm>
            <a:off x="5840280" y="2705040"/>
            <a:ext cx="693720" cy="69372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그룹 21"/>
          <p:cNvGrpSpPr/>
          <p:nvPr/>
        </p:nvGrpSpPr>
        <p:grpSpPr>
          <a:xfrm>
            <a:off x="1887480" y="2239560"/>
            <a:ext cx="1611360" cy="1623960"/>
            <a:chOff x="1887480" y="2239560"/>
            <a:chExt cx="1611360" cy="1623960"/>
          </a:xfrm>
        </p:grpSpPr>
        <p:cxnSp>
          <p:nvCxnSpPr>
            <p:cNvPr id="139" name="직선 화살표 연결선 5"/>
            <p:cNvCxnSpPr/>
            <p:nvPr/>
          </p:nvCxnSpPr>
          <p:spPr>
            <a:xfrm flipH="1">
              <a:off x="2693520" y="2239560"/>
              <a:ext cx="2160" cy="697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40" name="직선 화살표 연결선 6"/>
            <p:cNvCxnSpPr/>
            <p:nvPr/>
          </p:nvCxnSpPr>
          <p:spPr>
            <a:xfrm>
              <a:off x="2122560" y="2481120"/>
              <a:ext cx="491760" cy="494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41" name="직선 화살표 연결선 8"/>
            <p:cNvCxnSpPr/>
            <p:nvPr/>
          </p:nvCxnSpPr>
          <p:spPr>
            <a:xfrm>
              <a:off x="1887480" y="3048840"/>
              <a:ext cx="6969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42" name="직선 화살표 연결선 9"/>
            <p:cNvCxnSpPr/>
            <p:nvPr/>
          </p:nvCxnSpPr>
          <p:spPr>
            <a:xfrm flipH="1">
              <a:off x="2776320" y="2489760"/>
              <a:ext cx="494280" cy="49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43" name="직선 화살표 연결선 16"/>
            <p:cNvCxnSpPr/>
            <p:nvPr/>
          </p:nvCxnSpPr>
          <p:spPr>
            <a:xfrm flipH="1" flipV="1">
              <a:off x="2770560" y="3141000"/>
              <a:ext cx="494640" cy="491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44" name="직선 화살표 연결선 17"/>
            <p:cNvCxnSpPr/>
            <p:nvPr/>
          </p:nvCxnSpPr>
          <p:spPr>
            <a:xfrm flipH="1" flipV="1">
              <a:off x="2687400" y="3166560"/>
              <a:ext cx="2160" cy="697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45" name="직선 화살표 연결선 18"/>
            <p:cNvCxnSpPr/>
            <p:nvPr/>
          </p:nvCxnSpPr>
          <p:spPr>
            <a:xfrm flipV="1">
              <a:off x="2114640" y="3133080"/>
              <a:ext cx="491760" cy="494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46" name="직선 화살표 연결선 19"/>
            <p:cNvCxnSpPr/>
            <p:nvPr/>
          </p:nvCxnSpPr>
          <p:spPr>
            <a:xfrm flipH="1">
              <a:off x="2802240" y="3053160"/>
              <a:ext cx="6969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</p:grpSp>
      <p:grpSp>
        <p:nvGrpSpPr>
          <p:cNvPr id="147" name="그룹 32"/>
          <p:cNvGrpSpPr/>
          <p:nvPr/>
        </p:nvGrpSpPr>
        <p:grpSpPr>
          <a:xfrm>
            <a:off x="5646600" y="2505240"/>
            <a:ext cx="1087560" cy="1093680"/>
            <a:chOff x="5646600" y="2505240"/>
            <a:chExt cx="1087560" cy="1093680"/>
          </a:xfrm>
        </p:grpSpPr>
        <p:cxnSp>
          <p:nvCxnSpPr>
            <p:cNvPr id="148" name="직선 화살표 연결선 23"/>
            <p:cNvCxnSpPr/>
            <p:nvPr/>
          </p:nvCxnSpPr>
          <p:spPr>
            <a:xfrm flipH="1">
              <a:off x="6190560" y="2505240"/>
              <a:ext cx="1440" cy="438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49" name="직선 화살표 연결선 24"/>
            <p:cNvCxnSpPr/>
            <p:nvPr/>
          </p:nvCxnSpPr>
          <p:spPr>
            <a:xfrm>
              <a:off x="5813280" y="2674800"/>
              <a:ext cx="309240" cy="311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50" name="직선 화살표 연결선 25"/>
            <p:cNvCxnSpPr/>
            <p:nvPr/>
          </p:nvCxnSpPr>
          <p:spPr>
            <a:xfrm>
              <a:off x="5646600" y="3050280"/>
              <a:ext cx="439200" cy="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51" name="직선 화살표 연결선 26"/>
            <p:cNvCxnSpPr/>
            <p:nvPr/>
          </p:nvCxnSpPr>
          <p:spPr>
            <a:xfrm flipH="1">
              <a:off x="6260400" y="2680200"/>
              <a:ext cx="311400" cy="309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52" name="직선 화살표 연결선 27"/>
            <p:cNvCxnSpPr/>
            <p:nvPr/>
          </p:nvCxnSpPr>
          <p:spPr>
            <a:xfrm flipH="1" flipV="1">
              <a:off x="6257160" y="3125880"/>
              <a:ext cx="311400" cy="309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53" name="직선 화살표 연결선 28"/>
            <p:cNvCxnSpPr/>
            <p:nvPr/>
          </p:nvCxnSpPr>
          <p:spPr>
            <a:xfrm flipH="1" flipV="1">
              <a:off x="6186600" y="3160800"/>
              <a:ext cx="1440" cy="438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54" name="직선 화살표 연결선 29"/>
            <p:cNvCxnSpPr/>
            <p:nvPr/>
          </p:nvCxnSpPr>
          <p:spPr>
            <a:xfrm flipV="1">
              <a:off x="5808240" y="3120840"/>
              <a:ext cx="309240" cy="311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155" name="직선 화살표 연결선 30"/>
            <p:cNvCxnSpPr/>
            <p:nvPr/>
          </p:nvCxnSpPr>
          <p:spPr>
            <a:xfrm flipH="1">
              <a:off x="6295320" y="3052800"/>
              <a:ext cx="439200" cy="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</p:cxnSp>
      </p:grpSp>
      <p:sp>
        <p:nvSpPr>
          <p:cNvPr id="156" name="TextBox 78"/>
          <p:cNvSpPr/>
          <p:nvPr/>
        </p:nvSpPr>
        <p:spPr>
          <a:xfrm>
            <a:off x="4361400" y="2820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오른쪽 화살표 76"/>
          <p:cNvSpPr/>
          <p:nvPr/>
        </p:nvSpPr>
        <p:spPr>
          <a:xfrm>
            <a:off x="4761000" y="5162400"/>
            <a:ext cx="774720" cy="212760"/>
          </a:xfrm>
          <a:prstGeom prst="rightArrow">
            <a:avLst>
              <a:gd name="adj1" fmla="val 50000"/>
              <a:gd name="adj2" fmla="val 14947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Fick’s la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bstitute diffusion app. equ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(2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o R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(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nd then integrate over ω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f there is no source (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= 0),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3075120" y="2660760"/>
                <a:ext cx="299556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dω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2865600" y="5403960"/>
                <a:ext cx="3412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re is net flux flow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from hig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diance density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to low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diance densit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Fick’s la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그룹 25"/>
          <p:cNvGrpSpPr/>
          <p:nvPr/>
        </p:nvGrpSpPr>
        <p:grpSpPr>
          <a:xfrm>
            <a:off x="2373480" y="2827440"/>
            <a:ext cx="4106520" cy="1665360"/>
            <a:chOff x="2373480" y="2827440"/>
            <a:chExt cx="4106520" cy="1665360"/>
          </a:xfrm>
        </p:grpSpPr>
        <p:sp>
          <p:nvSpPr>
            <p:cNvPr id="165" name="모서리가 둥근 직사각형 25"/>
            <p:cNvSpPr/>
            <p:nvPr/>
          </p:nvSpPr>
          <p:spPr>
            <a:xfrm>
              <a:off x="2373480" y="2827440"/>
              <a:ext cx="4106520" cy="1665360"/>
            </a:xfrm>
            <a:prstGeom prst="roundRect">
              <a:avLst>
                <a:gd name="adj" fmla="val 16667"/>
              </a:avLst>
            </a:prstGeom>
            <a:solidFill>
              <a:srgbClr val="ffc00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그룹 21"/>
            <p:cNvGrpSpPr/>
            <p:nvPr/>
          </p:nvGrpSpPr>
          <p:grpSpPr>
            <a:xfrm>
              <a:off x="2578320" y="3033360"/>
              <a:ext cx="1221120" cy="1230120"/>
              <a:chOff x="2578320" y="3033360"/>
              <a:chExt cx="1221120" cy="1230120"/>
            </a:xfrm>
          </p:grpSpPr>
          <p:cxnSp>
            <p:nvCxnSpPr>
              <p:cNvPr id="167" name="직선 화살표 연결선 15"/>
              <p:cNvCxnSpPr/>
              <p:nvPr/>
            </p:nvCxnSpPr>
            <p:spPr>
              <a:xfrm flipH="1">
                <a:off x="3189240" y="3033360"/>
                <a:ext cx="1800" cy="5284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68" name="직선 화살표 연결선 16"/>
              <p:cNvCxnSpPr/>
              <p:nvPr/>
            </p:nvCxnSpPr>
            <p:spPr>
              <a:xfrm>
                <a:off x="2756520" y="3216240"/>
                <a:ext cx="372960" cy="3747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69" name="직선 화살표 연결선 17"/>
              <p:cNvCxnSpPr/>
              <p:nvPr/>
            </p:nvCxnSpPr>
            <p:spPr>
              <a:xfrm>
                <a:off x="2578320" y="3645720"/>
                <a:ext cx="528120" cy="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70" name="직선 화살표 연결선 18"/>
              <p:cNvCxnSpPr/>
              <p:nvPr/>
            </p:nvCxnSpPr>
            <p:spPr>
              <a:xfrm flipH="1">
                <a:off x="3251880" y="3222360"/>
                <a:ext cx="374760" cy="3726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71" name="직선 화살표 연결선 19"/>
              <p:cNvCxnSpPr/>
              <p:nvPr/>
            </p:nvCxnSpPr>
            <p:spPr>
              <a:xfrm flipH="1" flipV="1">
                <a:off x="3247560" y="3715920"/>
                <a:ext cx="374760" cy="3726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72" name="직선 화살표 연결선 20"/>
              <p:cNvCxnSpPr/>
              <p:nvPr/>
            </p:nvCxnSpPr>
            <p:spPr>
              <a:xfrm flipH="1" flipV="1">
                <a:off x="3184200" y="3735360"/>
                <a:ext cx="1800" cy="5284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73" name="직선 화살표 연결선 21"/>
              <p:cNvCxnSpPr/>
              <p:nvPr/>
            </p:nvCxnSpPr>
            <p:spPr>
              <a:xfrm flipV="1">
                <a:off x="2750040" y="3709800"/>
                <a:ext cx="372960" cy="3751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74" name="직선 화살표 연결선 22"/>
              <p:cNvCxnSpPr/>
              <p:nvPr/>
            </p:nvCxnSpPr>
            <p:spPr>
              <a:xfrm flipH="1">
                <a:off x="3271680" y="3648600"/>
                <a:ext cx="528120" cy="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</p:grpSp>
        <p:grpSp>
          <p:nvGrpSpPr>
            <p:cNvPr id="175" name="그룹 32"/>
            <p:cNvGrpSpPr/>
            <p:nvPr/>
          </p:nvGrpSpPr>
          <p:grpSpPr>
            <a:xfrm>
              <a:off x="5427720" y="3233160"/>
              <a:ext cx="823680" cy="829440"/>
              <a:chOff x="5427720" y="3233160"/>
              <a:chExt cx="823680" cy="829440"/>
            </a:xfrm>
          </p:grpSpPr>
          <p:cxnSp>
            <p:nvCxnSpPr>
              <p:cNvPr id="176" name="직선 화살표 연결선 7"/>
              <p:cNvCxnSpPr/>
              <p:nvPr/>
            </p:nvCxnSpPr>
            <p:spPr>
              <a:xfrm flipH="1">
                <a:off x="5839560" y="3233160"/>
                <a:ext cx="1440" cy="3330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77" name="직선 화살표 연결선 8"/>
              <p:cNvCxnSpPr/>
              <p:nvPr/>
            </p:nvCxnSpPr>
            <p:spPr>
              <a:xfrm>
                <a:off x="5554080" y="3362400"/>
                <a:ext cx="234720" cy="236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78" name="직선 화살표 연결선 9"/>
              <p:cNvCxnSpPr/>
              <p:nvPr/>
            </p:nvCxnSpPr>
            <p:spPr>
              <a:xfrm>
                <a:off x="5427720" y="3646800"/>
                <a:ext cx="332640" cy="1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79" name="직선 화살표 연결선 10"/>
              <p:cNvCxnSpPr/>
              <p:nvPr/>
            </p:nvCxnSpPr>
            <p:spPr>
              <a:xfrm flipH="1">
                <a:off x="5892840" y="3366720"/>
                <a:ext cx="236160" cy="2343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80" name="직선 화살표 연결선 11"/>
              <p:cNvCxnSpPr/>
              <p:nvPr/>
            </p:nvCxnSpPr>
            <p:spPr>
              <a:xfrm flipH="1" flipV="1">
                <a:off x="5890320" y="3704040"/>
                <a:ext cx="235800" cy="2347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81" name="직선 화살표 연결선 12"/>
              <p:cNvCxnSpPr/>
              <p:nvPr/>
            </p:nvCxnSpPr>
            <p:spPr>
              <a:xfrm flipH="1" flipV="1">
                <a:off x="5836680" y="3729960"/>
                <a:ext cx="1440" cy="3330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82" name="직선 화살표 연결선 13"/>
              <p:cNvCxnSpPr/>
              <p:nvPr/>
            </p:nvCxnSpPr>
            <p:spPr>
              <a:xfrm flipV="1">
                <a:off x="5550120" y="3700800"/>
                <a:ext cx="234720" cy="236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183" name="직선 화살표 연결선 14"/>
              <p:cNvCxnSpPr/>
              <p:nvPr/>
            </p:nvCxnSpPr>
            <p:spPr>
              <a:xfrm flipH="1">
                <a:off x="5919120" y="3648960"/>
                <a:ext cx="332640" cy="1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</p:grpSp>
      </p:grpSp>
      <p:sp>
        <p:nvSpPr>
          <p:cNvPr id="184" name="오른쪽 화살표 23"/>
          <p:cNvSpPr/>
          <p:nvPr/>
        </p:nvSpPr>
        <p:spPr>
          <a:xfrm>
            <a:off x="4281480" y="3560760"/>
            <a:ext cx="665280" cy="174600"/>
          </a:xfrm>
          <a:prstGeom prst="rightArrow">
            <a:avLst>
              <a:gd name="adj1" fmla="val 50000"/>
              <a:gd name="adj2" fmla="val 13150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:\Documents and Settings\Administrator\바탕 화면\cp0501.gif"/>
          <p:cNvPicPr/>
          <p:nvPr/>
        </p:nvPicPr>
        <p:blipFill>
          <a:blip r:embed="rId1"/>
          <a:stretch/>
        </p:blipFill>
        <p:spPr>
          <a:xfrm>
            <a:off x="2538360" y="4811760"/>
            <a:ext cx="4067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olution of diffusion equ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lugging equ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into RTE, we can get a simple solution in the case of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single point ligh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urce in an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infinit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medium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Φ : Power of the point light sou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(x): Distance to the point light sou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Exponential fall off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1109520" y="3247920"/>
                <a:ext cx="69296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D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</m:ra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oundary Cond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s this the perfect solution? …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No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e are considering subsurface scattering… at least, it must be a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Semi-infinit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medium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그룹 14"/>
          <p:cNvGrpSpPr/>
          <p:nvPr/>
        </p:nvGrpSpPr>
        <p:grpSpPr>
          <a:xfrm>
            <a:off x="2976840" y="3376440"/>
            <a:ext cx="2812320" cy="2765520"/>
            <a:chOff x="2976840" y="3376440"/>
            <a:chExt cx="2812320" cy="2765520"/>
          </a:xfrm>
        </p:grpSpPr>
        <p:sp>
          <p:nvSpPr>
            <p:cNvPr id="192" name="직사각형 3"/>
            <p:cNvSpPr/>
            <p:nvPr/>
          </p:nvSpPr>
          <p:spPr>
            <a:xfrm>
              <a:off x="3357360" y="3838320"/>
              <a:ext cx="2429280" cy="230364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직선 화살표 연결선 5"/>
            <p:cNvCxnSpPr/>
            <p:nvPr/>
          </p:nvCxnSpPr>
          <p:spPr>
            <a:xfrm flipH="1">
              <a:off x="3183480" y="3977640"/>
              <a:ext cx="6840" cy="1132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TextBox 6"/>
            <p:cNvSpPr/>
            <p:nvPr/>
          </p:nvSpPr>
          <p:spPr>
            <a:xfrm>
              <a:off x="2976840" y="4971600"/>
              <a:ext cx="43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직선 화살표 연결선 17"/>
            <p:cNvCxnSpPr/>
            <p:nvPr/>
          </p:nvCxnSpPr>
          <p:spPr>
            <a:xfrm flipV="1">
              <a:off x="3990960" y="3826800"/>
              <a:ext cx="581400" cy="708480"/>
            </a:xfrm>
            <a:prstGeom prst="straightConnector1">
              <a:avLst/>
            </a:prstGeom>
            <a:ln w="507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96" name="직선 화살표 연결선 20"/>
            <p:cNvCxnSpPr/>
            <p:nvPr/>
          </p:nvCxnSpPr>
          <p:spPr>
            <a:xfrm flipV="1">
              <a:off x="4572360" y="3589920"/>
              <a:ext cx="581400" cy="248040"/>
            </a:xfrm>
            <a:prstGeom prst="straightConnector1">
              <a:avLst/>
            </a:prstGeom>
            <a:ln cap="rnd" w="25560">
              <a:solidFill>
                <a:srgbClr val="c00000"/>
              </a:solidFill>
              <a:custDash>
                <a:ds d="499000" sp="201000"/>
              </a:custDash>
              <a:miter/>
              <a:tailEnd len="med" type="stealth" w="med"/>
            </a:ln>
          </p:spPr>
        </p:cxnSp>
        <p:cxnSp>
          <p:nvCxnSpPr>
            <p:cNvPr id="197" name="직선 화살표 연결선 23"/>
            <p:cNvCxnSpPr/>
            <p:nvPr/>
          </p:nvCxnSpPr>
          <p:spPr>
            <a:xfrm>
              <a:off x="4572360" y="3850920"/>
              <a:ext cx="581400" cy="708480"/>
            </a:xfrm>
            <a:prstGeom prst="straightConnector1">
              <a:avLst/>
            </a:prstGeom>
            <a:ln cap="rnd"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98" name="TextBox 27"/>
            <p:cNvSpPr/>
            <p:nvPr/>
          </p:nvSpPr>
          <p:spPr>
            <a:xfrm>
              <a:off x="3562920" y="4559040"/>
              <a:ext cx="85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Outw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Fl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8"/>
            <p:cNvSpPr/>
            <p:nvPr/>
          </p:nvSpPr>
          <p:spPr>
            <a:xfrm>
              <a:off x="4790160" y="4559040"/>
              <a:ext cx="72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Inw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Fl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1"/>
            <p:cNvSpPr/>
            <p:nvPr/>
          </p:nvSpPr>
          <p:spPr>
            <a:xfrm>
              <a:off x="4894920" y="4014360"/>
              <a:ext cx="380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F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ahoma"/>
                  <a:ea typeface="굴림"/>
                </a:rPr>
                <a:t>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2"/>
            <p:cNvSpPr/>
            <p:nvPr/>
          </p:nvSpPr>
          <p:spPr>
            <a:xfrm>
              <a:off x="5157360" y="3376440"/>
              <a:ext cx="631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1 -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F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ahoma"/>
                  <a:ea typeface="굴림"/>
                </a:rPr>
                <a:t>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직선 연결선 13"/>
            <p:cNvSpPr/>
            <p:nvPr/>
          </p:nvSpPr>
          <p:spPr>
            <a:xfrm>
              <a:off x="3357360" y="3850920"/>
              <a:ext cx="2429640" cy="1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oundary Cond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Inward Flux) =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× (Outward Flux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ratio of reflection at the surfac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can be computed by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Fresnel Formul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re is no analytic solution in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gener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case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531800" y="3444840"/>
                <a:ext cx="608040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ω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Dipole Approxi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n incident beam of light can be approximated by a point light source at a depth of one mean free path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2921040" y="3003480"/>
                <a:ext cx="3301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a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e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th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직사각형 3"/>
          <p:cNvSpPr/>
          <p:nvPr/>
        </p:nvSpPr>
        <p:spPr>
          <a:xfrm>
            <a:off x="3357720" y="4656240"/>
            <a:ext cx="2428560" cy="151128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직선 연결선 9"/>
          <p:cNvSpPr/>
          <p:nvPr/>
        </p:nvSpPr>
        <p:spPr>
          <a:xfrm>
            <a:off x="3357720" y="4656240"/>
            <a:ext cx="24285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직선 연결선 17"/>
          <p:cNvSpPr/>
          <p:nvPr/>
        </p:nvSpPr>
        <p:spPr>
          <a:xfrm>
            <a:off x="4572000" y="4656240"/>
            <a:ext cx="1440" cy="54108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직선 화살표 연결선 10"/>
          <p:cNvCxnSpPr/>
          <p:nvPr/>
        </p:nvCxnSpPr>
        <p:spPr>
          <a:xfrm flipV="1">
            <a:off x="4927680" y="4655520"/>
            <a:ext cx="2160" cy="541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직선 화살표 연결선 15"/>
          <p:cNvCxnSpPr/>
          <p:nvPr/>
        </p:nvCxnSpPr>
        <p:spPr>
          <a:xfrm>
            <a:off x="3747960" y="4029120"/>
            <a:ext cx="812160" cy="6292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14" name="타원 7"/>
          <p:cNvSpPr/>
          <p:nvPr/>
        </p:nvSpPr>
        <p:spPr>
          <a:xfrm>
            <a:off x="4427640" y="5052960"/>
            <a:ext cx="288720" cy="289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4936320" y="4743360"/>
            <a:ext cx="60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/σ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Dipole Approxi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total radiance due to a point source at depth in a semi-infinite medium can be forced to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zer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on a surface by introducing a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negative virtual sour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2492280" y="44877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φ(X)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3"/>
          <p:cNvSpPr/>
          <p:nvPr/>
        </p:nvSpPr>
        <p:spPr>
          <a:xfrm>
            <a:off x="3357720" y="4656240"/>
            <a:ext cx="2428560" cy="151128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타원 7"/>
          <p:cNvSpPr/>
          <p:nvPr/>
        </p:nvSpPr>
        <p:spPr>
          <a:xfrm>
            <a:off x="4427640" y="5052960"/>
            <a:ext cx="288720" cy="289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타원 8"/>
          <p:cNvSpPr/>
          <p:nvPr/>
        </p:nvSpPr>
        <p:spPr>
          <a:xfrm>
            <a:off x="4427640" y="3973680"/>
            <a:ext cx="288720" cy="287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직선 연결선 25"/>
          <p:cNvSpPr/>
          <p:nvPr/>
        </p:nvSpPr>
        <p:spPr>
          <a:xfrm>
            <a:off x="3357720" y="4656240"/>
            <a:ext cx="2428560" cy="144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직선 화살표 연결선 11"/>
          <p:cNvCxnSpPr/>
          <p:nvPr/>
        </p:nvCxnSpPr>
        <p:spPr>
          <a:xfrm flipV="1">
            <a:off x="4927680" y="4655520"/>
            <a:ext cx="2160" cy="541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4" name="직선 화살표 연결선 13"/>
          <p:cNvCxnSpPr/>
          <p:nvPr/>
        </p:nvCxnSpPr>
        <p:spPr>
          <a:xfrm>
            <a:off x="4927680" y="4117680"/>
            <a:ext cx="2160" cy="538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5" name="직선 화살표 연결선 15"/>
          <p:cNvCxnSpPr/>
          <p:nvPr/>
        </p:nvCxnSpPr>
        <p:spPr>
          <a:xfrm>
            <a:off x="3747960" y="4029120"/>
            <a:ext cx="812160" cy="6292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Extrapo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s the total radiance really zero “on the surface”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diffusion approximation, the boundary condition is satisfied by setting the total radiance to zero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2AD above the surf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3494160" y="4029120"/>
                <a:ext cx="2155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0" name="그룹 33"/>
          <p:cNvGrpSpPr/>
          <p:nvPr/>
        </p:nvGrpSpPr>
        <p:grpSpPr>
          <a:xfrm>
            <a:off x="2164320" y="4745160"/>
            <a:ext cx="4735440" cy="1653120"/>
            <a:chOff x="2164320" y="4745160"/>
            <a:chExt cx="4735440" cy="1653120"/>
          </a:xfrm>
        </p:grpSpPr>
        <p:cxnSp>
          <p:nvCxnSpPr>
            <p:cNvPr id="231" name="직선 화살표 연결선 25"/>
            <p:cNvCxnSpPr/>
            <p:nvPr/>
          </p:nvCxnSpPr>
          <p:spPr>
            <a:xfrm flipV="1">
              <a:off x="5272920" y="5379840"/>
              <a:ext cx="627840" cy="276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32" name="직사각형 6"/>
            <p:cNvSpPr/>
            <p:nvPr/>
          </p:nvSpPr>
          <p:spPr>
            <a:xfrm>
              <a:off x="2806560" y="4881600"/>
              <a:ext cx="1768680" cy="147636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자유형 14"/>
            <p:cNvSpPr/>
            <p:nvPr/>
          </p:nvSpPr>
          <p:spPr>
            <a:xfrm>
              <a:off x="3507480" y="5242320"/>
              <a:ext cx="1935000" cy="77580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직선 연결선 18"/>
            <p:cNvSpPr/>
            <p:nvPr/>
          </p:nvSpPr>
          <p:spPr>
            <a:xfrm>
              <a:off x="2635560" y="6348240"/>
              <a:ext cx="3891600" cy="1440"/>
            </a:xfrm>
            <a:prstGeom prst="line">
              <a:avLst/>
            </a:prstGeom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자유형 8"/>
            <p:cNvSpPr/>
            <p:nvPr/>
          </p:nvSpPr>
          <p:spPr>
            <a:xfrm>
              <a:off x="3486240" y="5157360"/>
              <a:ext cx="2413440" cy="119052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6" name="직선 화살표 연결선 20"/>
            <p:cNvCxnSpPr/>
            <p:nvPr/>
          </p:nvCxnSpPr>
          <p:spPr>
            <a:xfrm>
              <a:off x="4574520" y="6358680"/>
              <a:ext cx="132588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7" name="직선 화살표 연결선 22"/>
            <p:cNvCxnSpPr/>
            <p:nvPr/>
          </p:nvCxnSpPr>
          <p:spPr>
            <a:xfrm flipH="1" flipV="1">
              <a:off x="3049920" y="5018760"/>
              <a:ext cx="15249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headEnd len="med" type="triangle" w="med"/>
            </a:ln>
          </p:spPr>
        </p:cxnSp>
        <p:sp>
          <p:nvSpPr>
            <p:cNvPr id="238" name="TextBox 23"/>
            <p:cNvSpPr/>
            <p:nvPr/>
          </p:nvSpPr>
          <p:spPr>
            <a:xfrm>
              <a:off x="2164320" y="485136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u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6"/>
            <p:cNvSpPr/>
            <p:nvPr/>
          </p:nvSpPr>
          <p:spPr>
            <a:xfrm>
              <a:off x="5262120" y="4745160"/>
              <a:ext cx="163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iffu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pproxi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직선 화살표 연결선 28"/>
            <p:cNvCxnSpPr/>
            <p:nvPr/>
          </p:nvCxnSpPr>
          <p:spPr>
            <a:xfrm flipH="1">
              <a:off x="3641400" y="5549760"/>
              <a:ext cx="819360" cy="276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41" name="TextBox 30"/>
            <p:cNvSpPr/>
            <p:nvPr/>
          </p:nvSpPr>
          <p:spPr>
            <a:xfrm>
              <a:off x="2314080" y="564912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act 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31"/>
            <p:cNvSpPr/>
            <p:nvPr/>
          </p:nvSpPr>
          <p:spPr>
            <a:xfrm>
              <a:off x="4942440" y="60609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Galle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al object (picture) examp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" name="그룹 9"/>
          <p:cNvGrpSpPr/>
          <p:nvPr/>
        </p:nvGrpSpPr>
        <p:grpSpPr>
          <a:xfrm>
            <a:off x="727200" y="2746440"/>
            <a:ext cx="7689600" cy="2400120"/>
            <a:chOff x="727200" y="2746440"/>
            <a:chExt cx="7689600" cy="2400120"/>
          </a:xfrm>
        </p:grpSpPr>
        <p:pic>
          <p:nvPicPr>
            <p:cNvPr id="60" name="Picture 2" descr="leaves"/>
            <p:cNvPicPr/>
            <p:nvPr/>
          </p:nvPicPr>
          <p:blipFill>
            <a:blip r:embed="rId1"/>
            <a:srcRect l="0" t="0" r="57869" b="0"/>
            <a:stretch/>
          </p:blipFill>
          <p:spPr>
            <a:xfrm>
              <a:off x="727200" y="2746440"/>
              <a:ext cx="241236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" descr="tut28_fig17"/>
            <p:cNvPicPr/>
            <p:nvPr/>
          </p:nvPicPr>
          <p:blipFill>
            <a:blip r:embed="rId2"/>
            <a:srcRect l="0" t="0" r="29160" b="0"/>
            <a:stretch/>
          </p:blipFill>
          <p:spPr>
            <a:xfrm>
              <a:off x="3365640" y="2746440"/>
              <a:ext cx="241236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" descr="tut28_fig02"/>
            <p:cNvPicPr/>
            <p:nvPr/>
          </p:nvPicPr>
          <p:blipFill>
            <a:blip r:embed="rId3"/>
            <a:srcRect l="33347" t="0" r="0" b="0"/>
            <a:stretch/>
          </p:blipFill>
          <p:spPr>
            <a:xfrm>
              <a:off x="6004440" y="2746440"/>
              <a:ext cx="2412360" cy="24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inally, we can get the total radiance function by single point light solu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(4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Dipole Approxi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2179800" y="4208400"/>
            <a:ext cx="118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xtrapo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4"/>
          <p:cNvSpPr/>
          <p:nvPr/>
        </p:nvSpPr>
        <p:spPr>
          <a:xfrm>
            <a:off x="4951440" y="3962520"/>
            <a:ext cx="12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=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+4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2658960" y="2792520"/>
                <a:ext cx="3826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D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8" name="그룹 50"/>
          <p:cNvGrpSpPr/>
          <p:nvPr/>
        </p:nvGrpSpPr>
        <p:grpSpPr>
          <a:xfrm>
            <a:off x="3357720" y="3780000"/>
            <a:ext cx="2428560" cy="2387520"/>
            <a:chOff x="3357720" y="3780000"/>
            <a:chExt cx="2428560" cy="2387520"/>
          </a:xfrm>
        </p:grpSpPr>
        <p:sp>
          <p:nvSpPr>
            <p:cNvPr id="249" name="TextBox 32"/>
            <p:cNvSpPr/>
            <p:nvPr/>
          </p:nvSpPr>
          <p:spPr>
            <a:xfrm>
              <a:off x="3581640" y="44319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직선 화살표 연결선 31"/>
            <p:cNvCxnSpPr/>
            <p:nvPr/>
          </p:nvCxnSpPr>
          <p:spPr>
            <a:xfrm flipH="1">
              <a:off x="3577680" y="4464360"/>
              <a:ext cx="2160" cy="192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1" name="직사각형 3"/>
            <p:cNvSpPr/>
            <p:nvPr/>
          </p:nvSpPr>
          <p:spPr>
            <a:xfrm>
              <a:off x="3357720" y="4656240"/>
              <a:ext cx="2428560" cy="151128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직선 연결선 23"/>
            <p:cNvSpPr/>
            <p:nvPr/>
          </p:nvSpPr>
          <p:spPr>
            <a:xfrm>
              <a:off x="3357720" y="4462200"/>
              <a:ext cx="2428560" cy="1440"/>
            </a:xfrm>
            <a:prstGeom prst="line">
              <a:avLst/>
            </a:prstGeom>
            <a:ln w="2556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" name="직선 화살표 연결선 24"/>
            <p:cNvCxnSpPr/>
            <p:nvPr/>
          </p:nvCxnSpPr>
          <p:spPr>
            <a:xfrm flipV="1">
              <a:off x="4928040" y="4655520"/>
              <a:ext cx="2160" cy="347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4" name="직선 화살표 연결선 25"/>
            <p:cNvCxnSpPr/>
            <p:nvPr/>
          </p:nvCxnSpPr>
          <p:spPr>
            <a:xfrm>
              <a:off x="4928040" y="3923640"/>
              <a:ext cx="2160" cy="732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5" name="TextBox 33"/>
            <p:cNvSpPr/>
            <p:nvPr/>
          </p:nvSpPr>
          <p:spPr>
            <a:xfrm>
              <a:off x="4941360" y="4597920"/>
              <a:ext cx="33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6" name="직선 화살표 연결선 42"/>
            <p:cNvCxnSpPr/>
            <p:nvPr/>
          </p:nvCxnSpPr>
          <p:spPr>
            <a:xfrm flipH="1" flipV="1">
              <a:off x="4062240" y="4656240"/>
              <a:ext cx="504000" cy="34740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57" name="직선 화살표 연결선 46"/>
            <p:cNvCxnSpPr/>
            <p:nvPr/>
          </p:nvCxnSpPr>
          <p:spPr>
            <a:xfrm flipH="1">
              <a:off x="4062240" y="3923640"/>
              <a:ext cx="504000" cy="73368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258" name="타원 22"/>
            <p:cNvSpPr/>
            <p:nvPr/>
          </p:nvSpPr>
          <p:spPr>
            <a:xfrm>
              <a:off x="4428000" y="3780000"/>
              <a:ext cx="288000" cy="287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타원 21"/>
            <p:cNvSpPr/>
            <p:nvPr/>
          </p:nvSpPr>
          <p:spPr>
            <a:xfrm>
              <a:off x="4428000" y="4859640"/>
              <a:ext cx="288000" cy="287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7"/>
            <p:cNvSpPr/>
            <p:nvPr/>
          </p:nvSpPr>
          <p:spPr>
            <a:xfrm>
              <a:off x="4052520" y="4717440"/>
              <a:ext cx="31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48"/>
            <p:cNvSpPr/>
            <p:nvPr/>
          </p:nvSpPr>
          <p:spPr>
            <a:xfrm>
              <a:off x="4053600" y="4010040"/>
              <a:ext cx="331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SSRDF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474920" y="2073240"/>
            <a:ext cx="6207120" cy="36702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4"/>
          <p:cNvSpPr/>
          <p:nvPr/>
        </p:nvSpPr>
        <p:spPr>
          <a:xfrm>
            <a:off x="3004200" y="6039000"/>
            <a:ext cx="31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IGGRAPH 2005 - Course 10. Michael Goes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SSRDF for 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r) is Only 1 dimensional func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 requires Fresnel terms at incoming and outgoing loca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내용 개체 틀 3"/>
              <p:cNvSpPr txBox="1"/>
              <p:nvPr/>
            </p:nvSpPr>
            <p:spPr>
              <a:xfrm>
                <a:off x="1703520" y="1716120"/>
                <a:ext cx="5740200" cy="22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f>
                          <m:num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Next Top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measure the material properties like σ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and σ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reduce the rendering time using boosting algorithm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velopment for thin slabs and multi-layered material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feren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[Paper List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 practical Model for Subsurface Light Transport. Jensen, 2001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flection from Layered Surfaces due to Subsurface Scattering. Hanrahan, 1993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 diffusion theory model of spatially resolved, steady-state diffuse reflectance for the noninvasive determination of tissue optical properties in vivo. Farrell, 1992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[Book List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dvanced Global Illumination. Philip Dutré, Kavita Bala, Philippe Bekaert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hysically Based Rendering. Matt Pharr, Greg Humphrey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Wave Propagation and Scattering in Random Media. Akiya Ishimura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ntroduction to Nuclear Engineering. John R. Lamarsh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Galle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ft and Smooth appearanc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내용 개체 틀 3" descr="translucent_teapot.jpg"/>
          <p:cNvPicPr/>
          <p:nvPr/>
        </p:nvPicPr>
        <p:blipFill>
          <a:blip r:embed="rId1"/>
          <a:stretch/>
        </p:blipFill>
        <p:spPr>
          <a:xfrm>
            <a:off x="1158840" y="2725560"/>
            <a:ext cx="68263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Galle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scribing the scattering of light in human skin or other tissu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10" descr="C:\Documents and Settings\Administrator\바탕 화면\skin-analysis.jpg"/>
          <p:cNvPicPr/>
          <p:nvPr/>
        </p:nvPicPr>
        <p:blipFill>
          <a:blip r:embed="rId1"/>
          <a:stretch/>
        </p:blipFill>
        <p:spPr>
          <a:xfrm>
            <a:off x="522360" y="2865600"/>
            <a:ext cx="80992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bjectiv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How to render a translucent material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bsurface Scatt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SSRDF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내용 개체 틀 4" descr="subsurface.jpg"/>
          <p:cNvPicPr/>
          <p:nvPr/>
        </p:nvPicPr>
        <p:blipFill>
          <a:blip r:embed="rId1"/>
          <a:srcRect l="0" t="0" r="0" b="24943"/>
          <a:stretch/>
        </p:blipFill>
        <p:spPr>
          <a:xfrm>
            <a:off x="1220760" y="3529080"/>
            <a:ext cx="6702480" cy="2305080"/>
          </a:xfrm>
          <a:prstGeom prst="rect">
            <a:avLst/>
          </a:prstGeom>
          <a:ln w="0">
            <a:noFill/>
          </a:ln>
        </p:spPr>
      </p:pic>
      <p:grpSp>
        <p:nvGrpSpPr>
          <p:cNvPr id="72" name="그룹 7"/>
          <p:cNvGrpSpPr/>
          <p:nvPr/>
        </p:nvGrpSpPr>
        <p:grpSpPr>
          <a:xfrm>
            <a:off x="2507760" y="5818320"/>
            <a:ext cx="4302360" cy="398880"/>
            <a:chOff x="2507760" y="5818320"/>
            <a:chExt cx="4302360" cy="398880"/>
          </a:xfrm>
        </p:grpSpPr>
        <p:sp>
          <p:nvSpPr>
            <p:cNvPr id="73" name="TextBox 6"/>
            <p:cNvSpPr/>
            <p:nvPr/>
          </p:nvSpPr>
          <p:spPr>
            <a:xfrm>
              <a:off x="2507760" y="5818320"/>
              <a:ext cx="11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a) BRD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7"/>
            <p:cNvSpPr/>
            <p:nvPr/>
          </p:nvSpPr>
          <p:spPr>
            <a:xfrm>
              <a:off x="5254920" y="581832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b)  BSSRD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Fl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Volume Scatt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ingle scattering  vs.  Multiple scatt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ffusion Approx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pole Approx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SSRDF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1444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Volum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light is affected as it passes through participating media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2" descr="C:\Documents and Settings\Administrator\바탕 화면\smoke_around_sphere.jpg"/>
          <p:cNvPicPr/>
          <p:nvPr/>
        </p:nvPicPr>
        <p:blipFill>
          <a:blip r:embed="rId1"/>
          <a:srcRect l="0" t="10593" r="0" b="21094"/>
          <a:stretch/>
        </p:blipFill>
        <p:spPr>
          <a:xfrm>
            <a:off x="2133720" y="2760840"/>
            <a:ext cx="48765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1444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Volum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D:\Teksten\agibook-slides\8\8-1.tif"/>
          <p:cNvPicPr/>
          <p:nvPr/>
        </p:nvPicPr>
        <p:blipFill>
          <a:blip r:embed="rId1"/>
          <a:stretch/>
        </p:blipFill>
        <p:spPr>
          <a:xfrm>
            <a:off x="1463760" y="1689120"/>
            <a:ext cx="62164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사용자</cp:lastModifiedBy>
  <cp:lastPrinted>1998-03-18T16:08:13Z</cp:lastPrinted>
  <dcterms:modified xsi:type="dcterms:W3CDTF">2008-11-29T13:04:00Z</dcterms:modified>
  <cp:revision>2333</cp:revision>
  <dc:subject/>
  <dc:title>Steven F. Ashby Center for Applied Scientific Computing  Month DD, 1997</dc:title>
</cp:coreProperties>
</file>