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34D7DB-78EA-41B0-8D88-788E2C46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Approximate Indirect Illumination using Area Lights and Con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Hubert Mohr-Dau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volution shadow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light source image (can be non-uniform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cker image (viewed from the sour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conv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rtual geomet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Fourier Transform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 convolution shadow map for the recei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2176560" y="4516560"/>
                <a:ext cx="4641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osity compu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 of a shoot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ition : area light’s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mal : area light’s dir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: consider only diffuse sourc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imum energy transmitted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energ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alue of the 1x1 mipmap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textur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each shooter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 energy received by each texel of the receiver texture (without visibility tes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ply the result by the CSM fa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end textures to obtain the total energ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pdating light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ween each pa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 of area light is updated with all the lit receiv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 shoo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eshold on shooter’s energy to know when to stop the iterati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ea-based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sampl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efficient radiosity comput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od shadow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olution method works well for this kind of geomet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t well graphic hardware archite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ost all the steps can be computed by G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Convolution only implemented by C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Not very effici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Bottlene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Hardware us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MD Athlon 64 2.1GHz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NVidia Geforce 7600 GT 256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est Sce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 area light sour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30 qua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56x256 shadow ma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8680" y="1587600"/>
            <a:ext cx="8280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st pas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 light area, convolution on 5 receiv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Total rendering time : 813 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nvolution time : 796 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ther pas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ight areas &lt;= 30, ~5 convolution per sour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nvolution time max: 24s !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uture improv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rdware implementation for conv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Fialka &amp; Cadik 06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e 256x256, kernel 30x30-80x80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ized CPU method : 25-100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ized GPU method : 3-10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ed lots of code optimization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metry simpl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e number of sources and receiv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roxima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sampl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sy GPU 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y be efficient with an optimized implementatio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real-time global illumina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lexible method to obtain efficiency in any c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without too much loss of qua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accurate metho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mited optimiz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ght sampling can create artifac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sibility to sacrifice accurac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ximate sha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be optimized without a loss of qua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ea light representation for reflective polyg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sampl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rface orientation can be approxima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polygons can be reduc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volution method to compute shadow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ss calculation for visibility fa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od approximation for planar light sources and receiv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lated wor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tailed method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volution shadow ma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osity comput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pdating light sourc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ture improv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roximate visibility for G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Kezlowski &amp; Kantz 07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ximate visibility not always notice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Ritschel et al. 08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erfect Shadow Ma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gressive refinement radios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Coombe, GPU Gems 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-pass algorithm with area-based shoo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volution shadow ma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Soler &amp; Sillon SIG98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Annen et al. SIG08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lti-pass method: progressive refin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ter each pass, area lights are generated from all lit surfaces (modified by the reflectivity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each pas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each pair of light and receiver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 convolution shadow m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 maximum energy at each tex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y value with factor from CS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end result in one texture for each recei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volution shadow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light source image (can be non-uniform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cker image (viewed from the sour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30410" t="0" r="0" b="0"/>
          <a:stretch/>
        </p:blipFill>
        <p:spPr>
          <a:xfrm>
            <a:off x="4044960" y="2928960"/>
            <a:ext cx="4410000" cy="164160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4"/>
          <p:cNvSpPr/>
          <p:nvPr/>
        </p:nvSpPr>
        <p:spPr>
          <a:xfrm>
            <a:off x="5978880" y="4570560"/>
            <a:ext cx="247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from [Soler &amp; Sillion SIG98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volution shadow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light source image (can be non-uniform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cker image (viewed from the sour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conv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rtual geomet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452680" y="4173480"/>
            <a:ext cx="3745080" cy="218772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4"/>
          <p:cNvSpPr/>
          <p:nvPr/>
        </p:nvSpPr>
        <p:spPr>
          <a:xfrm>
            <a:off x="6270840" y="6053040"/>
            <a:ext cx="247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from [Soler &amp; Sillion SIG98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volution shadow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light source image (can be non-uniform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cker image (viewed from the sour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conv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rtual geomet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Fourier Transform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176560" y="4516560"/>
                <a:ext cx="4641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Hubert Mohr-Daurat</cp:lastModifiedBy>
  <cp:lastPrinted>1998-03-18T16:08:13Z</cp:lastPrinted>
  <dcterms:modified xsi:type="dcterms:W3CDTF">2008-12-21T19:19:05Z</dcterms:modified>
  <cp:revision>1831</cp:revision>
  <dc:subject/>
  <dc:title>Steven F. Ashby Center for Applied Scientific Computing  Month DD, 1997</dc:title>
</cp:coreProperties>
</file>