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BF62A2-DEA2-4BDD-9A90-F7D51F7D1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Interactive Ray Tracing of Skinned An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Pio Cla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nned Animatio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h is deformed based on an underlying transformation matrix set (bon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it as skin being deformed by a skelet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ex positions are influenced by the bon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03200" y="3567240"/>
            <a:ext cx="254160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406760" y="3567240"/>
            <a:ext cx="2122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ray tracing, produce skinned mesh animations (interactive)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rly update acceleration structures for dynamic scen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approaches specific to interactively ray trace skinned anim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8680" y="1587600"/>
            <a:ext cx="8318520" cy="14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kd-trees over fuzzy boxes of each b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a kd-tree over the kd-trees. This one is updated per fram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879480" y="3995640"/>
            <a:ext cx="3298680" cy="1853280"/>
            <a:chOff x="879480" y="3995640"/>
            <a:chExt cx="3298680" cy="1853280"/>
          </a:xfrm>
        </p:grpSpPr>
        <p:grpSp>
          <p:nvGrpSpPr>
            <p:cNvPr id="64" name="Group 9"/>
            <p:cNvGrpSpPr/>
            <p:nvPr/>
          </p:nvGrpSpPr>
          <p:grpSpPr>
            <a:xfrm>
              <a:off x="879480" y="3995640"/>
              <a:ext cx="1335600" cy="1624680"/>
              <a:chOff x="879480" y="3995640"/>
              <a:chExt cx="1335600" cy="1624680"/>
            </a:xfrm>
          </p:grpSpPr>
          <p:pic>
            <p:nvPicPr>
              <p:cNvPr id="65" name="Picture 6" descr="ball_fuzzy"/>
              <p:cNvPicPr/>
              <p:nvPr/>
            </p:nvPicPr>
            <p:blipFill>
              <a:blip r:embed="rId1"/>
              <a:stretch/>
            </p:blipFill>
            <p:spPr>
              <a:xfrm>
                <a:off x="879480" y="3995640"/>
                <a:ext cx="1335600" cy="1348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6" name="TextBox 7"/>
              <p:cNvSpPr/>
              <p:nvPr/>
            </p:nvSpPr>
            <p:spPr>
              <a:xfrm>
                <a:off x="879480" y="5343840"/>
                <a:ext cx="1335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ange of mo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0"/>
            <p:cNvGrpSpPr/>
            <p:nvPr/>
          </p:nvGrpSpPr>
          <p:grpSpPr>
            <a:xfrm>
              <a:off x="2461320" y="3995640"/>
              <a:ext cx="1716840" cy="1853280"/>
              <a:chOff x="2461320" y="3995640"/>
              <a:chExt cx="1716840" cy="1853280"/>
            </a:xfrm>
          </p:grpSpPr>
          <p:pic>
            <p:nvPicPr>
              <p:cNvPr id="68" name="Picture 7" descr="ball_fuzzybox"/>
              <p:cNvPicPr/>
              <p:nvPr/>
            </p:nvPicPr>
            <p:blipFill>
              <a:blip r:embed="rId2"/>
              <a:stretch/>
            </p:blipFill>
            <p:spPr>
              <a:xfrm>
                <a:off x="2624400" y="3995640"/>
                <a:ext cx="1391400" cy="1348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9" name="TextBox 8"/>
              <p:cNvSpPr/>
              <p:nvPr/>
            </p:nvSpPr>
            <p:spPr>
              <a:xfrm>
                <a:off x="2461320" y="5389920"/>
                <a:ext cx="1716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zzy Box – box bounding the mo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6" descr="chicken_points_bounds2"/>
          <p:cNvPicPr/>
          <p:nvPr/>
        </p:nvPicPr>
        <p:blipFill>
          <a:blip r:embed="rId3"/>
          <a:srcRect l="0" t="11073" r="0" b="11073"/>
          <a:stretch/>
        </p:blipFill>
        <p:spPr>
          <a:xfrm>
            <a:off x="5400720" y="3808440"/>
            <a:ext cx="3135240" cy="244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e information is utiliz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the fuzzy boxes by b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zzy kd-trees are not updat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e ou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3d library for skinning parameters(weigh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h/animation forma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-trees (ask the exper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ultilevel ray tracing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 week3 – get resources: libraries, meshes/animation sequences, (source code?),et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 week4 – kd-tree construction with skinned mes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week1 – kd-tree construction, ray tra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week2 – ray tra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week3 – present wor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user</cp:lastModifiedBy>
  <cp:lastPrinted>1998-03-18T16:08:13Z</cp:lastPrinted>
  <dcterms:modified xsi:type="dcterms:W3CDTF">2008-11-12T18:38:42Z</dcterms:modified>
  <cp:revision>1847</cp:revision>
  <dc:subject/>
  <dc:title>Steven F. Ashby Center for Applied Scientific Computing  Month DD, 1997</dc:title>
</cp:coreProperties>
</file>