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28440" y="750600"/>
            <a:ext cx="49417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9433080"/>
            <a:ext cx="2944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8800" y="750960"/>
            <a:ext cx="4941720" cy="3708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5040" y="4718160"/>
            <a:ext cx="4986000" cy="4464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F33CA388-9F3F-4C06-9BFB-44814E4CAF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굴림"/>
              </a:rPr>
              <a:t>CS680 Projec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Perceptual R-L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Junghwan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junghwanlee@tclab.kaist.ac.k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G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008.1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-L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9040" y="1587600"/>
            <a:ext cx="8631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active ray-tracing algorithm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mited ray-trac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interactive for massive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ghtly integrated with kd-nod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kd-node has an approximated geometry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" name="그룹 20"/>
          <p:cNvGrpSpPr/>
          <p:nvPr/>
        </p:nvGrpSpPr>
        <p:grpSpPr>
          <a:xfrm>
            <a:off x="1074240" y="3890880"/>
            <a:ext cx="2367360" cy="1108080"/>
            <a:chOff x="1074240" y="3890880"/>
            <a:chExt cx="2367360" cy="1108080"/>
          </a:xfrm>
        </p:grpSpPr>
        <p:sp>
          <p:nvSpPr>
            <p:cNvPr id="58" name="Line 10"/>
            <p:cNvSpPr/>
            <p:nvPr/>
          </p:nvSpPr>
          <p:spPr>
            <a:xfrm>
              <a:off x="2237760" y="4124520"/>
              <a:ext cx="915840" cy="45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3153960" y="4617360"/>
              <a:ext cx="287640" cy="376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 flipH="1">
              <a:off x="2694960" y="4599720"/>
              <a:ext cx="298440" cy="378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1420560" y="4173480"/>
              <a:ext cx="776520" cy="3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4"/>
            <p:cNvSpPr/>
            <p:nvPr/>
          </p:nvSpPr>
          <p:spPr>
            <a:xfrm>
              <a:off x="2135520" y="3952800"/>
              <a:ext cx="261000" cy="261360"/>
            </a:xfrm>
            <a:prstGeom prst="ellipse">
              <a:avLst/>
            </a:prstGeom>
            <a:solidFill>
              <a:srgbClr val="ea8b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5"/>
            <p:cNvSpPr/>
            <p:nvPr/>
          </p:nvSpPr>
          <p:spPr>
            <a:xfrm>
              <a:off x="2939760" y="4450320"/>
              <a:ext cx="261000" cy="26136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>
              <a:off x="1532880" y="4622760"/>
              <a:ext cx="287640" cy="376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 flipH="1">
              <a:off x="1074240" y="4605120"/>
              <a:ext cx="298440" cy="378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2"/>
            <p:cNvSpPr/>
            <p:nvPr/>
          </p:nvSpPr>
          <p:spPr>
            <a:xfrm>
              <a:off x="1318680" y="4455720"/>
              <a:ext cx="261000" cy="261360"/>
            </a:xfrm>
            <a:prstGeom prst="ellipse">
              <a:avLst/>
            </a:prstGeom>
            <a:solidFill>
              <a:srgbClr val="800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6"/>
            <p:cNvSpPr/>
            <p:nvPr/>
          </p:nvSpPr>
          <p:spPr>
            <a:xfrm>
              <a:off x="1074600" y="3890880"/>
              <a:ext cx="2367000" cy="398520"/>
            </a:xfrm>
            <a:prstGeom prst="rect">
              <a:avLst/>
            </a:prstGeom>
            <a:noFill/>
            <a:ln w="38160">
              <a:solidFill>
                <a:srgbClr val="ea8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33"/>
            <p:cNvGrpSpPr/>
            <p:nvPr/>
          </p:nvGrpSpPr>
          <p:grpSpPr>
            <a:xfrm>
              <a:off x="1085040" y="4403160"/>
              <a:ext cx="2356560" cy="398520"/>
              <a:chOff x="1085040" y="4403160"/>
              <a:chExt cx="2356560" cy="398520"/>
            </a:xfrm>
          </p:grpSpPr>
          <p:sp>
            <p:nvSpPr>
              <p:cNvPr id="69" name="Rectangle 31"/>
              <p:cNvSpPr/>
              <p:nvPr/>
            </p:nvSpPr>
            <p:spPr>
              <a:xfrm>
                <a:off x="1085040" y="4403160"/>
                <a:ext cx="735480" cy="398520"/>
              </a:xfrm>
              <a:prstGeom prst="rect">
                <a:avLst/>
              </a:prstGeom>
              <a:noFill/>
              <a:ln w="381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32"/>
              <p:cNvSpPr/>
              <p:nvPr/>
            </p:nvSpPr>
            <p:spPr>
              <a:xfrm>
                <a:off x="1831320" y="4403160"/>
                <a:ext cx="1610280" cy="39852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Geometry Approxi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그룹 3"/>
          <p:cNvGrpSpPr/>
          <p:nvPr/>
        </p:nvGrpSpPr>
        <p:grpSpPr>
          <a:xfrm>
            <a:off x="1390680" y="2023920"/>
            <a:ext cx="6447960" cy="3841920"/>
            <a:chOff x="1390680" y="2023920"/>
            <a:chExt cx="6447960" cy="3841920"/>
          </a:xfrm>
        </p:grpSpPr>
        <p:sp>
          <p:nvSpPr>
            <p:cNvPr id="73" name="Line 6"/>
            <p:cNvSpPr/>
            <p:nvPr/>
          </p:nvSpPr>
          <p:spPr>
            <a:xfrm>
              <a:off x="2449440" y="3709800"/>
              <a:ext cx="241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 flipV="1">
              <a:off x="4865760" y="3724200"/>
              <a:ext cx="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3238560" y="4905360"/>
              <a:ext cx="2415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2449440" y="5437440"/>
              <a:ext cx="241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449440" y="3709800"/>
              <a:ext cx="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V="1">
              <a:off x="4865760" y="3177720"/>
              <a:ext cx="788760" cy="54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V="1">
              <a:off x="4865760" y="4905000"/>
              <a:ext cx="788760" cy="54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V="1">
              <a:off x="2449440" y="4892760"/>
              <a:ext cx="769680" cy="544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V="1">
              <a:off x="1390680" y="4547880"/>
              <a:ext cx="46357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 flipV="1">
              <a:off x="1390680" y="4592160"/>
              <a:ext cx="841320" cy="64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 flipV="1">
              <a:off x="6026400" y="3906360"/>
              <a:ext cx="676080" cy="64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 flipV="1">
              <a:off x="3219480" y="3163680"/>
              <a:ext cx="0" cy="1727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V="1">
              <a:off x="5639040" y="3177720"/>
              <a:ext cx="0" cy="88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V="1">
              <a:off x="5648400" y="460656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5630760" y="40665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 flipV="1">
              <a:off x="5639040" y="3906360"/>
              <a:ext cx="1063440" cy="14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V="1">
              <a:off x="2232000" y="4547880"/>
              <a:ext cx="217440" cy="4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9"/>
            <p:cNvSpPr/>
            <p:nvPr/>
          </p:nvSpPr>
          <p:spPr>
            <a:xfrm>
              <a:off x="6880680" y="388764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 flipV="1">
              <a:off x="2449440" y="3163320"/>
              <a:ext cx="788760" cy="54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3238560" y="3163680"/>
              <a:ext cx="241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48"/>
            <p:cNvGrpSpPr/>
            <p:nvPr/>
          </p:nvGrpSpPr>
          <p:grpSpPr>
            <a:xfrm>
              <a:off x="3700080" y="3906360"/>
              <a:ext cx="1162080" cy="1533240"/>
              <a:chOff x="3700080" y="3906360"/>
              <a:chExt cx="1162080" cy="1533240"/>
            </a:xfrm>
          </p:grpSpPr>
          <p:sp>
            <p:nvSpPr>
              <p:cNvPr id="94" name="Line 33"/>
              <p:cNvSpPr/>
              <p:nvPr/>
            </p:nvSpPr>
            <p:spPr>
              <a:xfrm flipH="1" flipV="1">
                <a:off x="4179600" y="3906360"/>
                <a:ext cx="168480" cy="64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34"/>
              <p:cNvSpPr/>
              <p:nvPr/>
            </p:nvSpPr>
            <p:spPr>
              <a:xfrm>
                <a:off x="3700080" y="4979880"/>
                <a:ext cx="116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Norm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35"/>
            <p:cNvSpPr/>
            <p:nvPr/>
          </p:nvSpPr>
          <p:spPr>
            <a:xfrm>
              <a:off x="5661000" y="27097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kd-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6348600" y="4105080"/>
              <a:ext cx="568080" cy="1569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6"/>
            <p:cNvSpPr/>
            <p:nvPr/>
          </p:nvSpPr>
          <p:spPr>
            <a:xfrm rot="21079200">
              <a:off x="2361600" y="4287960"/>
              <a:ext cx="3368520" cy="558720"/>
            </a:xfrm>
            <a:prstGeom prst="parallelogram">
              <a:avLst>
                <a:gd name="adj" fmla="val 162894"/>
              </a:avLst>
            </a:prstGeom>
            <a:solidFill>
              <a:srgbClr val="8d23dd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0"/>
            <p:cNvSpPr/>
            <p:nvPr/>
          </p:nvSpPr>
          <p:spPr>
            <a:xfrm>
              <a:off x="5733000" y="5040360"/>
              <a:ext cx="18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Valid ext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f the 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4"/>
            <p:cNvSpPr/>
            <p:nvPr/>
          </p:nvSpPr>
          <p:spPr>
            <a:xfrm>
              <a:off x="5135760" y="4467240"/>
              <a:ext cx="691920" cy="1004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46"/>
            <p:cNvSpPr/>
            <p:nvPr/>
          </p:nvSpPr>
          <p:spPr>
            <a:xfrm flipV="1">
              <a:off x="2474640" y="4043160"/>
              <a:ext cx="3208320" cy="482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47"/>
            <p:cNvGrpSpPr/>
            <p:nvPr/>
          </p:nvGrpSpPr>
          <p:grpSpPr>
            <a:xfrm>
              <a:off x="3328560" y="2023920"/>
              <a:ext cx="2027880" cy="2583000"/>
              <a:chOff x="3328560" y="2023920"/>
              <a:chExt cx="2027880" cy="2583000"/>
            </a:xfrm>
          </p:grpSpPr>
          <p:sp>
            <p:nvSpPr>
              <p:cNvPr id="103" name="Line 37"/>
              <p:cNvSpPr/>
              <p:nvPr/>
            </p:nvSpPr>
            <p:spPr>
              <a:xfrm flipH="1">
                <a:off x="4184280" y="2465280"/>
                <a:ext cx="706320" cy="982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8"/>
              <p:cNvSpPr/>
              <p:nvPr/>
            </p:nvSpPr>
            <p:spPr>
              <a:xfrm flipH="1">
                <a:off x="3328560" y="3387600"/>
                <a:ext cx="906120" cy="121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42"/>
              <p:cNvSpPr/>
              <p:nvPr/>
            </p:nvSpPr>
            <p:spPr>
              <a:xfrm>
                <a:off x="4482360" y="202392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Arial"/>
                    <a:ea typeface="굴림"/>
                  </a:rPr>
                  <a:t>Ra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LOD metri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fining specific Level of Det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hich kd-node is used for a r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sed o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stance from the camera and so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erceptual importance is not consider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erceptual importance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Mesh Salienc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703440" y="625644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굴림"/>
              </a:rPr>
              <a:t>Should be considered differentl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3"/>
          <p:cNvSpPr/>
          <p:nvPr/>
        </p:nvSpPr>
        <p:spPr>
          <a:xfrm>
            <a:off x="1562040" y="1901880"/>
            <a:ext cx="4938840" cy="2500200"/>
          </a:xfrm>
          <a:custGeom>
            <a:avLst/>
            <a:gdLst/>
            <a:ahLst/>
            <a:rect l="l" t="t" r="r" b="b"/>
            <a:pathLst>
              <a:path w="13718" h="6947">
                <a:moveTo>
                  <a:pt x="12601" y="9996"/>
                </a:moveTo>
                <a:cubicBezTo>
                  <a:pt x="12595" y="9960"/>
                  <a:pt x="12580" y="9983"/>
                  <a:pt x="12576" y="9947"/>
                </a:cubicBezTo>
                <a:cubicBezTo>
                  <a:pt x="12571" y="9905"/>
                  <a:pt x="12555" y="9853"/>
                  <a:pt x="12551" y="9823"/>
                </a:cubicBezTo>
                <a:cubicBezTo>
                  <a:pt x="12542" y="9751"/>
                  <a:pt x="12541" y="9693"/>
                  <a:pt x="12526" y="9624"/>
                </a:cubicBezTo>
                <a:cubicBezTo>
                  <a:pt x="12511" y="9557"/>
                  <a:pt x="12504" y="9497"/>
                  <a:pt x="12502" y="9426"/>
                </a:cubicBezTo>
                <a:cubicBezTo>
                  <a:pt x="12500" y="9347"/>
                  <a:pt x="12490" y="9258"/>
                  <a:pt x="12477" y="9178"/>
                </a:cubicBezTo>
                <a:cubicBezTo>
                  <a:pt x="12464" y="9097"/>
                  <a:pt x="12435" y="9011"/>
                  <a:pt x="12427" y="8930"/>
                </a:cubicBezTo>
                <a:cubicBezTo>
                  <a:pt x="12419" y="8856"/>
                  <a:pt x="12409" y="8775"/>
                  <a:pt x="12402" y="8706"/>
                </a:cubicBezTo>
                <a:cubicBezTo>
                  <a:pt x="12394" y="8623"/>
                  <a:pt x="12391" y="8541"/>
                  <a:pt x="12378" y="8458"/>
                </a:cubicBezTo>
                <a:cubicBezTo>
                  <a:pt x="12366" y="8381"/>
                  <a:pt x="12355" y="8316"/>
                  <a:pt x="12353" y="8235"/>
                </a:cubicBezTo>
                <a:cubicBezTo>
                  <a:pt x="12345" y="7954"/>
                  <a:pt x="12352" y="7664"/>
                  <a:pt x="12378" y="7392"/>
                </a:cubicBezTo>
                <a:cubicBezTo>
                  <a:pt x="12384" y="7332"/>
                  <a:pt x="12387" y="7294"/>
                  <a:pt x="12402" y="7243"/>
                </a:cubicBezTo>
                <a:cubicBezTo>
                  <a:pt x="12415" y="7199"/>
                  <a:pt x="12409" y="7137"/>
                  <a:pt x="12427" y="7094"/>
                </a:cubicBezTo>
                <a:cubicBezTo>
                  <a:pt x="12443" y="7055"/>
                  <a:pt x="12483" y="7034"/>
                  <a:pt x="12502" y="6995"/>
                </a:cubicBezTo>
                <a:cubicBezTo>
                  <a:pt x="12519" y="6959"/>
                  <a:pt x="12524" y="6930"/>
                  <a:pt x="12551" y="6896"/>
                </a:cubicBezTo>
                <a:cubicBezTo>
                  <a:pt x="12590" y="6848"/>
                  <a:pt x="12607" y="6866"/>
                  <a:pt x="12650" y="6846"/>
                </a:cubicBezTo>
                <a:cubicBezTo>
                  <a:pt x="12681" y="6831"/>
                  <a:pt x="12676" y="6817"/>
                  <a:pt x="12725" y="6821"/>
                </a:cubicBezTo>
                <a:cubicBezTo>
                  <a:pt x="12768" y="6825"/>
                  <a:pt x="12786" y="6856"/>
                  <a:pt x="12824" y="6871"/>
                </a:cubicBezTo>
                <a:cubicBezTo>
                  <a:pt x="12878" y="6893"/>
                  <a:pt x="12920" y="6904"/>
                  <a:pt x="12973" y="6945"/>
                </a:cubicBezTo>
                <a:cubicBezTo>
                  <a:pt x="13016" y="6978"/>
                  <a:pt x="13053" y="7014"/>
                  <a:pt x="13097" y="7045"/>
                </a:cubicBezTo>
                <a:cubicBezTo>
                  <a:pt x="13155" y="7085"/>
                  <a:pt x="13170" y="7124"/>
                  <a:pt x="13221" y="7169"/>
                </a:cubicBezTo>
                <a:cubicBezTo>
                  <a:pt x="13272" y="7213"/>
                  <a:pt x="13307" y="7231"/>
                  <a:pt x="13345" y="7293"/>
                </a:cubicBezTo>
                <a:cubicBezTo>
                  <a:pt x="13370" y="7333"/>
                  <a:pt x="13386" y="7377"/>
                  <a:pt x="13419" y="7417"/>
                </a:cubicBezTo>
                <a:cubicBezTo>
                  <a:pt x="13452" y="7457"/>
                  <a:pt x="13496" y="7494"/>
                  <a:pt x="13519" y="7541"/>
                </a:cubicBezTo>
                <a:cubicBezTo>
                  <a:pt x="13543" y="7589"/>
                  <a:pt x="13572" y="7643"/>
                  <a:pt x="13593" y="7689"/>
                </a:cubicBezTo>
                <a:cubicBezTo>
                  <a:pt x="13612" y="7731"/>
                  <a:pt x="13623" y="7792"/>
                  <a:pt x="13643" y="7838"/>
                </a:cubicBezTo>
                <a:cubicBezTo>
                  <a:pt x="13660" y="7878"/>
                  <a:pt x="13677" y="7918"/>
                  <a:pt x="13692" y="7962"/>
                </a:cubicBezTo>
                <a:cubicBezTo>
                  <a:pt x="13703" y="7996"/>
                  <a:pt x="13703" y="8050"/>
                  <a:pt x="13717" y="8086"/>
                </a:cubicBezTo>
                <a:cubicBezTo>
                  <a:pt x="13730" y="8120"/>
                  <a:pt x="13753" y="8152"/>
                  <a:pt x="13767" y="8186"/>
                </a:cubicBezTo>
                <a:cubicBezTo>
                  <a:pt x="13780" y="8219"/>
                  <a:pt x="13787" y="8235"/>
                  <a:pt x="13791" y="8260"/>
                </a:cubicBezTo>
                <a:cubicBezTo>
                  <a:pt x="13799" y="8310"/>
                  <a:pt x="13787" y="8316"/>
                  <a:pt x="13816" y="8359"/>
                </a:cubicBezTo>
                <a:cubicBezTo>
                  <a:pt x="13858" y="8421"/>
                  <a:pt x="13782" y="8335"/>
                  <a:pt x="13816" y="8334"/>
                </a:cubicBezTo>
              </a:path>
              <a:path w="13718" h="6947">
                <a:moveTo>
                  <a:pt x="13841" y="8359"/>
                </a:moveTo>
                <a:cubicBezTo>
                  <a:pt x="13839" y="8351"/>
                  <a:pt x="13818" y="8305"/>
                  <a:pt x="13816" y="8260"/>
                </a:cubicBezTo>
                <a:cubicBezTo>
                  <a:pt x="13813" y="8188"/>
                  <a:pt x="13793" y="8135"/>
                  <a:pt x="13791" y="8062"/>
                </a:cubicBezTo>
                <a:cubicBezTo>
                  <a:pt x="13788" y="7966"/>
                  <a:pt x="13812" y="7883"/>
                  <a:pt x="13816" y="7789"/>
                </a:cubicBezTo>
                <a:cubicBezTo>
                  <a:pt x="13819" y="7696"/>
                  <a:pt x="13824" y="7583"/>
                  <a:pt x="13841" y="7491"/>
                </a:cubicBezTo>
                <a:cubicBezTo>
                  <a:pt x="13860" y="7388"/>
                  <a:pt x="13882" y="7267"/>
                  <a:pt x="13915" y="7169"/>
                </a:cubicBezTo>
                <a:cubicBezTo>
                  <a:pt x="13940" y="7095"/>
                  <a:pt x="13974" y="6987"/>
                  <a:pt x="14015" y="6921"/>
                </a:cubicBezTo>
                <a:cubicBezTo>
                  <a:pt x="14046" y="6871"/>
                  <a:pt x="14115" y="6797"/>
                  <a:pt x="14163" y="6772"/>
                </a:cubicBezTo>
                <a:cubicBezTo>
                  <a:pt x="14196" y="6755"/>
                  <a:pt x="14245" y="6735"/>
                  <a:pt x="14288" y="6747"/>
                </a:cubicBezTo>
                <a:cubicBezTo>
                  <a:pt x="14331" y="6759"/>
                  <a:pt x="14376" y="6793"/>
                  <a:pt x="14412" y="6821"/>
                </a:cubicBezTo>
                <a:cubicBezTo>
                  <a:pt x="14479" y="6873"/>
                  <a:pt x="14487" y="6934"/>
                  <a:pt x="14536" y="6995"/>
                </a:cubicBezTo>
                <a:cubicBezTo>
                  <a:pt x="14582" y="7053"/>
                  <a:pt x="14616" y="7111"/>
                  <a:pt x="14660" y="7169"/>
                </a:cubicBezTo>
                <a:cubicBezTo>
                  <a:pt x="14713" y="7240"/>
                  <a:pt x="14770" y="7310"/>
                  <a:pt x="14808" y="7392"/>
                </a:cubicBezTo>
                <a:cubicBezTo>
                  <a:pt x="14850" y="7481"/>
                  <a:pt x="14880" y="7576"/>
                  <a:pt x="14908" y="7665"/>
                </a:cubicBezTo>
                <a:cubicBezTo>
                  <a:pt x="14935" y="7749"/>
                  <a:pt x="14941" y="7806"/>
                  <a:pt x="14957" y="7888"/>
                </a:cubicBezTo>
                <a:cubicBezTo>
                  <a:pt x="14969" y="7950"/>
                  <a:pt x="14989" y="8026"/>
                  <a:pt x="15007" y="8086"/>
                </a:cubicBezTo>
                <a:cubicBezTo>
                  <a:pt x="15023" y="8140"/>
                  <a:pt x="15020" y="8198"/>
                  <a:pt x="15032" y="8260"/>
                </a:cubicBezTo>
                <a:cubicBezTo>
                  <a:pt x="15041" y="8306"/>
                  <a:pt x="15046" y="8362"/>
                  <a:pt x="15056" y="8409"/>
                </a:cubicBezTo>
                <a:cubicBezTo>
                  <a:pt x="15067" y="8457"/>
                  <a:pt x="15070" y="8509"/>
                  <a:pt x="15081" y="8558"/>
                </a:cubicBezTo>
                <a:cubicBezTo>
                  <a:pt x="15091" y="8604"/>
                  <a:pt x="15116" y="8662"/>
                  <a:pt x="15131" y="8706"/>
                </a:cubicBezTo>
                <a:cubicBezTo>
                  <a:pt x="15143" y="8740"/>
                  <a:pt x="15145" y="8773"/>
                  <a:pt x="15156" y="8806"/>
                </a:cubicBezTo>
                <a:cubicBezTo>
                  <a:pt x="15167" y="8841"/>
                  <a:pt x="15169" y="8872"/>
                  <a:pt x="15180" y="8905"/>
                </a:cubicBezTo>
                <a:cubicBezTo>
                  <a:pt x="15192" y="8940"/>
                  <a:pt x="15191" y="8971"/>
                  <a:pt x="15205" y="9004"/>
                </a:cubicBezTo>
                <a:cubicBezTo>
                  <a:pt x="15220" y="9041"/>
                  <a:pt x="15221" y="9028"/>
                  <a:pt x="15230" y="9079"/>
                </a:cubicBezTo>
                <a:cubicBezTo>
                  <a:pt x="15240" y="9136"/>
                  <a:pt x="15268" y="9532"/>
                  <a:pt x="15255" y="9550"/>
                </a:cubicBezTo>
                <a:cubicBezTo>
                  <a:pt x="15222" y="9597"/>
                  <a:pt x="15212" y="9551"/>
                  <a:pt x="15180" y="9575"/>
                </a:cubicBezTo>
              </a:path>
              <a:path w="13718" h="6947">
                <a:moveTo>
                  <a:pt x="15032" y="9599"/>
                </a:moveTo>
                <a:cubicBezTo>
                  <a:pt x="15060" y="9575"/>
                  <a:pt x="15021" y="9558"/>
                  <a:pt x="15056" y="9550"/>
                </a:cubicBezTo>
                <a:cubicBezTo>
                  <a:pt x="15166" y="9524"/>
                  <a:pt x="15329" y="9550"/>
                  <a:pt x="15429" y="9575"/>
                </a:cubicBezTo>
                <a:cubicBezTo>
                  <a:pt x="15528" y="9599"/>
                  <a:pt x="15629" y="9602"/>
                  <a:pt x="15726" y="9624"/>
                </a:cubicBezTo>
                <a:cubicBezTo>
                  <a:pt x="15895" y="9663"/>
                  <a:pt x="16060" y="9739"/>
                  <a:pt x="16222" y="9798"/>
                </a:cubicBezTo>
                <a:cubicBezTo>
                  <a:pt x="16338" y="9840"/>
                  <a:pt x="16461" y="9890"/>
                  <a:pt x="16570" y="9947"/>
                </a:cubicBezTo>
                <a:cubicBezTo>
                  <a:pt x="16647" y="9987"/>
                  <a:pt x="16720" y="10047"/>
                  <a:pt x="16793" y="10096"/>
                </a:cubicBezTo>
                <a:cubicBezTo>
                  <a:pt x="16878" y="10153"/>
                  <a:pt x="16942" y="10199"/>
                  <a:pt x="17016" y="10269"/>
                </a:cubicBezTo>
                <a:cubicBezTo>
                  <a:pt x="17083" y="10332"/>
                  <a:pt x="17130" y="10401"/>
                  <a:pt x="17190" y="10468"/>
                </a:cubicBezTo>
                <a:cubicBezTo>
                  <a:pt x="17242" y="10525"/>
                  <a:pt x="17273" y="10566"/>
                  <a:pt x="17314" y="10641"/>
                </a:cubicBezTo>
                <a:cubicBezTo>
                  <a:pt x="17354" y="10716"/>
                  <a:pt x="17359" y="10758"/>
                  <a:pt x="17363" y="10840"/>
                </a:cubicBezTo>
                <a:cubicBezTo>
                  <a:pt x="17367" y="10905"/>
                  <a:pt x="17355" y="10954"/>
                  <a:pt x="17338" y="11013"/>
                </a:cubicBezTo>
                <a:cubicBezTo>
                  <a:pt x="17324" y="11063"/>
                  <a:pt x="17301" y="11095"/>
                  <a:pt x="17264" y="11137"/>
                </a:cubicBezTo>
                <a:cubicBezTo>
                  <a:pt x="17233" y="11172"/>
                  <a:pt x="17178" y="11194"/>
                  <a:pt x="17140" y="11212"/>
                </a:cubicBezTo>
                <a:cubicBezTo>
                  <a:pt x="17103" y="11230"/>
                  <a:pt x="17010" y="11256"/>
                  <a:pt x="16966" y="11261"/>
                </a:cubicBezTo>
                <a:cubicBezTo>
                  <a:pt x="16774" y="11282"/>
                  <a:pt x="16531" y="11280"/>
                  <a:pt x="16346" y="11237"/>
                </a:cubicBezTo>
                <a:cubicBezTo>
                  <a:pt x="16254" y="11216"/>
                  <a:pt x="16165" y="11186"/>
                  <a:pt x="16073" y="11162"/>
                </a:cubicBezTo>
                <a:cubicBezTo>
                  <a:pt x="16004" y="11144"/>
                  <a:pt x="15944" y="11108"/>
                  <a:pt x="15875" y="11088"/>
                </a:cubicBezTo>
                <a:cubicBezTo>
                  <a:pt x="15778" y="11060"/>
                  <a:pt x="15675" y="11042"/>
                  <a:pt x="15577" y="11013"/>
                </a:cubicBezTo>
                <a:cubicBezTo>
                  <a:pt x="15495" y="10989"/>
                  <a:pt x="15410" y="10985"/>
                  <a:pt x="15329" y="10964"/>
                </a:cubicBezTo>
                <a:cubicBezTo>
                  <a:pt x="15242" y="10942"/>
                  <a:pt x="15166" y="10908"/>
                  <a:pt x="15081" y="10889"/>
                </a:cubicBezTo>
                <a:cubicBezTo>
                  <a:pt x="15002" y="10871"/>
                  <a:pt x="14936" y="10840"/>
                  <a:pt x="14858" y="10815"/>
                </a:cubicBezTo>
                <a:cubicBezTo>
                  <a:pt x="14788" y="10792"/>
                  <a:pt x="14708" y="10762"/>
                  <a:pt x="14635" y="10740"/>
                </a:cubicBezTo>
                <a:cubicBezTo>
                  <a:pt x="14570" y="10720"/>
                  <a:pt x="14471" y="10675"/>
                  <a:pt x="14412" y="10666"/>
                </a:cubicBezTo>
                <a:cubicBezTo>
                  <a:pt x="14349" y="10657"/>
                  <a:pt x="14298" y="10658"/>
                  <a:pt x="14238" y="10641"/>
                </a:cubicBezTo>
                <a:cubicBezTo>
                  <a:pt x="14182" y="10625"/>
                  <a:pt x="14145" y="10627"/>
                  <a:pt x="14089" y="10616"/>
                </a:cubicBezTo>
                <a:cubicBezTo>
                  <a:pt x="14033" y="10605"/>
                  <a:pt x="13999" y="10595"/>
                  <a:pt x="13940" y="10592"/>
                </a:cubicBezTo>
                <a:cubicBezTo>
                  <a:pt x="13932" y="10592"/>
                  <a:pt x="13923" y="10592"/>
                  <a:pt x="13915" y="10592"/>
                </a:cubicBezTo>
              </a:path>
              <a:path w="13718" h="6947">
                <a:moveTo>
                  <a:pt x="12576" y="9971"/>
                </a:moveTo>
                <a:cubicBezTo>
                  <a:pt x="12576" y="9963"/>
                  <a:pt x="12576" y="9955"/>
                  <a:pt x="12576" y="9947"/>
                </a:cubicBezTo>
                <a:cubicBezTo>
                  <a:pt x="12566" y="9986"/>
                  <a:pt x="12551" y="10001"/>
                  <a:pt x="12551" y="10046"/>
                </a:cubicBezTo>
                <a:cubicBezTo>
                  <a:pt x="12551" y="10100"/>
                  <a:pt x="12567" y="10128"/>
                  <a:pt x="12576" y="10170"/>
                </a:cubicBezTo>
                <a:cubicBezTo>
                  <a:pt x="12586" y="10218"/>
                  <a:pt x="12601" y="10245"/>
                  <a:pt x="12601" y="10294"/>
                </a:cubicBezTo>
                <a:cubicBezTo>
                  <a:pt x="12601" y="10338"/>
                  <a:pt x="12638" y="10356"/>
                  <a:pt x="12650" y="10393"/>
                </a:cubicBezTo>
                <a:cubicBezTo>
                  <a:pt x="12656" y="10412"/>
                  <a:pt x="12650" y="10447"/>
                  <a:pt x="12650" y="10468"/>
                </a:cubicBezTo>
                <a:cubicBezTo>
                  <a:pt x="12689" y="10481"/>
                  <a:pt x="12666" y="10504"/>
                  <a:pt x="12700" y="10542"/>
                </a:cubicBezTo>
                <a:cubicBezTo>
                  <a:pt x="12727" y="10572"/>
                  <a:pt x="12741" y="10603"/>
                  <a:pt x="12750" y="10641"/>
                </a:cubicBezTo>
                <a:cubicBezTo>
                  <a:pt x="12802" y="10659"/>
                  <a:pt x="12750" y="10674"/>
                  <a:pt x="12774" y="10716"/>
                </a:cubicBezTo>
                <a:cubicBezTo>
                  <a:pt x="12788" y="10741"/>
                  <a:pt x="12799" y="10784"/>
                  <a:pt x="12799" y="10740"/>
                </a:cubicBezTo>
              </a:path>
              <a:path w="13718" h="6947">
                <a:moveTo>
                  <a:pt x="18033" y="7590"/>
                </a:moveTo>
                <a:cubicBezTo>
                  <a:pt x="18000" y="7623"/>
                  <a:pt x="17996" y="7612"/>
                  <a:pt x="17959" y="7640"/>
                </a:cubicBezTo>
                <a:cubicBezTo>
                  <a:pt x="17889" y="7693"/>
                  <a:pt x="17811" y="7737"/>
                  <a:pt x="17735" y="7789"/>
                </a:cubicBezTo>
                <a:cubicBezTo>
                  <a:pt x="17615" y="7872"/>
                  <a:pt x="17498" y="7938"/>
                  <a:pt x="17388" y="8037"/>
                </a:cubicBezTo>
                <a:cubicBezTo>
                  <a:pt x="17298" y="8118"/>
                  <a:pt x="17193" y="8196"/>
                  <a:pt x="17115" y="8285"/>
                </a:cubicBezTo>
                <a:cubicBezTo>
                  <a:pt x="17063" y="8344"/>
                  <a:pt x="17038" y="8422"/>
                  <a:pt x="16991" y="8483"/>
                </a:cubicBezTo>
                <a:cubicBezTo>
                  <a:pt x="16966" y="8516"/>
                  <a:pt x="16933" y="8542"/>
                  <a:pt x="16917" y="8558"/>
                </a:cubicBezTo>
                <a:cubicBezTo>
                  <a:pt x="16885" y="8590"/>
                  <a:pt x="16937" y="8538"/>
                  <a:pt x="16942" y="8533"/>
                </a:cubicBezTo>
              </a:path>
              <a:path w="13718" h="6947">
                <a:moveTo>
                  <a:pt x="16892" y="8210"/>
                </a:moveTo>
                <a:cubicBezTo>
                  <a:pt x="16954" y="8151"/>
                  <a:pt x="16852" y="8265"/>
                  <a:pt x="16842" y="8285"/>
                </a:cubicBezTo>
                <a:cubicBezTo>
                  <a:pt x="16798" y="8368"/>
                  <a:pt x="16762" y="8451"/>
                  <a:pt x="16718" y="8533"/>
                </a:cubicBezTo>
                <a:cubicBezTo>
                  <a:pt x="16681" y="8602"/>
                  <a:pt x="16650" y="8680"/>
                  <a:pt x="16644" y="8756"/>
                </a:cubicBezTo>
                <a:cubicBezTo>
                  <a:pt x="16642" y="8788"/>
                  <a:pt x="16627" y="8800"/>
                  <a:pt x="16619" y="8830"/>
                </a:cubicBezTo>
                <a:cubicBezTo>
                  <a:pt x="16691" y="8830"/>
                  <a:pt x="16752" y="8837"/>
                  <a:pt x="16818" y="8806"/>
                </a:cubicBezTo>
                <a:cubicBezTo>
                  <a:pt x="16885" y="8775"/>
                  <a:pt x="16966" y="8759"/>
                  <a:pt x="17041" y="8756"/>
                </a:cubicBezTo>
                <a:cubicBezTo>
                  <a:pt x="17128" y="8752"/>
                  <a:pt x="17199" y="8731"/>
                  <a:pt x="17289" y="8731"/>
                </a:cubicBezTo>
                <a:cubicBezTo>
                  <a:pt x="17343" y="8731"/>
                  <a:pt x="17368" y="8751"/>
                  <a:pt x="17413" y="8756"/>
                </a:cubicBezTo>
                <a:cubicBezTo>
                  <a:pt x="17421" y="8756"/>
                  <a:pt x="17430" y="8756"/>
                  <a:pt x="17438" y="8756"/>
                </a:cubicBezTo>
                <a:cubicBezTo>
                  <a:pt x="17388" y="8706"/>
                  <a:pt x="17338" y="8624"/>
                  <a:pt x="17289" y="8582"/>
                </a:cubicBezTo>
                <a:cubicBezTo>
                  <a:pt x="17230" y="8532"/>
                  <a:pt x="17176" y="8490"/>
                  <a:pt x="17115" y="8434"/>
                </a:cubicBezTo>
                <a:cubicBezTo>
                  <a:pt x="17065" y="8388"/>
                  <a:pt x="17023" y="8333"/>
                  <a:pt x="16991" y="8285"/>
                </a:cubicBezTo>
                <a:cubicBezTo>
                  <a:pt x="16982" y="8272"/>
                  <a:pt x="16930" y="8216"/>
                  <a:pt x="16917" y="8210"/>
                </a:cubicBezTo>
                <a:cubicBezTo>
                  <a:pt x="16881" y="8192"/>
                  <a:pt x="16874" y="8214"/>
                  <a:pt x="16867" y="8235"/>
                </a:cubicBezTo>
              </a:path>
              <a:path w="13718" h="6947">
                <a:moveTo>
                  <a:pt x="16892" y="8235"/>
                </a:moveTo>
                <a:cubicBezTo>
                  <a:pt x="16842" y="8260"/>
                  <a:pt x="16844" y="8304"/>
                  <a:pt x="16818" y="8359"/>
                </a:cubicBezTo>
                <a:cubicBezTo>
                  <a:pt x="16783" y="8433"/>
                  <a:pt x="16754" y="8508"/>
                  <a:pt x="16718" y="8582"/>
                </a:cubicBezTo>
                <a:cubicBezTo>
                  <a:pt x="16694" y="8631"/>
                  <a:pt x="16695" y="8664"/>
                  <a:pt x="16669" y="8706"/>
                </a:cubicBezTo>
                <a:cubicBezTo>
                  <a:pt x="16709" y="8693"/>
                  <a:pt x="16711" y="8650"/>
                  <a:pt x="16743" y="8607"/>
                </a:cubicBezTo>
                <a:cubicBezTo>
                  <a:pt x="16788" y="8547"/>
                  <a:pt x="16829" y="8476"/>
                  <a:pt x="16867" y="8409"/>
                </a:cubicBezTo>
                <a:cubicBezTo>
                  <a:pt x="16875" y="8396"/>
                  <a:pt x="16977" y="8259"/>
                  <a:pt x="16942" y="8310"/>
                </a:cubicBezTo>
                <a:cubicBezTo>
                  <a:pt x="16901" y="8370"/>
                  <a:pt x="16896" y="8417"/>
                  <a:pt x="16867" y="8483"/>
                </a:cubicBezTo>
                <a:cubicBezTo>
                  <a:pt x="16835" y="8554"/>
                  <a:pt x="16803" y="8605"/>
                  <a:pt x="16793" y="8682"/>
                </a:cubicBezTo>
                <a:cubicBezTo>
                  <a:pt x="16834" y="8641"/>
                  <a:pt x="16865" y="8609"/>
                  <a:pt x="16892" y="8558"/>
                </a:cubicBezTo>
                <a:cubicBezTo>
                  <a:pt x="16923" y="8500"/>
                  <a:pt x="16945" y="8455"/>
                  <a:pt x="16991" y="8409"/>
                </a:cubicBezTo>
                <a:cubicBezTo>
                  <a:pt x="16999" y="8401"/>
                  <a:pt x="17008" y="8392"/>
                  <a:pt x="17016" y="8384"/>
                </a:cubicBezTo>
                <a:cubicBezTo>
                  <a:pt x="17004" y="8442"/>
                  <a:pt x="16970" y="8480"/>
                  <a:pt x="16942" y="8533"/>
                </a:cubicBezTo>
                <a:cubicBezTo>
                  <a:pt x="16909" y="8596"/>
                  <a:pt x="16904" y="8643"/>
                  <a:pt x="16867" y="8706"/>
                </a:cubicBezTo>
                <a:cubicBezTo>
                  <a:pt x="16917" y="8694"/>
                  <a:pt x="16939" y="8653"/>
                  <a:pt x="16966" y="8607"/>
                </a:cubicBezTo>
                <a:cubicBezTo>
                  <a:pt x="16997" y="8556"/>
                  <a:pt x="17010" y="8522"/>
                  <a:pt x="17066" y="8508"/>
                </a:cubicBezTo>
                <a:cubicBezTo>
                  <a:pt x="17056" y="8548"/>
                  <a:pt x="17028" y="8570"/>
                  <a:pt x="17016" y="8607"/>
                </a:cubicBezTo>
                <a:cubicBezTo>
                  <a:pt x="17001" y="8653"/>
                  <a:pt x="17002" y="8675"/>
                  <a:pt x="16991" y="8706"/>
                </a:cubicBezTo>
                <a:cubicBezTo>
                  <a:pt x="17015" y="8698"/>
                  <a:pt x="17056" y="8658"/>
                  <a:pt x="17090" y="8632"/>
                </a:cubicBezTo>
                <a:cubicBezTo>
                  <a:pt x="17128" y="8603"/>
                  <a:pt x="17154" y="8584"/>
                  <a:pt x="17190" y="8558"/>
                </a:cubicBezTo>
                <a:cubicBezTo>
                  <a:pt x="17182" y="8590"/>
                  <a:pt x="17154" y="8654"/>
                  <a:pt x="17140" y="8682"/>
                </a:cubicBezTo>
                <a:cubicBezTo>
                  <a:pt x="17117" y="8704"/>
                  <a:pt x="17109" y="8709"/>
                  <a:pt x="17115" y="8731"/>
                </a:cubicBezTo>
                <a:cubicBezTo>
                  <a:pt x="17161" y="8731"/>
                  <a:pt x="17174" y="8711"/>
                  <a:pt x="17214" y="8706"/>
                </a:cubicBezTo>
                <a:cubicBezTo>
                  <a:pt x="17271" y="8700"/>
                  <a:pt x="17248" y="8726"/>
                  <a:pt x="17289" y="8731"/>
                </a:cubicBezTo>
                <a:cubicBezTo>
                  <a:pt x="17334" y="8737"/>
                  <a:pt x="17354" y="8732"/>
                  <a:pt x="17388" y="8706"/>
                </a:cubicBezTo>
              </a:path>
              <a:path w="13718" h="6947">
                <a:moveTo>
                  <a:pt x="15156" y="11286"/>
                </a:moveTo>
                <a:cubicBezTo>
                  <a:pt x="15021" y="11340"/>
                  <a:pt x="14933" y="11384"/>
                  <a:pt x="14784" y="11410"/>
                </a:cubicBezTo>
                <a:cubicBezTo>
                  <a:pt x="14583" y="11445"/>
                  <a:pt x="14369" y="11445"/>
                  <a:pt x="14163" y="11435"/>
                </a:cubicBezTo>
                <a:cubicBezTo>
                  <a:pt x="13939" y="11424"/>
                  <a:pt x="13737" y="11389"/>
                  <a:pt x="13519" y="11336"/>
                </a:cubicBezTo>
                <a:cubicBezTo>
                  <a:pt x="13273" y="11277"/>
                  <a:pt x="13035" y="11210"/>
                  <a:pt x="12799" y="11112"/>
                </a:cubicBezTo>
                <a:cubicBezTo>
                  <a:pt x="12446" y="10965"/>
                  <a:pt x="12100" y="10685"/>
                  <a:pt x="11857" y="10393"/>
                </a:cubicBezTo>
                <a:cubicBezTo>
                  <a:pt x="11682" y="10183"/>
                  <a:pt x="11522" y="9949"/>
                  <a:pt x="11410" y="9699"/>
                </a:cubicBezTo>
                <a:cubicBezTo>
                  <a:pt x="11295" y="9441"/>
                  <a:pt x="11204" y="9154"/>
                  <a:pt x="11137" y="8880"/>
                </a:cubicBezTo>
                <a:cubicBezTo>
                  <a:pt x="11027" y="8432"/>
                  <a:pt x="11006" y="7873"/>
                  <a:pt x="11088" y="7417"/>
                </a:cubicBezTo>
                <a:cubicBezTo>
                  <a:pt x="11162" y="7003"/>
                  <a:pt x="11309" y="6686"/>
                  <a:pt x="11509" y="6325"/>
                </a:cubicBezTo>
                <a:cubicBezTo>
                  <a:pt x="11629" y="6109"/>
                  <a:pt x="11805" y="5951"/>
                  <a:pt x="11981" y="5779"/>
                </a:cubicBezTo>
                <a:cubicBezTo>
                  <a:pt x="12158" y="5607"/>
                  <a:pt x="12379" y="5520"/>
                  <a:pt x="12601" y="5432"/>
                </a:cubicBezTo>
                <a:cubicBezTo>
                  <a:pt x="12813" y="5348"/>
                  <a:pt x="13066" y="5285"/>
                  <a:pt x="13295" y="5283"/>
                </a:cubicBezTo>
                <a:cubicBezTo>
                  <a:pt x="13602" y="5280"/>
                  <a:pt x="13917" y="5330"/>
                  <a:pt x="14213" y="5407"/>
                </a:cubicBezTo>
                <a:cubicBezTo>
                  <a:pt x="14708" y="5536"/>
                  <a:pt x="15183" y="5857"/>
                  <a:pt x="15553" y="6201"/>
                </a:cubicBezTo>
                <a:cubicBezTo>
                  <a:pt x="15743" y="6378"/>
                  <a:pt x="15960" y="6626"/>
                  <a:pt x="16098" y="6846"/>
                </a:cubicBezTo>
                <a:cubicBezTo>
                  <a:pt x="16259" y="7101"/>
                  <a:pt x="16375" y="7376"/>
                  <a:pt x="16520" y="7640"/>
                </a:cubicBezTo>
                <a:cubicBezTo>
                  <a:pt x="16675" y="7923"/>
                  <a:pt x="16767" y="8201"/>
                  <a:pt x="16867" y="8508"/>
                </a:cubicBezTo>
                <a:cubicBezTo>
                  <a:pt x="17033" y="9017"/>
                  <a:pt x="17101" y="9587"/>
                  <a:pt x="17016" y="10120"/>
                </a:cubicBezTo>
                <a:cubicBezTo>
                  <a:pt x="16969" y="10415"/>
                  <a:pt x="16872" y="10686"/>
                  <a:pt x="16768" y="10964"/>
                </a:cubicBezTo>
                <a:cubicBezTo>
                  <a:pt x="16651" y="11277"/>
                  <a:pt x="16460" y="11618"/>
                  <a:pt x="16222" y="11857"/>
                </a:cubicBezTo>
                <a:cubicBezTo>
                  <a:pt x="16117" y="11962"/>
                  <a:pt x="15962" y="12052"/>
                  <a:pt x="15825" y="12080"/>
                </a:cubicBezTo>
                <a:cubicBezTo>
                  <a:pt x="15715" y="12102"/>
                  <a:pt x="15606" y="12058"/>
                  <a:pt x="15503" y="12055"/>
                </a:cubicBezTo>
              </a:path>
              <a:path w="13718" h="6947">
                <a:moveTo>
                  <a:pt x="7020" y="12105"/>
                </a:moveTo>
                <a:cubicBezTo>
                  <a:pt x="6943" y="12087"/>
                  <a:pt x="6862" y="12080"/>
                  <a:pt x="6796" y="12055"/>
                </a:cubicBezTo>
                <a:cubicBezTo>
                  <a:pt x="6772" y="12055"/>
                  <a:pt x="6764" y="12055"/>
                  <a:pt x="6772" y="12030"/>
                </a:cubicBezTo>
                <a:cubicBezTo>
                  <a:pt x="6831" y="11990"/>
                  <a:pt x="6878" y="11940"/>
                  <a:pt x="6945" y="11906"/>
                </a:cubicBezTo>
                <a:cubicBezTo>
                  <a:pt x="7199" y="11779"/>
                  <a:pt x="7505" y="11658"/>
                  <a:pt x="7789" y="11633"/>
                </a:cubicBezTo>
                <a:cubicBezTo>
                  <a:pt x="7962" y="11618"/>
                  <a:pt x="8177" y="11630"/>
                  <a:pt x="8334" y="11708"/>
                </a:cubicBezTo>
                <a:cubicBezTo>
                  <a:pt x="8468" y="11775"/>
                  <a:pt x="8578" y="11882"/>
                  <a:pt x="8706" y="11956"/>
                </a:cubicBezTo>
                <a:cubicBezTo>
                  <a:pt x="8919" y="12079"/>
                  <a:pt x="9154" y="12184"/>
                  <a:pt x="9401" y="12204"/>
                </a:cubicBezTo>
                <a:cubicBezTo>
                  <a:pt x="9591" y="12219"/>
                  <a:pt x="9779" y="12229"/>
                  <a:pt x="9971" y="12229"/>
                </a:cubicBezTo>
                <a:cubicBezTo>
                  <a:pt x="10141" y="12229"/>
                  <a:pt x="10302" y="12227"/>
                  <a:pt x="10468" y="12179"/>
                </a:cubicBezTo>
                <a:cubicBezTo>
                  <a:pt x="10619" y="12135"/>
                  <a:pt x="10763" y="12077"/>
                  <a:pt x="10889" y="11981"/>
                </a:cubicBezTo>
                <a:cubicBezTo>
                  <a:pt x="11050" y="11859"/>
                  <a:pt x="11147" y="11748"/>
                  <a:pt x="11261" y="11584"/>
                </a:cubicBezTo>
                <a:cubicBezTo>
                  <a:pt x="11347" y="11461"/>
                  <a:pt x="11436" y="11314"/>
                  <a:pt x="11460" y="11162"/>
                </a:cubicBezTo>
                <a:cubicBezTo>
                  <a:pt x="11484" y="11013"/>
                  <a:pt x="11440" y="10899"/>
                  <a:pt x="11410" y="10765"/>
                </a:cubicBezTo>
                <a:cubicBezTo>
                  <a:pt x="11379" y="10625"/>
                  <a:pt x="11339" y="10491"/>
                  <a:pt x="11261" y="10368"/>
                </a:cubicBezTo>
                <a:cubicBezTo>
                  <a:pt x="11192" y="10259"/>
                  <a:pt x="11087" y="10155"/>
                  <a:pt x="10988" y="10071"/>
                </a:cubicBezTo>
                <a:cubicBezTo>
                  <a:pt x="10865" y="9967"/>
                  <a:pt x="10742" y="9888"/>
                  <a:pt x="10592" y="9823"/>
                </a:cubicBezTo>
                <a:cubicBezTo>
                  <a:pt x="10432" y="9754"/>
                  <a:pt x="10265" y="9667"/>
                  <a:pt x="10096" y="9624"/>
                </a:cubicBezTo>
                <a:cubicBezTo>
                  <a:pt x="9851" y="9561"/>
                  <a:pt x="9578" y="9529"/>
                  <a:pt x="9327" y="9525"/>
                </a:cubicBezTo>
                <a:cubicBezTo>
                  <a:pt x="9094" y="9521"/>
                  <a:pt x="8863" y="9518"/>
                  <a:pt x="8632" y="9550"/>
                </a:cubicBezTo>
                <a:cubicBezTo>
                  <a:pt x="8274" y="9600"/>
                  <a:pt x="7951" y="9664"/>
                  <a:pt x="7615" y="9798"/>
                </a:cubicBezTo>
                <a:cubicBezTo>
                  <a:pt x="7460" y="9860"/>
                  <a:pt x="7322" y="9920"/>
                  <a:pt x="7193" y="10021"/>
                </a:cubicBezTo>
                <a:cubicBezTo>
                  <a:pt x="7097" y="10096"/>
                  <a:pt x="6981" y="10213"/>
                  <a:pt x="6921" y="10319"/>
                </a:cubicBezTo>
                <a:cubicBezTo>
                  <a:pt x="6855" y="10436"/>
                  <a:pt x="6815" y="10567"/>
                  <a:pt x="6772" y="10691"/>
                </a:cubicBezTo>
                <a:cubicBezTo>
                  <a:pt x="6724" y="10830"/>
                  <a:pt x="6676" y="10988"/>
                  <a:pt x="6697" y="11137"/>
                </a:cubicBezTo>
                <a:cubicBezTo>
                  <a:pt x="6710" y="11230"/>
                  <a:pt x="6774" y="11378"/>
                  <a:pt x="6821" y="11460"/>
                </a:cubicBezTo>
                <a:cubicBezTo>
                  <a:pt x="6861" y="11530"/>
                  <a:pt x="6941" y="11579"/>
                  <a:pt x="6970" y="11658"/>
                </a:cubicBezTo>
                <a:cubicBezTo>
                  <a:pt x="6996" y="11728"/>
                  <a:pt x="7007" y="11803"/>
                  <a:pt x="6995" y="11881"/>
                </a:cubicBezTo>
                <a:cubicBezTo>
                  <a:pt x="6982" y="11965"/>
                  <a:pt x="6961" y="12018"/>
                  <a:pt x="6896" y="12080"/>
                </a:cubicBezTo>
                <a:cubicBezTo>
                  <a:pt x="6846" y="12105"/>
                  <a:pt x="6830" y="12113"/>
                  <a:pt x="6796" y="12129"/>
                </a:cubicBezTo>
              </a:path>
              <a:path w="13718" h="6947">
                <a:moveTo>
                  <a:pt x="6995" y="10567"/>
                </a:moveTo>
                <a:cubicBezTo>
                  <a:pt x="6985" y="10567"/>
                  <a:pt x="6980" y="10570"/>
                  <a:pt x="6945" y="10567"/>
                </a:cubicBezTo>
                <a:cubicBezTo>
                  <a:pt x="6874" y="10561"/>
                  <a:pt x="6816" y="10549"/>
                  <a:pt x="6747" y="10542"/>
                </a:cubicBezTo>
                <a:cubicBezTo>
                  <a:pt x="6585" y="10526"/>
                  <a:pt x="6410" y="10538"/>
                  <a:pt x="6251" y="10567"/>
                </a:cubicBezTo>
                <a:cubicBezTo>
                  <a:pt x="6031" y="10607"/>
                  <a:pt x="5817" y="10645"/>
                  <a:pt x="5606" y="10716"/>
                </a:cubicBezTo>
                <a:cubicBezTo>
                  <a:pt x="5435" y="10774"/>
                  <a:pt x="5275" y="10843"/>
                  <a:pt x="5110" y="10914"/>
                </a:cubicBezTo>
                <a:cubicBezTo>
                  <a:pt x="4949" y="10983"/>
                  <a:pt x="4854" y="11068"/>
                  <a:pt x="4713" y="11162"/>
                </a:cubicBezTo>
                <a:cubicBezTo>
                  <a:pt x="4612" y="11230"/>
                  <a:pt x="4531" y="11299"/>
                  <a:pt x="4440" y="11385"/>
                </a:cubicBezTo>
                <a:cubicBezTo>
                  <a:pt x="4406" y="11417"/>
                  <a:pt x="4374" y="11452"/>
                  <a:pt x="4341" y="11485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4"/>
          <p:cNvSpPr/>
          <p:nvPr/>
        </p:nvSpPr>
        <p:spPr>
          <a:xfrm>
            <a:off x="1990800" y="3759120"/>
            <a:ext cx="4152960" cy="2036880"/>
          </a:xfrm>
          <a:custGeom>
            <a:avLst/>
            <a:gdLst/>
            <a:ahLst/>
            <a:rect l="l" t="t" r="r" b="b"/>
            <a:pathLst>
              <a:path w="11536" h="5656">
                <a:moveTo>
                  <a:pt x="15081" y="10914"/>
                </a:moveTo>
                <a:cubicBezTo>
                  <a:pt x="15081" y="10914"/>
                  <a:pt x="15098" y="10965"/>
                  <a:pt x="15106" y="10988"/>
                </a:cubicBezTo>
                <a:cubicBezTo>
                  <a:pt x="15117" y="11020"/>
                  <a:pt x="15119" y="11032"/>
                  <a:pt x="15131" y="11063"/>
                </a:cubicBezTo>
                <a:cubicBezTo>
                  <a:pt x="15150" y="11114"/>
                  <a:pt x="15167" y="11159"/>
                  <a:pt x="15180" y="11212"/>
                </a:cubicBezTo>
                <a:cubicBezTo>
                  <a:pt x="15196" y="11275"/>
                  <a:pt x="15188" y="11348"/>
                  <a:pt x="15205" y="11410"/>
                </a:cubicBezTo>
                <a:cubicBezTo>
                  <a:pt x="15227" y="11492"/>
                  <a:pt x="15240" y="11552"/>
                  <a:pt x="15255" y="11633"/>
                </a:cubicBezTo>
                <a:cubicBezTo>
                  <a:pt x="15270" y="11711"/>
                  <a:pt x="15278" y="11774"/>
                  <a:pt x="15280" y="11857"/>
                </a:cubicBezTo>
                <a:cubicBezTo>
                  <a:pt x="15282" y="11934"/>
                  <a:pt x="15271" y="11985"/>
                  <a:pt x="15255" y="12055"/>
                </a:cubicBezTo>
                <a:cubicBezTo>
                  <a:pt x="15241" y="12117"/>
                  <a:pt x="15235" y="12170"/>
                  <a:pt x="15205" y="12229"/>
                </a:cubicBezTo>
                <a:cubicBezTo>
                  <a:pt x="15178" y="12283"/>
                  <a:pt x="15142" y="12354"/>
                  <a:pt x="15106" y="12402"/>
                </a:cubicBezTo>
                <a:cubicBezTo>
                  <a:pt x="15070" y="12450"/>
                  <a:pt x="15000" y="12483"/>
                  <a:pt x="14957" y="12526"/>
                </a:cubicBezTo>
                <a:cubicBezTo>
                  <a:pt x="14897" y="12587"/>
                  <a:pt x="14838" y="12629"/>
                  <a:pt x="14759" y="12675"/>
                </a:cubicBezTo>
                <a:cubicBezTo>
                  <a:pt x="14693" y="12713"/>
                  <a:pt x="14623" y="12724"/>
                  <a:pt x="14560" y="12750"/>
                </a:cubicBezTo>
                <a:cubicBezTo>
                  <a:pt x="14462" y="12791"/>
                  <a:pt x="14356" y="12836"/>
                  <a:pt x="14263" y="12874"/>
                </a:cubicBezTo>
                <a:cubicBezTo>
                  <a:pt x="14185" y="12906"/>
                  <a:pt x="14119" y="12928"/>
                  <a:pt x="14039" y="12948"/>
                </a:cubicBezTo>
                <a:cubicBezTo>
                  <a:pt x="13964" y="12967"/>
                  <a:pt x="13895" y="12962"/>
                  <a:pt x="13816" y="12973"/>
                </a:cubicBezTo>
                <a:cubicBezTo>
                  <a:pt x="13731" y="12985"/>
                  <a:pt x="13652" y="13007"/>
                  <a:pt x="13568" y="13022"/>
                </a:cubicBezTo>
                <a:cubicBezTo>
                  <a:pt x="13469" y="13040"/>
                  <a:pt x="13373" y="13045"/>
                  <a:pt x="13271" y="13047"/>
                </a:cubicBezTo>
                <a:cubicBezTo>
                  <a:pt x="13150" y="13050"/>
                  <a:pt x="13043" y="13087"/>
                  <a:pt x="12923" y="13097"/>
                </a:cubicBezTo>
                <a:cubicBezTo>
                  <a:pt x="12814" y="13106"/>
                  <a:pt x="12708" y="13108"/>
                  <a:pt x="12601" y="13122"/>
                </a:cubicBezTo>
                <a:cubicBezTo>
                  <a:pt x="12494" y="13136"/>
                  <a:pt x="12385" y="13134"/>
                  <a:pt x="12278" y="13146"/>
                </a:cubicBezTo>
                <a:cubicBezTo>
                  <a:pt x="12180" y="13157"/>
                  <a:pt x="12078" y="13189"/>
                  <a:pt x="11981" y="13196"/>
                </a:cubicBezTo>
                <a:cubicBezTo>
                  <a:pt x="11883" y="13203"/>
                  <a:pt x="11777" y="13216"/>
                  <a:pt x="11683" y="13221"/>
                </a:cubicBezTo>
                <a:cubicBezTo>
                  <a:pt x="11583" y="13227"/>
                  <a:pt x="11481" y="13239"/>
                  <a:pt x="11385" y="13246"/>
                </a:cubicBezTo>
                <a:cubicBezTo>
                  <a:pt x="11303" y="13246"/>
                  <a:pt x="11286" y="13246"/>
                  <a:pt x="11237" y="13246"/>
                </a:cubicBezTo>
              </a:path>
              <a:path w="11536" h="5656">
                <a:moveTo>
                  <a:pt x="12650" y="10542"/>
                </a:moveTo>
                <a:cubicBezTo>
                  <a:pt x="12620" y="10528"/>
                  <a:pt x="12683" y="10499"/>
                  <a:pt x="12650" y="10492"/>
                </a:cubicBezTo>
                <a:cubicBezTo>
                  <a:pt x="12331" y="10427"/>
                  <a:pt x="11953" y="10513"/>
                  <a:pt x="11633" y="10517"/>
                </a:cubicBezTo>
                <a:cubicBezTo>
                  <a:pt x="11402" y="10520"/>
                  <a:pt x="11167" y="10519"/>
                  <a:pt x="10939" y="10492"/>
                </a:cubicBezTo>
                <a:cubicBezTo>
                  <a:pt x="10748" y="10469"/>
                  <a:pt x="10559" y="10486"/>
                  <a:pt x="10368" y="10468"/>
                </a:cubicBezTo>
                <a:cubicBezTo>
                  <a:pt x="10160" y="10449"/>
                  <a:pt x="9958" y="10443"/>
                  <a:pt x="9748" y="10443"/>
                </a:cubicBezTo>
                <a:cubicBezTo>
                  <a:pt x="9507" y="10443"/>
                  <a:pt x="9212" y="10458"/>
                  <a:pt x="8979" y="10517"/>
                </a:cubicBezTo>
                <a:cubicBezTo>
                  <a:pt x="8785" y="10566"/>
                  <a:pt x="8596" y="10618"/>
                  <a:pt x="8409" y="10691"/>
                </a:cubicBezTo>
                <a:cubicBezTo>
                  <a:pt x="8249" y="10753"/>
                  <a:pt x="8050" y="10834"/>
                  <a:pt x="7913" y="10939"/>
                </a:cubicBezTo>
                <a:cubicBezTo>
                  <a:pt x="7783" y="11039"/>
                  <a:pt x="7661" y="11149"/>
                  <a:pt x="7541" y="11261"/>
                </a:cubicBezTo>
                <a:cubicBezTo>
                  <a:pt x="7438" y="11357"/>
                  <a:pt x="7334" y="11484"/>
                  <a:pt x="7268" y="11609"/>
                </a:cubicBezTo>
                <a:cubicBezTo>
                  <a:pt x="7208" y="11722"/>
                  <a:pt x="7171" y="11839"/>
                  <a:pt x="7144" y="11956"/>
                </a:cubicBezTo>
                <a:cubicBezTo>
                  <a:pt x="7116" y="12079"/>
                  <a:pt x="7115" y="12158"/>
                  <a:pt x="7144" y="12278"/>
                </a:cubicBezTo>
                <a:cubicBezTo>
                  <a:pt x="7184" y="12446"/>
                  <a:pt x="7314" y="12596"/>
                  <a:pt x="7441" y="12700"/>
                </a:cubicBezTo>
                <a:cubicBezTo>
                  <a:pt x="7519" y="12764"/>
                  <a:pt x="7603" y="12814"/>
                  <a:pt x="7689" y="12874"/>
                </a:cubicBezTo>
                <a:cubicBezTo>
                  <a:pt x="7790" y="12945"/>
                  <a:pt x="7896" y="13004"/>
                  <a:pt x="8012" y="13047"/>
                </a:cubicBezTo>
                <a:cubicBezTo>
                  <a:pt x="8122" y="13088"/>
                  <a:pt x="8244" y="13124"/>
                  <a:pt x="8359" y="13146"/>
                </a:cubicBezTo>
                <a:cubicBezTo>
                  <a:pt x="8492" y="13171"/>
                  <a:pt x="8622" y="13180"/>
                  <a:pt x="8756" y="13196"/>
                </a:cubicBezTo>
                <a:cubicBezTo>
                  <a:pt x="8893" y="13212"/>
                  <a:pt x="9041" y="13239"/>
                  <a:pt x="9178" y="13246"/>
                </a:cubicBezTo>
                <a:cubicBezTo>
                  <a:pt x="9325" y="13254"/>
                  <a:pt x="9480" y="13266"/>
                  <a:pt x="9624" y="13271"/>
                </a:cubicBezTo>
                <a:cubicBezTo>
                  <a:pt x="9940" y="13283"/>
                  <a:pt x="10256" y="13259"/>
                  <a:pt x="10567" y="13246"/>
                </a:cubicBezTo>
                <a:cubicBezTo>
                  <a:pt x="10695" y="13241"/>
                  <a:pt x="10815" y="13237"/>
                  <a:pt x="10939" y="13221"/>
                </a:cubicBezTo>
                <a:cubicBezTo>
                  <a:pt x="11055" y="13206"/>
                  <a:pt x="11169" y="13209"/>
                  <a:pt x="11286" y="13196"/>
                </a:cubicBezTo>
                <a:cubicBezTo>
                  <a:pt x="11369" y="13187"/>
                  <a:pt x="11450" y="13184"/>
                  <a:pt x="11534" y="13171"/>
                </a:cubicBezTo>
                <a:cubicBezTo>
                  <a:pt x="11544" y="13169"/>
                  <a:pt x="11662" y="13163"/>
                  <a:pt x="11658" y="13146"/>
                </a:cubicBezTo>
                <a:cubicBezTo>
                  <a:pt x="11657" y="13142"/>
                  <a:pt x="11542" y="13103"/>
                  <a:pt x="11534" y="13097"/>
                </a:cubicBezTo>
              </a:path>
              <a:path w="11536" h="5656">
                <a:moveTo>
                  <a:pt x="9327" y="13271"/>
                </a:moveTo>
                <a:cubicBezTo>
                  <a:pt x="9304" y="13333"/>
                  <a:pt x="9280" y="13406"/>
                  <a:pt x="9252" y="13469"/>
                </a:cubicBezTo>
                <a:cubicBezTo>
                  <a:pt x="9177" y="13634"/>
                  <a:pt x="9120" y="13796"/>
                  <a:pt x="9054" y="13965"/>
                </a:cubicBezTo>
                <a:cubicBezTo>
                  <a:pt x="8954" y="14220"/>
                  <a:pt x="8874" y="14477"/>
                  <a:pt x="8781" y="14734"/>
                </a:cubicBezTo>
                <a:cubicBezTo>
                  <a:pt x="8691" y="14982"/>
                  <a:pt x="8611" y="15227"/>
                  <a:pt x="8533" y="15478"/>
                </a:cubicBezTo>
                <a:cubicBezTo>
                  <a:pt x="8485" y="15634"/>
                  <a:pt x="8427" y="15810"/>
                  <a:pt x="8409" y="15974"/>
                </a:cubicBezTo>
                <a:cubicBezTo>
                  <a:pt x="8403" y="16026"/>
                  <a:pt x="8395" y="16056"/>
                  <a:pt x="8384" y="16098"/>
                </a:cubicBezTo>
                <a:cubicBezTo>
                  <a:pt x="8389" y="16030"/>
                  <a:pt x="8393" y="15994"/>
                  <a:pt x="8409" y="15925"/>
                </a:cubicBezTo>
              </a:path>
              <a:path w="11536" h="5656">
                <a:moveTo>
                  <a:pt x="9847" y="13072"/>
                </a:moveTo>
                <a:cubicBezTo>
                  <a:pt x="9825" y="13157"/>
                  <a:pt x="9823" y="13228"/>
                  <a:pt x="9823" y="13320"/>
                </a:cubicBezTo>
                <a:cubicBezTo>
                  <a:pt x="9823" y="13475"/>
                  <a:pt x="9846" y="13614"/>
                  <a:pt x="9872" y="13767"/>
                </a:cubicBezTo>
                <a:cubicBezTo>
                  <a:pt x="9909" y="13982"/>
                  <a:pt x="9945" y="14200"/>
                  <a:pt x="9996" y="14412"/>
                </a:cubicBezTo>
                <a:cubicBezTo>
                  <a:pt x="10078" y="14755"/>
                  <a:pt x="10205" y="15088"/>
                  <a:pt x="10294" y="15429"/>
                </a:cubicBezTo>
                <a:cubicBezTo>
                  <a:pt x="10333" y="15578"/>
                  <a:pt x="10376" y="15711"/>
                  <a:pt x="10443" y="15850"/>
                </a:cubicBezTo>
                <a:cubicBezTo>
                  <a:pt x="10457" y="15878"/>
                  <a:pt x="10462" y="15997"/>
                  <a:pt x="10517" y="15974"/>
                </a:cubicBezTo>
                <a:cubicBezTo>
                  <a:pt x="10517" y="15958"/>
                  <a:pt x="10517" y="15941"/>
                  <a:pt x="10517" y="15925"/>
                </a:cubicBezTo>
              </a:path>
              <a:path w="11536" h="5656">
                <a:moveTo>
                  <a:pt x="14064" y="12750"/>
                </a:moveTo>
                <a:cubicBezTo>
                  <a:pt x="14057" y="12871"/>
                  <a:pt x="14042" y="12953"/>
                  <a:pt x="14015" y="13072"/>
                </a:cubicBezTo>
                <a:cubicBezTo>
                  <a:pt x="13974" y="13256"/>
                  <a:pt x="13919" y="13436"/>
                  <a:pt x="13866" y="13618"/>
                </a:cubicBezTo>
                <a:cubicBezTo>
                  <a:pt x="13792" y="13874"/>
                  <a:pt x="13727" y="14134"/>
                  <a:pt x="13643" y="14387"/>
                </a:cubicBezTo>
                <a:cubicBezTo>
                  <a:pt x="13560" y="14635"/>
                  <a:pt x="13509" y="14880"/>
                  <a:pt x="13444" y="15131"/>
                </a:cubicBezTo>
                <a:cubicBezTo>
                  <a:pt x="13403" y="15291"/>
                  <a:pt x="13381" y="15443"/>
                  <a:pt x="13345" y="15602"/>
                </a:cubicBezTo>
                <a:cubicBezTo>
                  <a:pt x="13336" y="15644"/>
                  <a:pt x="13278" y="15771"/>
                  <a:pt x="13320" y="15677"/>
                </a:cubicBezTo>
                <a:cubicBezTo>
                  <a:pt x="13328" y="15660"/>
                  <a:pt x="13337" y="15644"/>
                  <a:pt x="13345" y="15627"/>
                </a:cubicBezTo>
              </a:path>
              <a:path w="11536" h="5656">
                <a:moveTo>
                  <a:pt x="14337" y="12576"/>
                </a:moveTo>
                <a:cubicBezTo>
                  <a:pt x="14340" y="12609"/>
                  <a:pt x="14332" y="12593"/>
                  <a:pt x="14337" y="12626"/>
                </a:cubicBezTo>
                <a:cubicBezTo>
                  <a:pt x="14349" y="12700"/>
                  <a:pt x="14363" y="12749"/>
                  <a:pt x="14387" y="12824"/>
                </a:cubicBezTo>
                <a:cubicBezTo>
                  <a:pt x="14427" y="12947"/>
                  <a:pt x="14479" y="13055"/>
                  <a:pt x="14536" y="13171"/>
                </a:cubicBezTo>
                <a:cubicBezTo>
                  <a:pt x="14621" y="13342"/>
                  <a:pt x="14724" y="13488"/>
                  <a:pt x="14833" y="13643"/>
                </a:cubicBezTo>
                <a:cubicBezTo>
                  <a:pt x="14974" y="13844"/>
                  <a:pt x="15100" y="14048"/>
                  <a:pt x="15255" y="14238"/>
                </a:cubicBezTo>
                <a:cubicBezTo>
                  <a:pt x="15427" y="14449"/>
                  <a:pt x="15595" y="14655"/>
                  <a:pt x="15776" y="14858"/>
                </a:cubicBezTo>
                <a:cubicBezTo>
                  <a:pt x="15941" y="15044"/>
                  <a:pt x="16096" y="15228"/>
                  <a:pt x="16272" y="15404"/>
                </a:cubicBezTo>
                <a:cubicBezTo>
                  <a:pt x="16414" y="15546"/>
                  <a:pt x="16570" y="15668"/>
                  <a:pt x="16718" y="15801"/>
                </a:cubicBezTo>
                <a:cubicBezTo>
                  <a:pt x="16805" y="15879"/>
                  <a:pt x="16887" y="15944"/>
                  <a:pt x="16991" y="15999"/>
                </a:cubicBezTo>
                <a:cubicBezTo>
                  <a:pt x="17020" y="16014"/>
                  <a:pt x="17039" y="16011"/>
                  <a:pt x="17066" y="16024"/>
                </a:cubicBezTo>
                <a:cubicBezTo>
                  <a:pt x="17048" y="15989"/>
                  <a:pt x="17036" y="15965"/>
                  <a:pt x="17016" y="15925"/>
                </a:cubicBezTo>
              </a:path>
              <a:path w="11536" h="5656">
                <a:moveTo>
                  <a:pt x="7144" y="12055"/>
                </a:moveTo>
                <a:cubicBezTo>
                  <a:pt x="7155" y="12055"/>
                  <a:pt x="7260" y="12055"/>
                  <a:pt x="7193" y="12055"/>
                </a:cubicBezTo>
                <a:cubicBezTo>
                  <a:pt x="7128" y="12055"/>
                  <a:pt x="7081" y="12054"/>
                  <a:pt x="7020" y="12080"/>
                </a:cubicBezTo>
                <a:cubicBezTo>
                  <a:pt x="6899" y="12132"/>
                  <a:pt x="6762" y="12182"/>
                  <a:pt x="6648" y="12254"/>
                </a:cubicBezTo>
                <a:cubicBezTo>
                  <a:pt x="6507" y="12343"/>
                  <a:pt x="6371" y="12435"/>
                  <a:pt x="6251" y="12551"/>
                </a:cubicBezTo>
                <a:cubicBezTo>
                  <a:pt x="6167" y="12632"/>
                  <a:pt x="6058" y="12731"/>
                  <a:pt x="6028" y="12849"/>
                </a:cubicBezTo>
                <a:cubicBezTo>
                  <a:pt x="6004" y="12941"/>
                  <a:pt x="6044" y="13038"/>
                  <a:pt x="6052" y="13122"/>
                </a:cubicBezTo>
                <a:cubicBezTo>
                  <a:pt x="6058" y="13187"/>
                  <a:pt x="6050" y="13236"/>
                  <a:pt x="6028" y="13295"/>
                </a:cubicBezTo>
                <a:cubicBezTo>
                  <a:pt x="6000" y="13370"/>
                  <a:pt x="5953" y="13444"/>
                  <a:pt x="5904" y="13519"/>
                </a:cubicBezTo>
                <a:cubicBezTo>
                  <a:pt x="5841" y="13614"/>
                  <a:pt x="5770" y="13698"/>
                  <a:pt x="5705" y="13791"/>
                </a:cubicBezTo>
                <a:cubicBezTo>
                  <a:pt x="5653" y="13865"/>
                  <a:pt x="5615" y="13955"/>
                  <a:pt x="5581" y="14039"/>
                </a:cubicBezTo>
                <a:cubicBezTo>
                  <a:pt x="5566" y="14077"/>
                  <a:pt x="5539" y="14146"/>
                  <a:pt x="5531" y="14163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5"/>
          <p:cNvSpPr/>
          <p:nvPr/>
        </p:nvSpPr>
        <p:spPr>
          <a:xfrm>
            <a:off x="527040" y="4286160"/>
            <a:ext cx="561960" cy="554040"/>
          </a:xfrm>
          <a:custGeom>
            <a:avLst/>
            <a:gdLst/>
            <a:ahLst/>
            <a:rect l="l" t="t" r="r" b="b"/>
            <a:pathLst>
              <a:path w="1564" h="1539">
                <a:moveTo>
                  <a:pt x="1786" y="11906"/>
                </a:moveTo>
                <a:cubicBezTo>
                  <a:pt x="1842" y="11925"/>
                  <a:pt x="1800" y="11980"/>
                  <a:pt x="1786" y="12030"/>
                </a:cubicBezTo>
                <a:cubicBezTo>
                  <a:pt x="1745" y="12171"/>
                  <a:pt x="1700" y="12312"/>
                  <a:pt x="1662" y="12452"/>
                </a:cubicBezTo>
                <a:cubicBezTo>
                  <a:pt x="1622" y="12601"/>
                  <a:pt x="1571" y="12735"/>
                  <a:pt x="1513" y="12874"/>
                </a:cubicBezTo>
                <a:cubicBezTo>
                  <a:pt x="1490" y="12930"/>
                  <a:pt x="1463" y="13108"/>
                  <a:pt x="1463" y="13047"/>
                </a:cubicBezTo>
                <a:cubicBezTo>
                  <a:pt x="1463" y="13013"/>
                  <a:pt x="1496" y="12978"/>
                  <a:pt x="1513" y="12948"/>
                </a:cubicBezTo>
              </a:path>
              <a:path w="1564" h="1539">
                <a:moveTo>
                  <a:pt x="1786" y="12725"/>
                </a:moveTo>
                <a:cubicBezTo>
                  <a:pt x="1802" y="12774"/>
                  <a:pt x="1815" y="12734"/>
                  <a:pt x="1860" y="12750"/>
                </a:cubicBezTo>
                <a:cubicBezTo>
                  <a:pt x="1910" y="12767"/>
                  <a:pt x="1978" y="12795"/>
                  <a:pt x="2034" y="12774"/>
                </a:cubicBezTo>
                <a:cubicBezTo>
                  <a:pt x="2081" y="12757"/>
                  <a:pt x="2113" y="12720"/>
                  <a:pt x="2158" y="12700"/>
                </a:cubicBezTo>
                <a:cubicBezTo>
                  <a:pt x="2194" y="12684"/>
                  <a:pt x="2183" y="12673"/>
                  <a:pt x="2183" y="12626"/>
                </a:cubicBezTo>
                <a:cubicBezTo>
                  <a:pt x="2183" y="12563"/>
                  <a:pt x="2131" y="12576"/>
                  <a:pt x="2084" y="12576"/>
                </a:cubicBezTo>
                <a:cubicBezTo>
                  <a:pt x="2021" y="12576"/>
                  <a:pt x="1985" y="12585"/>
                  <a:pt x="1935" y="12626"/>
                </a:cubicBezTo>
                <a:cubicBezTo>
                  <a:pt x="1861" y="12687"/>
                  <a:pt x="1847" y="12765"/>
                  <a:pt x="1811" y="12849"/>
                </a:cubicBezTo>
                <a:cubicBezTo>
                  <a:pt x="1774" y="12934"/>
                  <a:pt x="1783" y="12994"/>
                  <a:pt x="1836" y="13072"/>
                </a:cubicBezTo>
                <a:cubicBezTo>
                  <a:pt x="1873" y="13126"/>
                  <a:pt x="1927" y="13122"/>
                  <a:pt x="1984" y="13122"/>
                </a:cubicBezTo>
                <a:cubicBezTo>
                  <a:pt x="2052" y="13122"/>
                  <a:pt x="2127" y="13086"/>
                  <a:pt x="2183" y="13047"/>
                </a:cubicBezTo>
                <a:cubicBezTo>
                  <a:pt x="2216" y="13014"/>
                  <a:pt x="2232" y="12998"/>
                  <a:pt x="2257" y="12973"/>
                </a:cubicBezTo>
              </a:path>
              <a:path w="1564" h="1539">
                <a:moveTo>
                  <a:pt x="2555" y="12725"/>
                </a:moveTo>
                <a:cubicBezTo>
                  <a:pt x="2546" y="12698"/>
                  <a:pt x="2537" y="12679"/>
                  <a:pt x="2505" y="12675"/>
                </a:cubicBezTo>
                <a:cubicBezTo>
                  <a:pt x="2441" y="12667"/>
                  <a:pt x="2423" y="12683"/>
                  <a:pt x="2381" y="12725"/>
                </a:cubicBezTo>
                <a:cubicBezTo>
                  <a:pt x="2335" y="12771"/>
                  <a:pt x="2332" y="12783"/>
                  <a:pt x="2332" y="12849"/>
                </a:cubicBezTo>
                <a:cubicBezTo>
                  <a:pt x="2332" y="12912"/>
                  <a:pt x="2408" y="12971"/>
                  <a:pt x="2456" y="13022"/>
                </a:cubicBezTo>
                <a:cubicBezTo>
                  <a:pt x="2486" y="13054"/>
                  <a:pt x="2605" y="13161"/>
                  <a:pt x="2555" y="13221"/>
                </a:cubicBezTo>
                <a:cubicBezTo>
                  <a:pt x="2518" y="13265"/>
                  <a:pt x="2458" y="13271"/>
                  <a:pt x="2406" y="13271"/>
                </a:cubicBezTo>
                <a:cubicBezTo>
                  <a:pt x="2365" y="13271"/>
                  <a:pt x="2323" y="13271"/>
                  <a:pt x="2282" y="13271"/>
                </a:cubicBezTo>
              </a:path>
              <a:path w="1564" h="1539">
                <a:moveTo>
                  <a:pt x="3026" y="12898"/>
                </a:moveTo>
                <a:cubicBezTo>
                  <a:pt x="2988" y="12871"/>
                  <a:pt x="2975" y="12874"/>
                  <a:pt x="2927" y="12874"/>
                </a:cubicBezTo>
                <a:cubicBezTo>
                  <a:pt x="2876" y="12874"/>
                  <a:pt x="2832" y="12861"/>
                  <a:pt x="2828" y="12923"/>
                </a:cubicBezTo>
                <a:cubicBezTo>
                  <a:pt x="2823" y="12987"/>
                  <a:pt x="2839" y="13020"/>
                  <a:pt x="2877" y="13072"/>
                </a:cubicBezTo>
                <a:cubicBezTo>
                  <a:pt x="2921" y="13131"/>
                  <a:pt x="2925" y="13187"/>
                  <a:pt x="2952" y="13246"/>
                </a:cubicBezTo>
                <a:cubicBezTo>
                  <a:pt x="2983" y="13312"/>
                  <a:pt x="2972" y="13310"/>
                  <a:pt x="2952" y="13370"/>
                </a:cubicBezTo>
                <a:cubicBezTo>
                  <a:pt x="2936" y="13419"/>
                  <a:pt x="2912" y="13438"/>
                  <a:pt x="2853" y="13444"/>
                </a:cubicBezTo>
                <a:cubicBezTo>
                  <a:pt x="2799" y="13449"/>
                  <a:pt x="2750" y="13449"/>
                  <a:pt x="2704" y="13419"/>
                </a:cubicBezTo>
                <a:cubicBezTo>
                  <a:pt x="2674" y="13399"/>
                  <a:pt x="2639" y="13350"/>
                  <a:pt x="2629" y="13320"/>
                </a:cubicBezTo>
                <a:cubicBezTo>
                  <a:pt x="2629" y="13292"/>
                  <a:pt x="2631" y="13281"/>
                  <a:pt x="2654" y="13271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6"/>
          <p:cNvSpPr/>
          <p:nvPr/>
        </p:nvSpPr>
        <p:spPr>
          <a:xfrm>
            <a:off x="1258920" y="4562640"/>
            <a:ext cx="992160" cy="760320"/>
          </a:xfrm>
          <a:custGeom>
            <a:avLst/>
            <a:gdLst/>
            <a:ahLst/>
            <a:rect l="l" t="t" r="r" b="b"/>
            <a:pathLst>
              <a:path w="2755" h="2110">
                <a:moveTo>
                  <a:pt x="3820" y="13271"/>
                </a:moveTo>
                <a:cubicBezTo>
                  <a:pt x="3808" y="13230"/>
                  <a:pt x="3824" y="13212"/>
                  <a:pt x="3770" y="13196"/>
                </a:cubicBezTo>
                <a:cubicBezTo>
                  <a:pt x="3716" y="13180"/>
                  <a:pt x="3637" y="13192"/>
                  <a:pt x="3597" y="13221"/>
                </a:cubicBezTo>
                <a:cubicBezTo>
                  <a:pt x="3565" y="13245"/>
                  <a:pt x="3506" y="13330"/>
                  <a:pt x="3497" y="13370"/>
                </a:cubicBezTo>
                <a:cubicBezTo>
                  <a:pt x="3481" y="13435"/>
                  <a:pt x="3481" y="13586"/>
                  <a:pt x="3522" y="13643"/>
                </a:cubicBezTo>
                <a:cubicBezTo>
                  <a:pt x="3540" y="13667"/>
                  <a:pt x="3576" y="13719"/>
                  <a:pt x="3621" y="13717"/>
                </a:cubicBezTo>
                <a:cubicBezTo>
                  <a:pt x="3680" y="13714"/>
                  <a:pt x="3736" y="13666"/>
                  <a:pt x="3770" y="13618"/>
                </a:cubicBezTo>
                <a:cubicBezTo>
                  <a:pt x="3832" y="13531"/>
                  <a:pt x="3906" y="13420"/>
                  <a:pt x="3944" y="13320"/>
                </a:cubicBezTo>
                <a:cubicBezTo>
                  <a:pt x="3989" y="13199"/>
                  <a:pt x="4041" y="13089"/>
                  <a:pt x="4093" y="12973"/>
                </a:cubicBezTo>
                <a:cubicBezTo>
                  <a:pt x="4129" y="12893"/>
                  <a:pt x="4141" y="12803"/>
                  <a:pt x="4167" y="12725"/>
                </a:cubicBezTo>
                <a:cubicBezTo>
                  <a:pt x="4176" y="12698"/>
                  <a:pt x="4172" y="12720"/>
                  <a:pt x="4192" y="12700"/>
                </a:cubicBezTo>
                <a:cubicBezTo>
                  <a:pt x="4129" y="12778"/>
                  <a:pt x="4130" y="12857"/>
                  <a:pt x="4093" y="12948"/>
                </a:cubicBezTo>
                <a:cubicBezTo>
                  <a:pt x="4039" y="13081"/>
                  <a:pt x="3974" y="13213"/>
                  <a:pt x="3919" y="13345"/>
                </a:cubicBezTo>
                <a:cubicBezTo>
                  <a:pt x="3875" y="13451"/>
                  <a:pt x="3826" y="13551"/>
                  <a:pt x="3820" y="13667"/>
                </a:cubicBezTo>
                <a:cubicBezTo>
                  <a:pt x="3818" y="13709"/>
                  <a:pt x="3820" y="13784"/>
                  <a:pt x="3820" y="13742"/>
                </a:cubicBezTo>
                <a:cubicBezTo>
                  <a:pt x="3820" y="13734"/>
                  <a:pt x="3820" y="13725"/>
                  <a:pt x="3820" y="13717"/>
                </a:cubicBezTo>
              </a:path>
              <a:path w="2755" h="2110">
                <a:moveTo>
                  <a:pt x="4093" y="13543"/>
                </a:moveTo>
                <a:cubicBezTo>
                  <a:pt x="4067" y="13578"/>
                  <a:pt x="4068" y="13574"/>
                  <a:pt x="4068" y="13618"/>
                </a:cubicBezTo>
                <a:cubicBezTo>
                  <a:pt x="4119" y="13631"/>
                  <a:pt x="4133" y="13667"/>
                  <a:pt x="4192" y="13667"/>
                </a:cubicBezTo>
                <a:cubicBezTo>
                  <a:pt x="4261" y="13667"/>
                  <a:pt x="4268" y="13666"/>
                  <a:pt x="4316" y="13618"/>
                </a:cubicBezTo>
                <a:cubicBezTo>
                  <a:pt x="4339" y="13595"/>
                  <a:pt x="4360" y="13528"/>
                  <a:pt x="4341" y="13494"/>
                </a:cubicBezTo>
                <a:cubicBezTo>
                  <a:pt x="4316" y="13450"/>
                  <a:pt x="4316" y="13444"/>
                  <a:pt x="4266" y="13444"/>
                </a:cubicBezTo>
                <a:cubicBezTo>
                  <a:pt x="4212" y="13444"/>
                  <a:pt x="4167" y="13500"/>
                  <a:pt x="4142" y="13543"/>
                </a:cubicBezTo>
                <a:cubicBezTo>
                  <a:pt x="4105" y="13606"/>
                  <a:pt x="4071" y="13670"/>
                  <a:pt x="4068" y="13742"/>
                </a:cubicBezTo>
                <a:cubicBezTo>
                  <a:pt x="4065" y="13808"/>
                  <a:pt x="4053" y="13890"/>
                  <a:pt x="4093" y="13940"/>
                </a:cubicBezTo>
                <a:cubicBezTo>
                  <a:pt x="4126" y="13981"/>
                  <a:pt x="4142" y="13990"/>
                  <a:pt x="4192" y="13990"/>
                </a:cubicBezTo>
                <a:cubicBezTo>
                  <a:pt x="4269" y="13990"/>
                  <a:pt x="4258" y="13951"/>
                  <a:pt x="4316" y="13915"/>
                </a:cubicBezTo>
                <a:cubicBezTo>
                  <a:pt x="4360" y="13894"/>
                  <a:pt x="4372" y="13891"/>
                  <a:pt x="4390" y="13866"/>
                </a:cubicBezTo>
              </a:path>
              <a:path w="2755" h="2110">
                <a:moveTo>
                  <a:pt x="4862" y="13345"/>
                </a:moveTo>
                <a:cubicBezTo>
                  <a:pt x="4885" y="13322"/>
                  <a:pt x="4893" y="13318"/>
                  <a:pt x="4887" y="13295"/>
                </a:cubicBezTo>
                <a:cubicBezTo>
                  <a:pt x="4875" y="13354"/>
                  <a:pt x="4844" y="13416"/>
                  <a:pt x="4812" y="13469"/>
                </a:cubicBezTo>
                <a:cubicBezTo>
                  <a:pt x="4741" y="13584"/>
                  <a:pt x="4696" y="13700"/>
                  <a:pt x="4638" y="13816"/>
                </a:cubicBezTo>
                <a:cubicBezTo>
                  <a:pt x="4591" y="13910"/>
                  <a:pt x="4545" y="13981"/>
                  <a:pt x="4539" y="14089"/>
                </a:cubicBezTo>
                <a:cubicBezTo>
                  <a:pt x="4536" y="14138"/>
                  <a:pt x="4536" y="14189"/>
                  <a:pt x="4589" y="14213"/>
                </a:cubicBezTo>
                <a:cubicBezTo>
                  <a:pt x="4624" y="14228"/>
                  <a:pt x="4665" y="14208"/>
                  <a:pt x="4688" y="14188"/>
                </a:cubicBezTo>
                <a:cubicBezTo>
                  <a:pt x="4723" y="14157"/>
                  <a:pt x="4752" y="14132"/>
                  <a:pt x="4762" y="14089"/>
                </a:cubicBezTo>
              </a:path>
              <a:path w="2755" h="2110">
                <a:moveTo>
                  <a:pt x="4564" y="13643"/>
                </a:moveTo>
                <a:cubicBezTo>
                  <a:pt x="4598" y="13667"/>
                  <a:pt x="4626" y="13693"/>
                  <a:pt x="4663" y="13717"/>
                </a:cubicBezTo>
                <a:cubicBezTo>
                  <a:pt x="4729" y="13759"/>
                  <a:pt x="4794" y="13768"/>
                  <a:pt x="4862" y="13791"/>
                </a:cubicBezTo>
                <a:cubicBezTo>
                  <a:pt x="4921" y="13811"/>
                  <a:pt x="4947" y="13816"/>
                  <a:pt x="5011" y="13816"/>
                </a:cubicBezTo>
              </a:path>
              <a:path w="2755" h="2110">
                <a:moveTo>
                  <a:pt x="5209" y="13965"/>
                </a:moveTo>
                <a:cubicBezTo>
                  <a:pt x="5209" y="13940"/>
                  <a:pt x="5209" y="13932"/>
                  <a:pt x="5209" y="13915"/>
                </a:cubicBezTo>
                <a:cubicBezTo>
                  <a:pt x="5163" y="13915"/>
                  <a:pt x="5145" y="13909"/>
                  <a:pt x="5110" y="13940"/>
                </a:cubicBezTo>
                <a:cubicBezTo>
                  <a:pt x="5052" y="13991"/>
                  <a:pt x="5010" y="14030"/>
                  <a:pt x="4961" y="14089"/>
                </a:cubicBezTo>
                <a:cubicBezTo>
                  <a:pt x="4904" y="14157"/>
                  <a:pt x="4887" y="14174"/>
                  <a:pt x="4887" y="14263"/>
                </a:cubicBezTo>
                <a:cubicBezTo>
                  <a:pt x="4887" y="14288"/>
                  <a:pt x="4887" y="14296"/>
                  <a:pt x="4887" y="14312"/>
                </a:cubicBezTo>
                <a:cubicBezTo>
                  <a:pt x="4949" y="14312"/>
                  <a:pt x="5005" y="14322"/>
                  <a:pt x="5060" y="14288"/>
                </a:cubicBezTo>
                <a:cubicBezTo>
                  <a:pt x="5111" y="14257"/>
                  <a:pt x="5174" y="14215"/>
                  <a:pt x="5209" y="14163"/>
                </a:cubicBezTo>
                <a:cubicBezTo>
                  <a:pt x="5235" y="14124"/>
                  <a:pt x="5273" y="14081"/>
                  <a:pt x="5283" y="14039"/>
                </a:cubicBezTo>
                <a:cubicBezTo>
                  <a:pt x="5252" y="14061"/>
                  <a:pt x="5260" y="14102"/>
                  <a:pt x="5234" y="14139"/>
                </a:cubicBezTo>
                <a:cubicBezTo>
                  <a:pt x="5201" y="14187"/>
                  <a:pt x="5209" y="14227"/>
                  <a:pt x="5209" y="14288"/>
                </a:cubicBezTo>
                <a:cubicBezTo>
                  <a:pt x="5209" y="14321"/>
                  <a:pt x="5209" y="14354"/>
                  <a:pt x="5209" y="14387"/>
                </a:cubicBezTo>
                <a:cubicBezTo>
                  <a:pt x="5265" y="14387"/>
                  <a:pt x="5283" y="14374"/>
                  <a:pt x="5308" y="14362"/>
                </a:cubicBezTo>
                <a:cubicBezTo>
                  <a:pt x="5316" y="14362"/>
                  <a:pt x="5325" y="14362"/>
                  <a:pt x="5333" y="14362"/>
                </a:cubicBezTo>
              </a:path>
              <a:path w="2755" h="2110">
                <a:moveTo>
                  <a:pt x="5531" y="14238"/>
                </a:moveTo>
                <a:cubicBezTo>
                  <a:pt x="5520" y="14283"/>
                  <a:pt x="5491" y="14303"/>
                  <a:pt x="5457" y="14337"/>
                </a:cubicBezTo>
                <a:cubicBezTo>
                  <a:pt x="5410" y="14384"/>
                  <a:pt x="5388" y="14452"/>
                  <a:pt x="5358" y="14511"/>
                </a:cubicBezTo>
                <a:cubicBezTo>
                  <a:pt x="5338" y="14551"/>
                  <a:pt x="5326" y="14603"/>
                  <a:pt x="5308" y="14635"/>
                </a:cubicBezTo>
                <a:cubicBezTo>
                  <a:pt x="5300" y="14643"/>
                  <a:pt x="5291" y="14652"/>
                  <a:pt x="5283" y="14660"/>
                </a:cubicBezTo>
                <a:cubicBezTo>
                  <a:pt x="5312" y="14621"/>
                  <a:pt x="5333" y="14583"/>
                  <a:pt x="5358" y="14536"/>
                </a:cubicBezTo>
                <a:cubicBezTo>
                  <a:pt x="5366" y="14519"/>
                  <a:pt x="5375" y="14503"/>
                  <a:pt x="5383" y="14486"/>
                </a:cubicBezTo>
              </a:path>
              <a:path w="2755" h="2110">
                <a:moveTo>
                  <a:pt x="5631" y="13891"/>
                </a:moveTo>
                <a:cubicBezTo>
                  <a:pt x="5631" y="13931"/>
                  <a:pt x="5614" y="13985"/>
                  <a:pt x="5655" y="13990"/>
                </a:cubicBezTo>
                <a:cubicBezTo>
                  <a:pt x="5663" y="13990"/>
                  <a:pt x="5672" y="13990"/>
                  <a:pt x="5680" y="13990"/>
                </a:cubicBezTo>
                <a:cubicBezTo>
                  <a:pt x="5670" y="13959"/>
                  <a:pt x="5573" y="13965"/>
                  <a:pt x="5606" y="13965"/>
                </a:cubicBezTo>
                <a:cubicBezTo>
                  <a:pt x="5614" y="13965"/>
                  <a:pt x="5623" y="13965"/>
                  <a:pt x="5631" y="13965"/>
                </a:cubicBezTo>
              </a:path>
              <a:path w="2755" h="2110">
                <a:moveTo>
                  <a:pt x="6251" y="13692"/>
                </a:moveTo>
                <a:cubicBezTo>
                  <a:pt x="6214" y="13729"/>
                  <a:pt x="6206" y="13724"/>
                  <a:pt x="6176" y="13767"/>
                </a:cubicBezTo>
                <a:cubicBezTo>
                  <a:pt x="6113" y="13856"/>
                  <a:pt x="6035" y="13944"/>
                  <a:pt x="5978" y="14039"/>
                </a:cubicBezTo>
                <a:cubicBezTo>
                  <a:pt x="5884" y="14196"/>
                  <a:pt x="5833" y="14375"/>
                  <a:pt x="5755" y="14536"/>
                </a:cubicBezTo>
                <a:cubicBezTo>
                  <a:pt x="5715" y="14620"/>
                  <a:pt x="5692" y="14667"/>
                  <a:pt x="5680" y="14759"/>
                </a:cubicBezTo>
                <a:cubicBezTo>
                  <a:pt x="5673" y="14815"/>
                  <a:pt x="5699" y="14723"/>
                  <a:pt x="5705" y="14709"/>
                </a:cubicBezTo>
                <a:cubicBezTo>
                  <a:pt x="5705" y="14674"/>
                  <a:pt x="5710" y="14657"/>
                  <a:pt x="5730" y="1463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7"/>
          <p:cNvSpPr/>
          <p:nvPr/>
        </p:nvSpPr>
        <p:spPr>
          <a:xfrm>
            <a:off x="6518160" y="2224080"/>
            <a:ext cx="2135160" cy="669960"/>
          </a:xfrm>
          <a:custGeom>
            <a:avLst/>
            <a:gdLst/>
            <a:ahLst/>
            <a:rect l="l" t="t" r="r" b="b"/>
            <a:pathLst>
              <a:path w="5930" h="1862">
                <a:moveTo>
                  <a:pt x="18157" y="6251"/>
                </a:moveTo>
                <a:cubicBezTo>
                  <a:pt x="18118" y="6303"/>
                  <a:pt x="18146" y="6337"/>
                  <a:pt x="18132" y="6400"/>
                </a:cubicBezTo>
                <a:cubicBezTo>
                  <a:pt x="18111" y="6496"/>
                  <a:pt x="18107" y="6572"/>
                  <a:pt x="18107" y="6672"/>
                </a:cubicBezTo>
                <a:cubicBezTo>
                  <a:pt x="18107" y="6750"/>
                  <a:pt x="18107" y="6998"/>
                  <a:pt x="18107" y="6995"/>
                </a:cubicBezTo>
                <a:cubicBezTo>
                  <a:pt x="18107" y="6970"/>
                  <a:pt x="18107" y="6962"/>
                  <a:pt x="18107" y="6945"/>
                </a:cubicBezTo>
              </a:path>
              <a:path w="5930" h="1862">
                <a:moveTo>
                  <a:pt x="18157" y="6375"/>
                </a:moveTo>
                <a:cubicBezTo>
                  <a:pt x="18149" y="6367"/>
                  <a:pt x="18140" y="6358"/>
                  <a:pt x="18132" y="6350"/>
                </a:cubicBezTo>
                <a:cubicBezTo>
                  <a:pt x="18178" y="6350"/>
                  <a:pt x="18191" y="6330"/>
                  <a:pt x="18231" y="6325"/>
                </a:cubicBezTo>
                <a:cubicBezTo>
                  <a:pt x="18365" y="6310"/>
                  <a:pt x="18535" y="6315"/>
                  <a:pt x="18653" y="6350"/>
                </a:cubicBezTo>
                <a:cubicBezTo>
                  <a:pt x="18689" y="6361"/>
                  <a:pt x="18724" y="6365"/>
                  <a:pt x="18728" y="6400"/>
                </a:cubicBezTo>
                <a:cubicBezTo>
                  <a:pt x="18737" y="6467"/>
                  <a:pt x="18714" y="6513"/>
                  <a:pt x="18703" y="6573"/>
                </a:cubicBezTo>
                <a:cubicBezTo>
                  <a:pt x="18691" y="6638"/>
                  <a:pt x="18683" y="6692"/>
                  <a:pt x="18653" y="6747"/>
                </a:cubicBezTo>
                <a:cubicBezTo>
                  <a:pt x="18633" y="6783"/>
                  <a:pt x="18608" y="6834"/>
                  <a:pt x="18604" y="6871"/>
                </a:cubicBezTo>
                <a:cubicBezTo>
                  <a:pt x="18600" y="6909"/>
                  <a:pt x="18591" y="6896"/>
                  <a:pt x="18554" y="6896"/>
                </a:cubicBezTo>
              </a:path>
              <a:path w="5930" h="1862">
                <a:moveTo>
                  <a:pt x="18182" y="6970"/>
                </a:moveTo>
                <a:cubicBezTo>
                  <a:pt x="18157" y="6970"/>
                  <a:pt x="18149" y="6970"/>
                  <a:pt x="18132" y="6970"/>
                </a:cubicBezTo>
                <a:cubicBezTo>
                  <a:pt x="18142" y="6941"/>
                  <a:pt x="18166" y="6925"/>
                  <a:pt x="18207" y="6921"/>
                </a:cubicBezTo>
                <a:cubicBezTo>
                  <a:pt x="18262" y="6915"/>
                  <a:pt x="18296" y="6896"/>
                  <a:pt x="18355" y="6896"/>
                </a:cubicBezTo>
                <a:cubicBezTo>
                  <a:pt x="18424" y="6896"/>
                  <a:pt x="18500" y="6911"/>
                  <a:pt x="18554" y="6871"/>
                </a:cubicBezTo>
              </a:path>
              <a:path w="5930" h="1862">
                <a:moveTo>
                  <a:pt x="18926" y="6201"/>
                </a:moveTo>
                <a:cubicBezTo>
                  <a:pt x="18949" y="6178"/>
                  <a:pt x="18953" y="6170"/>
                  <a:pt x="18976" y="6176"/>
                </a:cubicBezTo>
                <a:cubicBezTo>
                  <a:pt x="18976" y="6440"/>
                  <a:pt x="18961" y="6715"/>
                  <a:pt x="19000" y="6970"/>
                </a:cubicBezTo>
                <a:cubicBezTo>
                  <a:pt x="19004" y="6996"/>
                  <a:pt x="19000" y="7179"/>
                  <a:pt x="19000" y="7119"/>
                </a:cubicBezTo>
                <a:cubicBezTo>
                  <a:pt x="19000" y="7078"/>
                  <a:pt x="19000" y="7036"/>
                  <a:pt x="19000" y="6995"/>
                </a:cubicBezTo>
              </a:path>
              <a:path w="5930" h="1862">
                <a:moveTo>
                  <a:pt x="18951" y="6747"/>
                </a:moveTo>
                <a:cubicBezTo>
                  <a:pt x="19004" y="6747"/>
                  <a:pt x="19031" y="6725"/>
                  <a:pt x="19075" y="6722"/>
                </a:cubicBezTo>
                <a:cubicBezTo>
                  <a:pt x="19157" y="6716"/>
                  <a:pt x="19241" y="6722"/>
                  <a:pt x="19323" y="6722"/>
                </a:cubicBezTo>
              </a:path>
              <a:path w="5930" h="1862">
                <a:moveTo>
                  <a:pt x="18529" y="7367"/>
                </a:moveTo>
                <a:cubicBezTo>
                  <a:pt x="18504" y="7367"/>
                  <a:pt x="18496" y="7367"/>
                  <a:pt x="18479" y="7367"/>
                </a:cubicBezTo>
                <a:cubicBezTo>
                  <a:pt x="18517" y="7354"/>
                  <a:pt x="18500" y="7342"/>
                  <a:pt x="18554" y="7342"/>
                </a:cubicBezTo>
                <a:cubicBezTo>
                  <a:pt x="18605" y="7342"/>
                  <a:pt x="18664" y="7361"/>
                  <a:pt x="18703" y="7392"/>
                </a:cubicBezTo>
                <a:cubicBezTo>
                  <a:pt x="18752" y="7431"/>
                  <a:pt x="18772" y="7456"/>
                  <a:pt x="18777" y="7516"/>
                </a:cubicBezTo>
                <a:cubicBezTo>
                  <a:pt x="18779" y="7538"/>
                  <a:pt x="18706" y="7603"/>
                  <a:pt x="18678" y="7615"/>
                </a:cubicBezTo>
                <a:cubicBezTo>
                  <a:pt x="18644" y="7630"/>
                  <a:pt x="18586" y="7646"/>
                  <a:pt x="18554" y="7665"/>
                </a:cubicBezTo>
                <a:cubicBezTo>
                  <a:pt x="18510" y="7690"/>
                  <a:pt x="18504" y="7719"/>
                  <a:pt x="18504" y="7764"/>
                </a:cubicBezTo>
                <a:cubicBezTo>
                  <a:pt x="18504" y="7810"/>
                  <a:pt x="18498" y="7828"/>
                  <a:pt x="18529" y="7863"/>
                </a:cubicBezTo>
                <a:cubicBezTo>
                  <a:pt x="18557" y="7894"/>
                  <a:pt x="18587" y="7935"/>
                  <a:pt x="18628" y="7938"/>
                </a:cubicBezTo>
                <a:cubicBezTo>
                  <a:pt x="18695" y="7943"/>
                  <a:pt x="18756" y="7977"/>
                  <a:pt x="18827" y="7962"/>
                </a:cubicBezTo>
                <a:cubicBezTo>
                  <a:pt x="18905" y="7946"/>
                  <a:pt x="19001" y="7937"/>
                  <a:pt x="19075" y="7913"/>
                </a:cubicBezTo>
                <a:cubicBezTo>
                  <a:pt x="19120" y="7899"/>
                  <a:pt x="19207" y="7909"/>
                  <a:pt x="19199" y="7863"/>
                </a:cubicBezTo>
                <a:cubicBezTo>
                  <a:pt x="19191" y="7855"/>
                  <a:pt x="19182" y="7846"/>
                  <a:pt x="19174" y="7838"/>
                </a:cubicBezTo>
              </a:path>
              <a:path w="5930" h="1862">
                <a:moveTo>
                  <a:pt x="19769" y="6722"/>
                </a:moveTo>
                <a:cubicBezTo>
                  <a:pt x="19832" y="6659"/>
                  <a:pt x="19756" y="6760"/>
                  <a:pt x="19745" y="6772"/>
                </a:cubicBezTo>
                <a:cubicBezTo>
                  <a:pt x="19689" y="6835"/>
                  <a:pt x="19671" y="6915"/>
                  <a:pt x="19645" y="6995"/>
                </a:cubicBezTo>
                <a:cubicBezTo>
                  <a:pt x="19606" y="7114"/>
                  <a:pt x="19575" y="7216"/>
                  <a:pt x="19571" y="7342"/>
                </a:cubicBezTo>
                <a:cubicBezTo>
                  <a:pt x="19568" y="7462"/>
                  <a:pt x="19600" y="7578"/>
                  <a:pt x="19645" y="7689"/>
                </a:cubicBezTo>
                <a:cubicBezTo>
                  <a:pt x="19665" y="7739"/>
                  <a:pt x="19686" y="7809"/>
                  <a:pt x="19745" y="7813"/>
                </a:cubicBezTo>
                <a:cubicBezTo>
                  <a:pt x="19812" y="7818"/>
                  <a:pt x="19823" y="7809"/>
                  <a:pt x="19869" y="7764"/>
                </a:cubicBezTo>
              </a:path>
              <a:path w="5930" h="1862">
                <a:moveTo>
                  <a:pt x="20290" y="6672"/>
                </a:moveTo>
                <a:cubicBezTo>
                  <a:pt x="20290" y="6601"/>
                  <a:pt x="20290" y="6795"/>
                  <a:pt x="20290" y="6796"/>
                </a:cubicBezTo>
                <a:cubicBezTo>
                  <a:pt x="20290" y="7061"/>
                  <a:pt x="20290" y="7325"/>
                  <a:pt x="20290" y="7590"/>
                </a:cubicBezTo>
                <a:cubicBezTo>
                  <a:pt x="20347" y="7534"/>
                  <a:pt x="20357" y="7491"/>
                  <a:pt x="20389" y="7417"/>
                </a:cubicBezTo>
                <a:cubicBezTo>
                  <a:pt x="20425" y="7332"/>
                  <a:pt x="20474" y="7272"/>
                  <a:pt x="20538" y="7218"/>
                </a:cubicBezTo>
                <a:cubicBezTo>
                  <a:pt x="20599" y="7167"/>
                  <a:pt x="20615" y="7188"/>
                  <a:pt x="20638" y="7243"/>
                </a:cubicBezTo>
                <a:cubicBezTo>
                  <a:pt x="20670" y="7317"/>
                  <a:pt x="20667" y="7369"/>
                  <a:pt x="20687" y="7441"/>
                </a:cubicBezTo>
                <a:cubicBezTo>
                  <a:pt x="20703" y="7499"/>
                  <a:pt x="20731" y="7555"/>
                  <a:pt x="20737" y="7615"/>
                </a:cubicBezTo>
                <a:cubicBezTo>
                  <a:pt x="20742" y="7664"/>
                  <a:pt x="20759" y="7636"/>
                  <a:pt x="20786" y="7615"/>
                </a:cubicBezTo>
              </a:path>
              <a:path w="5930" h="1862">
                <a:moveTo>
                  <a:pt x="21183" y="7094"/>
                </a:moveTo>
                <a:cubicBezTo>
                  <a:pt x="21165" y="7041"/>
                  <a:pt x="21141" y="7087"/>
                  <a:pt x="21109" y="7119"/>
                </a:cubicBezTo>
                <a:cubicBezTo>
                  <a:pt x="21064" y="7164"/>
                  <a:pt x="21033" y="7234"/>
                  <a:pt x="21010" y="7293"/>
                </a:cubicBezTo>
                <a:cubicBezTo>
                  <a:pt x="20982" y="7364"/>
                  <a:pt x="20970" y="7456"/>
                  <a:pt x="21034" y="7516"/>
                </a:cubicBezTo>
                <a:cubicBezTo>
                  <a:pt x="21088" y="7567"/>
                  <a:pt x="21177" y="7541"/>
                  <a:pt x="21233" y="7516"/>
                </a:cubicBezTo>
                <a:cubicBezTo>
                  <a:pt x="21339" y="7468"/>
                  <a:pt x="21332" y="7421"/>
                  <a:pt x="21332" y="7317"/>
                </a:cubicBezTo>
                <a:cubicBezTo>
                  <a:pt x="21332" y="7239"/>
                  <a:pt x="21311" y="7154"/>
                  <a:pt x="21258" y="7094"/>
                </a:cubicBezTo>
                <a:cubicBezTo>
                  <a:pt x="21202" y="7030"/>
                  <a:pt x="21161" y="7045"/>
                  <a:pt x="21084" y="7045"/>
                </a:cubicBezTo>
                <a:cubicBezTo>
                  <a:pt x="21076" y="7045"/>
                  <a:pt x="21067" y="7045"/>
                  <a:pt x="21059" y="7045"/>
                </a:cubicBezTo>
              </a:path>
              <a:path w="5930" h="1862">
                <a:moveTo>
                  <a:pt x="21555" y="6945"/>
                </a:moveTo>
                <a:cubicBezTo>
                  <a:pt x="21515" y="7012"/>
                  <a:pt x="21546" y="7044"/>
                  <a:pt x="21580" y="7119"/>
                </a:cubicBezTo>
                <a:cubicBezTo>
                  <a:pt x="21620" y="7208"/>
                  <a:pt x="21642" y="7302"/>
                  <a:pt x="21679" y="7392"/>
                </a:cubicBezTo>
                <a:cubicBezTo>
                  <a:pt x="21703" y="7440"/>
                  <a:pt x="21712" y="7454"/>
                  <a:pt x="21704" y="7491"/>
                </a:cubicBezTo>
                <a:cubicBezTo>
                  <a:pt x="21704" y="7382"/>
                  <a:pt x="21691" y="7273"/>
                  <a:pt x="21729" y="7169"/>
                </a:cubicBezTo>
                <a:cubicBezTo>
                  <a:pt x="21753" y="7102"/>
                  <a:pt x="21833" y="7015"/>
                  <a:pt x="21903" y="6995"/>
                </a:cubicBezTo>
                <a:cubicBezTo>
                  <a:pt x="21973" y="6975"/>
                  <a:pt x="22038" y="7010"/>
                  <a:pt x="22101" y="7020"/>
                </a:cubicBezTo>
                <a:cubicBezTo>
                  <a:pt x="22142" y="7020"/>
                  <a:pt x="22150" y="7020"/>
                  <a:pt x="22175" y="7020"/>
                </a:cubicBezTo>
              </a:path>
              <a:path w="5930" h="1862">
                <a:moveTo>
                  <a:pt x="22622" y="6921"/>
                </a:moveTo>
                <a:cubicBezTo>
                  <a:pt x="22562" y="6946"/>
                  <a:pt x="22513" y="6965"/>
                  <a:pt x="22448" y="6970"/>
                </a:cubicBezTo>
                <a:cubicBezTo>
                  <a:pt x="22396" y="6974"/>
                  <a:pt x="22355" y="6993"/>
                  <a:pt x="22349" y="7045"/>
                </a:cubicBezTo>
                <a:cubicBezTo>
                  <a:pt x="22343" y="7095"/>
                  <a:pt x="22358" y="7158"/>
                  <a:pt x="22399" y="7193"/>
                </a:cubicBezTo>
                <a:cubicBezTo>
                  <a:pt x="22454" y="7241"/>
                  <a:pt x="22529" y="7277"/>
                  <a:pt x="22572" y="7342"/>
                </a:cubicBezTo>
                <a:cubicBezTo>
                  <a:pt x="22604" y="7391"/>
                  <a:pt x="22619" y="7494"/>
                  <a:pt x="22572" y="7541"/>
                </a:cubicBezTo>
                <a:cubicBezTo>
                  <a:pt x="22530" y="7583"/>
                  <a:pt x="22404" y="7628"/>
                  <a:pt x="22349" y="7640"/>
                </a:cubicBezTo>
                <a:cubicBezTo>
                  <a:pt x="22321" y="7646"/>
                  <a:pt x="22240" y="7689"/>
                  <a:pt x="22225" y="7640"/>
                </a:cubicBezTo>
                <a:cubicBezTo>
                  <a:pt x="22225" y="7595"/>
                  <a:pt x="22222" y="7582"/>
                  <a:pt x="22250" y="7565"/>
                </a:cubicBezTo>
              </a:path>
              <a:path w="5930" h="1862">
                <a:moveTo>
                  <a:pt x="22969" y="7243"/>
                </a:moveTo>
                <a:cubicBezTo>
                  <a:pt x="22939" y="7283"/>
                  <a:pt x="22932" y="7310"/>
                  <a:pt x="22994" y="7317"/>
                </a:cubicBezTo>
                <a:cubicBezTo>
                  <a:pt x="23055" y="7324"/>
                  <a:pt x="23102" y="7342"/>
                  <a:pt x="23168" y="7342"/>
                </a:cubicBezTo>
                <a:cubicBezTo>
                  <a:pt x="23224" y="7342"/>
                  <a:pt x="23299" y="7326"/>
                  <a:pt x="23341" y="7293"/>
                </a:cubicBezTo>
                <a:cubicBezTo>
                  <a:pt x="23382" y="7261"/>
                  <a:pt x="23391" y="7242"/>
                  <a:pt x="23391" y="7193"/>
                </a:cubicBezTo>
                <a:cubicBezTo>
                  <a:pt x="23391" y="7134"/>
                  <a:pt x="23339" y="7122"/>
                  <a:pt x="23292" y="7119"/>
                </a:cubicBezTo>
                <a:cubicBezTo>
                  <a:pt x="23189" y="7113"/>
                  <a:pt x="23127" y="7126"/>
                  <a:pt x="23044" y="7193"/>
                </a:cubicBezTo>
                <a:cubicBezTo>
                  <a:pt x="22973" y="7250"/>
                  <a:pt x="22909" y="7324"/>
                  <a:pt x="22895" y="7417"/>
                </a:cubicBezTo>
                <a:cubicBezTo>
                  <a:pt x="22884" y="7486"/>
                  <a:pt x="22891" y="7612"/>
                  <a:pt x="22944" y="7665"/>
                </a:cubicBezTo>
                <a:cubicBezTo>
                  <a:pt x="23017" y="7738"/>
                  <a:pt x="23120" y="7760"/>
                  <a:pt x="23217" y="7764"/>
                </a:cubicBezTo>
                <a:cubicBezTo>
                  <a:pt x="23316" y="7769"/>
                  <a:pt x="23375" y="7733"/>
                  <a:pt x="23465" y="7714"/>
                </a:cubicBezTo>
                <a:cubicBezTo>
                  <a:pt x="23547" y="7697"/>
                  <a:pt x="23590" y="7658"/>
                  <a:pt x="23639" y="7590"/>
                </a:cubicBezTo>
              </a:path>
              <a:path w="5930" h="1862">
                <a:moveTo>
                  <a:pt x="23713" y="6871"/>
                </a:moveTo>
                <a:cubicBezTo>
                  <a:pt x="23672" y="6871"/>
                  <a:pt x="23733" y="6892"/>
                  <a:pt x="23763" y="6921"/>
                </a:cubicBezTo>
                <a:cubicBezTo>
                  <a:pt x="23825" y="6982"/>
                  <a:pt x="23869" y="7043"/>
                  <a:pt x="23912" y="7119"/>
                </a:cubicBezTo>
                <a:cubicBezTo>
                  <a:pt x="23961" y="7204"/>
                  <a:pt x="24021" y="7292"/>
                  <a:pt x="24036" y="7392"/>
                </a:cubicBezTo>
                <a:cubicBezTo>
                  <a:pt x="24054" y="7512"/>
                  <a:pt x="24057" y="7704"/>
                  <a:pt x="24011" y="7813"/>
                </a:cubicBezTo>
                <a:cubicBezTo>
                  <a:pt x="23985" y="7873"/>
                  <a:pt x="23955" y="7939"/>
                  <a:pt x="23912" y="7987"/>
                </a:cubicBezTo>
                <a:cubicBezTo>
                  <a:pt x="23869" y="8035"/>
                  <a:pt x="23852" y="8037"/>
                  <a:pt x="23788" y="8037"/>
                </a:cubicBezTo>
                <a:cubicBezTo>
                  <a:pt x="23744" y="8037"/>
                  <a:pt x="23748" y="8038"/>
                  <a:pt x="23713" y="8012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8"/>
          <p:cNvSpPr/>
          <p:nvPr/>
        </p:nvSpPr>
        <p:spPr>
          <a:xfrm>
            <a:off x="2919240" y="1919160"/>
            <a:ext cx="804960" cy="349200"/>
          </a:xfrm>
          <a:custGeom>
            <a:avLst/>
            <a:gdLst/>
            <a:ahLst/>
            <a:rect l="l" t="t" r="r" b="b"/>
            <a:pathLst>
              <a:path w="2234" h="968">
                <a:moveTo>
                  <a:pt x="8136" y="5904"/>
                </a:moveTo>
                <a:cubicBezTo>
                  <a:pt x="8115" y="5876"/>
                  <a:pt x="8085" y="5829"/>
                  <a:pt x="8136" y="5804"/>
                </a:cubicBezTo>
                <a:cubicBezTo>
                  <a:pt x="8164" y="5804"/>
                  <a:pt x="8175" y="5802"/>
                  <a:pt x="8186" y="5779"/>
                </a:cubicBezTo>
                <a:cubicBezTo>
                  <a:pt x="8236" y="5830"/>
                  <a:pt x="8242" y="5839"/>
                  <a:pt x="8260" y="5904"/>
                </a:cubicBezTo>
                <a:cubicBezTo>
                  <a:pt x="8284" y="5992"/>
                  <a:pt x="8329" y="6059"/>
                  <a:pt x="8334" y="6152"/>
                </a:cubicBezTo>
                <a:cubicBezTo>
                  <a:pt x="8337" y="6207"/>
                  <a:pt x="8359" y="6245"/>
                  <a:pt x="8359" y="6300"/>
                </a:cubicBezTo>
                <a:cubicBezTo>
                  <a:pt x="8346" y="6238"/>
                  <a:pt x="8334" y="6193"/>
                  <a:pt x="8334" y="6127"/>
                </a:cubicBezTo>
                <a:cubicBezTo>
                  <a:pt x="8334" y="6022"/>
                  <a:pt x="8363" y="5973"/>
                  <a:pt x="8384" y="5879"/>
                </a:cubicBezTo>
                <a:cubicBezTo>
                  <a:pt x="8397" y="5820"/>
                  <a:pt x="8375" y="5819"/>
                  <a:pt x="8434" y="5804"/>
                </a:cubicBezTo>
                <a:cubicBezTo>
                  <a:pt x="8452" y="5816"/>
                  <a:pt x="8498" y="5909"/>
                  <a:pt x="8508" y="5953"/>
                </a:cubicBezTo>
                <a:cubicBezTo>
                  <a:pt x="8523" y="6020"/>
                  <a:pt x="8533" y="6080"/>
                  <a:pt x="8533" y="6152"/>
                </a:cubicBezTo>
                <a:cubicBezTo>
                  <a:pt x="8533" y="6160"/>
                  <a:pt x="8533" y="6168"/>
                  <a:pt x="8533" y="6176"/>
                </a:cubicBezTo>
                <a:cubicBezTo>
                  <a:pt x="8570" y="6116"/>
                  <a:pt x="8540" y="6070"/>
                  <a:pt x="8558" y="6003"/>
                </a:cubicBezTo>
                <a:cubicBezTo>
                  <a:pt x="8579" y="5925"/>
                  <a:pt x="8608" y="5857"/>
                  <a:pt x="8632" y="5779"/>
                </a:cubicBezTo>
                <a:cubicBezTo>
                  <a:pt x="8632" y="5755"/>
                  <a:pt x="8632" y="5747"/>
                  <a:pt x="8657" y="5755"/>
                </a:cubicBezTo>
                <a:cubicBezTo>
                  <a:pt x="8712" y="5768"/>
                  <a:pt x="8729" y="5802"/>
                  <a:pt x="8756" y="5854"/>
                </a:cubicBezTo>
                <a:cubicBezTo>
                  <a:pt x="8789" y="5917"/>
                  <a:pt x="8805" y="5989"/>
                  <a:pt x="8830" y="6052"/>
                </a:cubicBezTo>
                <a:cubicBezTo>
                  <a:pt x="8850" y="6103"/>
                  <a:pt x="8855" y="6103"/>
                  <a:pt x="8855" y="6152"/>
                </a:cubicBezTo>
              </a:path>
              <a:path w="2234" h="968">
                <a:moveTo>
                  <a:pt x="9054" y="5680"/>
                </a:moveTo>
                <a:cubicBezTo>
                  <a:pt x="9054" y="5629"/>
                  <a:pt x="9035" y="5712"/>
                  <a:pt x="9029" y="5730"/>
                </a:cubicBezTo>
                <a:cubicBezTo>
                  <a:pt x="9014" y="5774"/>
                  <a:pt x="9007" y="5832"/>
                  <a:pt x="9004" y="5879"/>
                </a:cubicBezTo>
                <a:cubicBezTo>
                  <a:pt x="9001" y="5929"/>
                  <a:pt x="9037" y="6019"/>
                  <a:pt x="9079" y="6052"/>
                </a:cubicBezTo>
                <a:cubicBezTo>
                  <a:pt x="9117" y="6082"/>
                  <a:pt x="9239" y="6046"/>
                  <a:pt x="9277" y="6028"/>
                </a:cubicBezTo>
                <a:cubicBezTo>
                  <a:pt x="9361" y="5989"/>
                  <a:pt x="9351" y="5937"/>
                  <a:pt x="9351" y="5854"/>
                </a:cubicBezTo>
                <a:cubicBezTo>
                  <a:pt x="9351" y="5790"/>
                  <a:pt x="9354" y="5748"/>
                  <a:pt x="9277" y="5730"/>
                </a:cubicBezTo>
                <a:cubicBezTo>
                  <a:pt x="9221" y="5717"/>
                  <a:pt x="9156" y="5708"/>
                  <a:pt x="9103" y="5705"/>
                </a:cubicBezTo>
                <a:cubicBezTo>
                  <a:pt x="9071" y="5703"/>
                  <a:pt x="9037" y="5705"/>
                  <a:pt x="9004" y="5705"/>
                </a:cubicBezTo>
              </a:path>
              <a:path w="2234" h="968">
                <a:moveTo>
                  <a:pt x="9426" y="5531"/>
                </a:moveTo>
                <a:cubicBezTo>
                  <a:pt x="9455" y="5504"/>
                  <a:pt x="9445" y="5587"/>
                  <a:pt x="9475" y="5631"/>
                </a:cubicBezTo>
                <a:cubicBezTo>
                  <a:pt x="9515" y="5690"/>
                  <a:pt x="9542" y="5762"/>
                  <a:pt x="9575" y="5829"/>
                </a:cubicBezTo>
                <a:cubicBezTo>
                  <a:pt x="9598" y="5875"/>
                  <a:pt x="9599" y="5883"/>
                  <a:pt x="9599" y="5928"/>
                </a:cubicBezTo>
                <a:cubicBezTo>
                  <a:pt x="9591" y="5859"/>
                  <a:pt x="9559" y="5796"/>
                  <a:pt x="9550" y="5730"/>
                </a:cubicBezTo>
                <a:cubicBezTo>
                  <a:pt x="9539" y="5649"/>
                  <a:pt x="9553" y="5574"/>
                  <a:pt x="9599" y="5507"/>
                </a:cubicBezTo>
                <a:cubicBezTo>
                  <a:pt x="9628" y="5465"/>
                  <a:pt x="9652" y="5457"/>
                  <a:pt x="9699" y="5457"/>
                </a:cubicBezTo>
                <a:cubicBezTo>
                  <a:pt x="9723" y="5457"/>
                  <a:pt x="9732" y="5457"/>
                  <a:pt x="9748" y="5457"/>
                </a:cubicBezTo>
              </a:path>
              <a:path w="2234" h="968">
                <a:moveTo>
                  <a:pt x="9847" y="5581"/>
                </a:moveTo>
                <a:cubicBezTo>
                  <a:pt x="9872" y="5630"/>
                  <a:pt x="9900" y="5648"/>
                  <a:pt x="9947" y="5606"/>
                </a:cubicBezTo>
                <a:cubicBezTo>
                  <a:pt x="9995" y="5562"/>
                  <a:pt x="10027" y="5530"/>
                  <a:pt x="10071" y="5482"/>
                </a:cubicBezTo>
                <a:cubicBezTo>
                  <a:pt x="10096" y="5454"/>
                  <a:pt x="10153" y="5406"/>
                  <a:pt x="10120" y="5358"/>
                </a:cubicBezTo>
                <a:cubicBezTo>
                  <a:pt x="10094" y="5320"/>
                  <a:pt x="10050" y="5341"/>
                  <a:pt x="10021" y="5358"/>
                </a:cubicBezTo>
                <a:cubicBezTo>
                  <a:pt x="9948" y="5400"/>
                  <a:pt x="9920" y="5457"/>
                  <a:pt x="9897" y="5531"/>
                </a:cubicBezTo>
                <a:cubicBezTo>
                  <a:pt x="9875" y="5604"/>
                  <a:pt x="9845" y="5691"/>
                  <a:pt x="9897" y="5755"/>
                </a:cubicBezTo>
                <a:cubicBezTo>
                  <a:pt x="9957" y="5828"/>
                  <a:pt x="10033" y="5804"/>
                  <a:pt x="10120" y="5804"/>
                </a:cubicBezTo>
                <a:cubicBezTo>
                  <a:pt x="10213" y="5804"/>
                  <a:pt x="10224" y="5751"/>
                  <a:pt x="10294" y="5705"/>
                </a:cubicBezTo>
                <a:cubicBezTo>
                  <a:pt x="10354" y="5665"/>
                  <a:pt x="10344" y="5673"/>
                  <a:pt x="10344" y="5606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9"/>
          <p:cNvSpPr/>
          <p:nvPr/>
        </p:nvSpPr>
        <p:spPr>
          <a:xfrm>
            <a:off x="3929040" y="1554120"/>
            <a:ext cx="893880" cy="419040"/>
          </a:xfrm>
          <a:custGeom>
            <a:avLst/>
            <a:gdLst/>
            <a:ahLst/>
            <a:rect l="l" t="t" r="r" b="b"/>
            <a:pathLst>
              <a:path w="2482" h="1167">
                <a:moveTo>
                  <a:pt x="11088" y="5159"/>
                </a:moveTo>
                <a:cubicBezTo>
                  <a:pt x="10993" y="5159"/>
                  <a:pt x="11005" y="5169"/>
                  <a:pt x="10939" y="5209"/>
                </a:cubicBezTo>
                <a:cubicBezTo>
                  <a:pt x="10902" y="5232"/>
                  <a:pt x="10914" y="5277"/>
                  <a:pt x="10914" y="5333"/>
                </a:cubicBezTo>
                <a:cubicBezTo>
                  <a:pt x="10914" y="5397"/>
                  <a:pt x="10950" y="5456"/>
                  <a:pt x="11013" y="5482"/>
                </a:cubicBezTo>
                <a:cubicBezTo>
                  <a:pt x="11079" y="5510"/>
                  <a:pt x="11115" y="5460"/>
                  <a:pt x="11137" y="5407"/>
                </a:cubicBezTo>
                <a:cubicBezTo>
                  <a:pt x="11192" y="5273"/>
                  <a:pt x="11187" y="5154"/>
                  <a:pt x="11187" y="5011"/>
                </a:cubicBezTo>
                <a:cubicBezTo>
                  <a:pt x="11187" y="4867"/>
                  <a:pt x="11164" y="4704"/>
                  <a:pt x="11137" y="4564"/>
                </a:cubicBezTo>
                <a:cubicBezTo>
                  <a:pt x="11127" y="4510"/>
                  <a:pt x="11103" y="4403"/>
                  <a:pt x="11063" y="4390"/>
                </a:cubicBezTo>
                <a:cubicBezTo>
                  <a:pt x="11063" y="4550"/>
                  <a:pt x="11054" y="4706"/>
                  <a:pt x="11088" y="4862"/>
                </a:cubicBezTo>
                <a:cubicBezTo>
                  <a:pt x="11113" y="4978"/>
                  <a:pt x="11172" y="5134"/>
                  <a:pt x="11237" y="5234"/>
                </a:cubicBezTo>
                <a:cubicBezTo>
                  <a:pt x="11273" y="5289"/>
                  <a:pt x="11343" y="5354"/>
                  <a:pt x="11410" y="5358"/>
                </a:cubicBezTo>
                <a:cubicBezTo>
                  <a:pt x="11479" y="5363"/>
                  <a:pt x="11485" y="5342"/>
                  <a:pt x="11485" y="5283"/>
                </a:cubicBezTo>
              </a:path>
              <a:path w="2482" h="1167">
                <a:moveTo>
                  <a:pt x="11485" y="5060"/>
                </a:moveTo>
                <a:cubicBezTo>
                  <a:pt x="11477" y="5068"/>
                  <a:pt x="11468" y="5077"/>
                  <a:pt x="11460" y="5085"/>
                </a:cubicBezTo>
                <a:cubicBezTo>
                  <a:pt x="11489" y="5075"/>
                  <a:pt x="11524" y="5043"/>
                  <a:pt x="11559" y="5011"/>
                </a:cubicBezTo>
                <a:cubicBezTo>
                  <a:pt x="11610" y="4966"/>
                  <a:pt x="11609" y="4924"/>
                  <a:pt x="11609" y="4862"/>
                </a:cubicBezTo>
                <a:cubicBezTo>
                  <a:pt x="11609" y="4837"/>
                  <a:pt x="11609" y="4829"/>
                  <a:pt x="11609" y="4812"/>
                </a:cubicBezTo>
                <a:cubicBezTo>
                  <a:pt x="11549" y="4812"/>
                  <a:pt x="11523" y="4848"/>
                  <a:pt x="11509" y="4911"/>
                </a:cubicBezTo>
                <a:cubicBezTo>
                  <a:pt x="11491" y="4992"/>
                  <a:pt x="11504" y="5113"/>
                  <a:pt x="11534" y="5184"/>
                </a:cubicBezTo>
                <a:cubicBezTo>
                  <a:pt x="11566" y="5260"/>
                  <a:pt x="11604" y="5277"/>
                  <a:pt x="11683" y="5283"/>
                </a:cubicBezTo>
                <a:cubicBezTo>
                  <a:pt x="11767" y="5289"/>
                  <a:pt x="11790" y="5210"/>
                  <a:pt x="11832" y="5159"/>
                </a:cubicBezTo>
                <a:cubicBezTo>
                  <a:pt x="11892" y="5087"/>
                  <a:pt x="11917" y="5023"/>
                  <a:pt x="11956" y="4936"/>
                </a:cubicBezTo>
              </a:path>
              <a:path w="2482" h="1167">
                <a:moveTo>
                  <a:pt x="12055" y="4415"/>
                </a:moveTo>
                <a:cubicBezTo>
                  <a:pt x="12047" y="4399"/>
                  <a:pt x="12038" y="4382"/>
                  <a:pt x="12030" y="4366"/>
                </a:cubicBezTo>
                <a:cubicBezTo>
                  <a:pt x="11998" y="4440"/>
                  <a:pt x="12012" y="4509"/>
                  <a:pt x="12030" y="4589"/>
                </a:cubicBezTo>
                <a:cubicBezTo>
                  <a:pt x="12055" y="4701"/>
                  <a:pt x="12090" y="4827"/>
                  <a:pt x="12129" y="4936"/>
                </a:cubicBezTo>
                <a:cubicBezTo>
                  <a:pt x="12148" y="4988"/>
                  <a:pt x="12171" y="5084"/>
                  <a:pt x="12229" y="5110"/>
                </a:cubicBezTo>
                <a:cubicBezTo>
                  <a:pt x="12268" y="5127"/>
                  <a:pt x="12309" y="5089"/>
                  <a:pt x="12328" y="5060"/>
                </a:cubicBezTo>
                <a:cubicBezTo>
                  <a:pt x="12350" y="5026"/>
                  <a:pt x="12370" y="4946"/>
                  <a:pt x="12378" y="4911"/>
                </a:cubicBezTo>
                <a:cubicBezTo>
                  <a:pt x="12389" y="4861"/>
                  <a:pt x="12379" y="4846"/>
                  <a:pt x="12353" y="4812"/>
                </a:cubicBezTo>
              </a:path>
              <a:path w="2482" h="1167">
                <a:moveTo>
                  <a:pt x="11881" y="4787"/>
                </a:moveTo>
                <a:cubicBezTo>
                  <a:pt x="11825" y="4787"/>
                  <a:pt x="11932" y="4769"/>
                  <a:pt x="11956" y="4762"/>
                </a:cubicBezTo>
                <a:cubicBezTo>
                  <a:pt x="12042" y="4737"/>
                  <a:pt x="12121" y="4695"/>
                  <a:pt x="12204" y="4663"/>
                </a:cubicBezTo>
                <a:cubicBezTo>
                  <a:pt x="12278" y="4635"/>
                  <a:pt x="12341" y="4614"/>
                  <a:pt x="12402" y="4564"/>
                </a:cubicBezTo>
              </a:path>
              <a:path w="2482" h="1167">
                <a:moveTo>
                  <a:pt x="12799" y="4564"/>
                </a:moveTo>
                <a:cubicBezTo>
                  <a:pt x="12743" y="4564"/>
                  <a:pt x="12694" y="4553"/>
                  <a:pt x="12650" y="4589"/>
                </a:cubicBezTo>
                <a:cubicBezTo>
                  <a:pt x="12597" y="4632"/>
                  <a:pt x="12580" y="4671"/>
                  <a:pt x="12576" y="4738"/>
                </a:cubicBezTo>
                <a:cubicBezTo>
                  <a:pt x="12571" y="4819"/>
                  <a:pt x="12601" y="4867"/>
                  <a:pt x="12650" y="4911"/>
                </a:cubicBezTo>
                <a:cubicBezTo>
                  <a:pt x="12685" y="4943"/>
                  <a:pt x="12743" y="4956"/>
                  <a:pt x="12774" y="4911"/>
                </a:cubicBezTo>
                <a:cubicBezTo>
                  <a:pt x="12817" y="4849"/>
                  <a:pt x="12839" y="4760"/>
                  <a:pt x="12849" y="4688"/>
                </a:cubicBezTo>
                <a:cubicBezTo>
                  <a:pt x="12857" y="4631"/>
                  <a:pt x="12846" y="4614"/>
                  <a:pt x="12824" y="4564"/>
                </a:cubicBezTo>
                <a:cubicBezTo>
                  <a:pt x="12833" y="4601"/>
                  <a:pt x="12844" y="4682"/>
                  <a:pt x="12874" y="4713"/>
                </a:cubicBezTo>
                <a:cubicBezTo>
                  <a:pt x="12916" y="4755"/>
                  <a:pt x="12969" y="4805"/>
                  <a:pt x="13022" y="4837"/>
                </a:cubicBezTo>
                <a:cubicBezTo>
                  <a:pt x="13094" y="4880"/>
                  <a:pt x="13113" y="4857"/>
                  <a:pt x="13171" y="4837"/>
                </a:cubicBezTo>
                <a:cubicBezTo>
                  <a:pt x="13219" y="4821"/>
                  <a:pt x="13221" y="4815"/>
                  <a:pt x="13221" y="4762"/>
                </a:cubicBezTo>
                <a:cubicBezTo>
                  <a:pt x="13221" y="4746"/>
                  <a:pt x="13221" y="4729"/>
                  <a:pt x="13221" y="4713"/>
                </a:cubicBezTo>
              </a:path>
              <a:path w="2482" h="1167">
                <a:moveTo>
                  <a:pt x="13295" y="4514"/>
                </a:moveTo>
                <a:cubicBezTo>
                  <a:pt x="13295" y="4560"/>
                  <a:pt x="13315" y="4573"/>
                  <a:pt x="13320" y="4614"/>
                </a:cubicBezTo>
                <a:cubicBezTo>
                  <a:pt x="13324" y="4653"/>
                  <a:pt x="13350" y="4709"/>
                  <a:pt x="13370" y="4738"/>
                </a:cubicBezTo>
                <a:cubicBezTo>
                  <a:pt x="13388" y="4764"/>
                  <a:pt x="13395" y="4806"/>
                  <a:pt x="13395" y="4762"/>
                </a:cubicBezTo>
              </a:path>
              <a:path w="2482" h="1167">
                <a:moveTo>
                  <a:pt x="13221" y="4415"/>
                </a:moveTo>
                <a:cubicBezTo>
                  <a:pt x="13198" y="4392"/>
                  <a:pt x="13194" y="4384"/>
                  <a:pt x="13171" y="4390"/>
                </a:cubicBezTo>
                <a:cubicBezTo>
                  <a:pt x="13184" y="4351"/>
                  <a:pt x="13183" y="4380"/>
                  <a:pt x="13196" y="4341"/>
                </a:cubicBezTo>
                <a:cubicBezTo>
                  <a:pt x="13236" y="4328"/>
                  <a:pt x="13206" y="4329"/>
                  <a:pt x="13246" y="4316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0"/>
          <p:cNvSpPr/>
          <p:nvPr/>
        </p:nvSpPr>
        <p:spPr>
          <a:xfrm>
            <a:off x="4884840" y="1411200"/>
            <a:ext cx="152280" cy="347760"/>
          </a:xfrm>
          <a:custGeom>
            <a:avLst/>
            <a:gdLst/>
            <a:ahLst/>
            <a:rect l="l" t="t" r="r" b="b"/>
            <a:pathLst>
              <a:path w="423" h="969">
                <a:moveTo>
                  <a:pt x="13568" y="3944"/>
                </a:moveTo>
                <a:cubicBezTo>
                  <a:pt x="13568" y="3881"/>
                  <a:pt x="13568" y="3998"/>
                  <a:pt x="13568" y="4018"/>
                </a:cubicBezTo>
                <a:cubicBezTo>
                  <a:pt x="13568" y="4116"/>
                  <a:pt x="13591" y="4221"/>
                  <a:pt x="13618" y="4316"/>
                </a:cubicBezTo>
                <a:cubicBezTo>
                  <a:pt x="13652" y="4434"/>
                  <a:pt x="13693" y="4529"/>
                  <a:pt x="13742" y="4638"/>
                </a:cubicBezTo>
                <a:cubicBezTo>
                  <a:pt x="13772" y="4705"/>
                  <a:pt x="13808" y="4812"/>
                  <a:pt x="13866" y="4862"/>
                </a:cubicBezTo>
                <a:cubicBezTo>
                  <a:pt x="13895" y="4888"/>
                  <a:pt x="13967" y="4908"/>
                  <a:pt x="13990" y="4862"/>
                </a:cubicBezTo>
                <a:cubicBezTo>
                  <a:pt x="13990" y="4829"/>
                  <a:pt x="13990" y="4812"/>
                  <a:pt x="13990" y="4787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erceptual importance (cont’)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Mesh Salienc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tail chosen by curvature of are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happen including this concep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higher detail area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lected depth of kd-node incre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re time needed, but more accu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lower detail area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lected depth of kd-node decre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ess time needed, but less accu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t time similar, but net quality incre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chedul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5562720" y="2862720"/>
            <a:ext cx="2819160" cy="26546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654640"/>
              <a:gd name="textAreaBottom" fmla="*/ 2655000 h 265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2" y="0"/>
                </a:lnTo>
                <a:lnTo>
                  <a:pt x="21600" y="10800"/>
                </a:lnTo>
                <a:lnTo>
                  <a:pt x="18222" y="21600"/>
                </a:lnTo>
                <a:lnTo>
                  <a:pt x="0" y="21600"/>
                </a:lnTo>
                <a:lnTo>
                  <a:pt x="3378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RD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200400" y="2862720"/>
            <a:ext cx="2882880" cy="265464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2654640"/>
              <a:gd name="textAreaBottom" fmla="*/ 2655000 h 265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1" y="0"/>
                </a:lnTo>
                <a:lnTo>
                  <a:pt x="21600" y="10800"/>
                </a:lnTo>
                <a:lnTo>
                  <a:pt x="18021" y="21600"/>
                </a:lnTo>
                <a:lnTo>
                  <a:pt x="0" y="21600"/>
                </a:lnTo>
                <a:lnTo>
                  <a:pt x="3579" y="108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838080" y="2862720"/>
            <a:ext cx="2898720" cy="265464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2654640"/>
              <a:gd name="textAreaBottom" fmla="*/ 2655000 h 265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0" y="0"/>
                </a:lnTo>
                <a:lnTo>
                  <a:pt x="21600" y="10800"/>
                </a:lnTo>
                <a:lnTo>
                  <a:pt x="18040" y="21600"/>
                </a:lnTo>
                <a:lnTo>
                  <a:pt x="0" y="21600"/>
                </a:lnTo>
                <a:lnTo>
                  <a:pt x="3560" y="10800"/>
                </a:lnTo>
                <a:close/>
              </a:path>
            </a:pathLst>
          </a:custGeom>
          <a:gradFill rotWithShape="0">
            <a:gsLst>
              <a:gs pos="0">
                <a:srgbClr val="00c000"/>
              </a:gs>
              <a:gs pos="100000">
                <a:srgbClr val="00590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L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066680" y="2013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000"/>
              </a:gs>
              <a:gs pos="100000">
                <a:srgbClr val="00590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3386160" y="2013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5715000" y="2013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이정환</cp:lastModifiedBy>
  <cp:lastPrinted>1998-03-18T16:08:13Z</cp:lastPrinted>
  <dcterms:modified xsi:type="dcterms:W3CDTF">2008-11-12T17:30:30Z</dcterms:modified>
  <cp:revision>1947</cp:revision>
  <dc:subject/>
  <dc:title>Steven F. Ashby Center for Applied Scientific Computing  Month DD, 1997</dc:title>
</cp:coreProperties>
</file>